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6820-88D8-4B4A-B281-D1BC0FEEA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2027-5486-4CA3-83E2-ADB48AC7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5268-0214-43BA-8759-E6F5E4F3C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4986-F8A5-4D48-8499-EEC678D27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86EA-1408-4470-8E9C-C7523ECB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596C-1300-4E5C-AB80-94743734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0A06-90C3-4EB6-98BE-487A1A98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9B8E-851F-449D-B5E9-B439DB39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6D89-7384-4B99-B45B-EC09110B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8C6B-27F9-41BD-B908-C2D82645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2328-61C6-4017-92D7-5EFB61AB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0D3B-7A86-4099-98B5-30547DEC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A3D1-32AA-48AC-B998-5BD4DFFE4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66920" y="2060640"/>
            <a:ext cx="5041800" cy="20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角的计算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med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258920" y="2328840"/>
            <a:ext cx="67057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ln w="9360">
                  <a:solidFill>
                    <a:srgbClr val="cc99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通过今天的学习，</a:t>
            </a:r>
            <a:endParaRPr b="0" lang="en-US" sz="6600" spc="-1" strike="noStrike">
              <a:ln w="9360">
                <a:solidFill>
                  <a:srgbClr val="cc99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ln w="9360">
                  <a:solidFill>
                    <a:srgbClr val="cc99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你学了什么？有什么收获？</a:t>
            </a:r>
            <a:endParaRPr b="0" lang="en-US" sz="6600" spc="-1" strike="noStrike">
              <a:ln w="9360">
                <a:solidFill>
                  <a:srgbClr val="cc99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strips dir="ld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68360" y="1203480"/>
            <a:ext cx="2403360" cy="1793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443400" y="1125360"/>
            <a:ext cx="2496960" cy="1325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732720" y="1125360"/>
            <a:ext cx="1579320" cy="1403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416400" y="3152880"/>
            <a:ext cx="2668320" cy="822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250920" y="3141720"/>
            <a:ext cx="2867040" cy="803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6443640" y="3179880"/>
            <a:ext cx="2590920" cy="6206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 flipV="1" rot="11659800">
            <a:off x="1401840" y="3430080"/>
            <a:ext cx="288720" cy="730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260360" y="1839960"/>
            <a:ext cx="1440000" cy="237492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 rot="14758800">
            <a:off x="1419120" y="3944160"/>
            <a:ext cx="541080" cy="871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258920" y="1623960"/>
            <a:ext cx="433440" cy="259092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60360" y="4214880"/>
            <a:ext cx="3024360" cy="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05080" y="15508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80000" y="42148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42148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79360" y="414324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79360" y="414324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79360" y="414324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79360" y="414324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3640" y="378288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47640" y="299088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4250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练习</a:t>
            </a:r>
            <a:r>
              <a:rPr b="1" lang="en-US" sz="2800" spc="-1" strike="noStrike">
                <a:solidFill>
                  <a:srgbClr val="00336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：已知：∠</a:t>
            </a:r>
            <a:r>
              <a:rPr b="1" lang="en-US" sz="2800" spc="-1" strike="noStrike">
                <a:solidFill>
                  <a:srgbClr val="003366"/>
                </a:solidFill>
                <a:latin typeface="黑体"/>
                <a:ea typeface="黑体"/>
              </a:rPr>
              <a:t>1= 65</a:t>
            </a:r>
            <a:r>
              <a:rPr b="1" lang="zh-CN" sz="2800" spc="-1" strike="noStrike" baseline="50000">
                <a:solidFill>
                  <a:srgbClr val="003366"/>
                </a:solidFill>
                <a:latin typeface="黑体"/>
                <a:ea typeface="黑体"/>
              </a:rPr>
              <a:t>。</a:t>
            </a:r>
            <a:r>
              <a:rPr b="1" lang="en-US" sz="2800" spc="-1" strike="noStrike">
                <a:solidFill>
                  <a:srgbClr val="003366"/>
                </a:solidFill>
                <a:latin typeface="黑体"/>
                <a:ea typeface="黑体"/>
              </a:rPr>
              <a:t>, ∠</a:t>
            </a:r>
            <a:r>
              <a:rPr b="1" lang="en-US" sz="3200" spc="-1" strike="noStrike">
                <a:solidFill>
                  <a:srgbClr val="003366"/>
                </a:solidFill>
                <a:latin typeface="黑体"/>
                <a:ea typeface="黑体"/>
              </a:rPr>
              <a:t>2=15</a:t>
            </a:r>
            <a:r>
              <a:rPr b="1" lang="zh-CN" sz="2800" spc="-1" strike="noStrike" baseline="50000">
                <a:solidFill>
                  <a:srgbClr val="003366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求： ∠</a:t>
            </a:r>
            <a:r>
              <a:rPr b="1" lang="en-US" sz="2800" spc="-1" strike="noStrike">
                <a:solidFill>
                  <a:srgbClr val="003366"/>
                </a:solidFill>
                <a:latin typeface="黑体"/>
                <a:ea typeface="黑体"/>
              </a:rPr>
              <a:t>COD=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1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1"/>
                            </p:stCondLst>
                            <p:childTnLst>
                              <p:par>
                                <p:cTn id="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501"/>
                            </p:stCondLst>
                            <p:childTnLst>
                              <p:par>
                                <p:cTn id="8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6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244000" y="4508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422100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1440" y="549360"/>
            <a:ext cx="8351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练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平角，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=70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求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=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971280" y="4290840"/>
            <a:ext cx="3670200" cy="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436360" y="38354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642920" y="4292640"/>
            <a:ext cx="3673800" cy="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1989000"/>
            <a:ext cx="1365120" cy="230184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924360" y="37638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71640" y="4365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00720" y="429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 rot="6841200">
            <a:off x="4118760" y="4055400"/>
            <a:ext cx="401760" cy="712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 rot="12780600">
            <a:off x="3994560" y="3860280"/>
            <a:ext cx="1440000" cy="541440"/>
          </a:xfrm>
          <a:prstGeom prst="blockArc">
            <a:avLst>
              <a:gd name="adj1" fmla="val 12959830"/>
              <a:gd name="adj2" fmla="val 19440170"/>
              <a:gd name="adj3" fmla="val 5444"/>
            </a:avLst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00360" y="1773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"/>
                            </p:stCondLst>
                            <p:childTnLst>
                              <p:par>
                                <p:cTn id="10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1"/>
                            </p:stCondLst>
                            <p:childTnLst>
                              <p:par>
                                <p:cTn id="1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1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V="1" rot="3963600">
            <a:off x="2212920" y="4131720"/>
            <a:ext cx="323640" cy="698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 rot="14758800">
            <a:off x="3339000" y="3868560"/>
            <a:ext cx="230040" cy="698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3080" y="4003560"/>
            <a:ext cx="4103640" cy="180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16360" y="393372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1186920" y="2997360"/>
            <a:ext cx="3527640" cy="208728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64000" y="36450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56000" y="32130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549360"/>
            <a:ext cx="91440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例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已知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直线相交，得到的角分别为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如果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=30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别为多少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 rot="9804600">
            <a:off x="2409840" y="3788280"/>
            <a:ext cx="1079640" cy="288720"/>
          </a:xfrm>
          <a:prstGeom prst="blockArc">
            <a:avLst>
              <a:gd name="adj1" fmla="val 12959830"/>
              <a:gd name="adj2" fmla="val 19440170"/>
              <a:gd name="adj3" fmla="val 5444"/>
            </a:avLst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 rot="20355000">
            <a:off x="2410200" y="4004280"/>
            <a:ext cx="1079640" cy="288720"/>
          </a:xfrm>
          <a:prstGeom prst="blockArc">
            <a:avLst>
              <a:gd name="adj1" fmla="val 12959830"/>
              <a:gd name="adj2" fmla="val 19440170"/>
              <a:gd name="adj3" fmla="val 5444"/>
            </a:avLst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87640" y="429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63640" y="40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31680" y="2489400"/>
            <a:ext cx="428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：因为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+∠2=180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　　所以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=180º-30º=150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因为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+∠3=180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　　所以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=180º-150º=30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因为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+∠4=180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　　所以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=180º-30º=150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1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1"/>
                            </p:stCondLst>
                            <p:childTnLst>
                              <p:par>
                                <p:cTn id="1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501"/>
                            </p:stCondLst>
                            <p:childTnLst>
                              <p:par>
                                <p:cTn id="15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95280" y="692280"/>
            <a:ext cx="8424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=127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还相等吗？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2924280"/>
            <a:ext cx="3095640" cy="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042560" y="2133720"/>
            <a:ext cx="2305080" cy="165564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95640" y="28526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 rot="9804600">
            <a:off x="1617840" y="2707200"/>
            <a:ext cx="1079640" cy="288720"/>
          </a:xfrm>
          <a:prstGeom prst="blockArc">
            <a:avLst>
              <a:gd name="adj1" fmla="val 12959830"/>
              <a:gd name="adj2" fmla="val 19440170"/>
              <a:gd name="adj3" fmla="val 5444"/>
            </a:avLst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 rot="20355000">
            <a:off x="1692000" y="2924280"/>
            <a:ext cx="1079280" cy="288720"/>
          </a:xfrm>
          <a:prstGeom prst="blockArc">
            <a:avLst>
              <a:gd name="adj1" fmla="val 12959830"/>
              <a:gd name="adj2" fmla="val 19440170"/>
              <a:gd name="adj3" fmla="val 5444"/>
            </a:avLst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 rot="3963600">
            <a:off x="1565280" y="3050640"/>
            <a:ext cx="323640" cy="698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 rot="14758800">
            <a:off x="2546640" y="2787480"/>
            <a:ext cx="230040" cy="698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8000" y="23493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71640" y="25653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58920" y="29973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95640" y="321300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31200" y="467892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那么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=155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否相等？这里究竟有什么秘密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1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501"/>
                            </p:stCondLst>
                            <p:childTnLst>
                              <p:par>
                                <p:cTn id="2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501"/>
                            </p:stCondLst>
                            <p:childTnLst>
                              <p:par>
                                <p:cTn id="2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501"/>
                            </p:stCondLst>
                            <p:childTnLst>
                              <p:par>
                                <p:cTn id="2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501"/>
                            </p:stCondLst>
                            <p:childTnLst>
                              <p:par>
                                <p:cTn id="2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95280" y="404640"/>
            <a:ext cx="842472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１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出下图中哪些角是相等的？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2924280"/>
            <a:ext cx="3095640" cy="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042560" y="2133720"/>
            <a:ext cx="2305080" cy="165564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8000" y="23493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653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95640" y="321300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58920" y="29973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 rot="20355000">
            <a:off x="1692000" y="2924280"/>
            <a:ext cx="1079280" cy="288720"/>
          </a:xfrm>
          <a:prstGeom prst="blockArc">
            <a:avLst>
              <a:gd name="adj1" fmla="val 12959830"/>
              <a:gd name="adj2" fmla="val 19440170"/>
              <a:gd name="adj3" fmla="val 5444"/>
            </a:avLst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 rot="3963600">
            <a:off x="1565280" y="3050640"/>
            <a:ext cx="323640" cy="698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 rot="9804600">
            <a:off x="1617840" y="2707200"/>
            <a:ext cx="1079640" cy="288720"/>
          </a:xfrm>
          <a:prstGeom prst="blockArc">
            <a:avLst>
              <a:gd name="adj1" fmla="val 12959830"/>
              <a:gd name="adj2" fmla="val 19440170"/>
              <a:gd name="adj3" fmla="val 5444"/>
            </a:avLst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 rot="14758800">
            <a:off x="2546640" y="2787480"/>
            <a:ext cx="230040" cy="698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3288200">
            <a:off x="2195280" y="28526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500"/>
                            </p:stCondLst>
                            <p:childTnLst>
                              <p:par>
                                <p:cTn id="2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500"/>
                            </p:stCondLst>
                            <p:childTnLst>
                              <p:par>
                                <p:cTn id="27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9000"/>
                            </p:stCondLst>
                            <p:childTnLst>
                              <p:par>
                                <p:cTn id="2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1"/>
                            </p:stCondLst>
                            <p:childTnLst>
                              <p:par>
                                <p:cTn id="2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501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4596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２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图，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=∠5=60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求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955800" y="2427120"/>
            <a:ext cx="1019880" cy="332748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rot="21424800">
            <a:off x="1618920" y="458100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rot="21408000">
            <a:off x="2194920" y="2636640"/>
            <a:ext cx="5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78680" y="247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巩固练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3640" y="5013360"/>
            <a:ext cx="2592360" cy="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2280" y="3083400"/>
            <a:ext cx="2683080" cy="1152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32000" y="2852640"/>
            <a:ext cx="863640" cy="5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4724280"/>
            <a:ext cx="10080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rot="21408000">
            <a:off x="1042200" y="2636640"/>
            <a:ext cx="5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rot="21408000">
            <a:off x="899280" y="3284280"/>
            <a:ext cx="5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rot="21408000">
            <a:off x="1907280" y="3357720"/>
            <a:ext cx="4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rot="21408000">
            <a:off x="610560" y="4436640"/>
            <a:ext cx="5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rot="21408000">
            <a:off x="1618560" y="5300280"/>
            <a:ext cx="5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rot="21408000">
            <a:off x="467640" y="5229000"/>
            <a:ext cx="5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2"/>
                            </p:stCondLst>
                            <p:childTnLst>
                              <p:par>
                                <p:cTn id="3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1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3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4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5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5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7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258920" y="2328840"/>
            <a:ext cx="67057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ln w="9360">
                  <a:solidFill>
                    <a:srgbClr val="cc99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作业设计：练习册</a:t>
            </a:r>
            <a:endParaRPr b="0" lang="en-US" sz="6600" spc="-1" strike="noStrike">
              <a:ln w="9360">
                <a:solidFill>
                  <a:srgbClr val="cc99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strips dir="ld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11:51:52Z</dcterms:created>
  <dc:creator>wh</dc:creator>
  <dc:description/>
  <dc:language>en-US</dc:language>
  <cp:lastModifiedBy>番茄花园</cp:lastModifiedBy>
  <cp:lastPrinted>1899-12-30T00:00:00Z</cp:lastPrinted>
  <dcterms:modified xsi:type="dcterms:W3CDTF">2008-12-18T23:07:36Z</dcterms:modified>
  <cp:revision>4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