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849-D148-4ABD-91E3-793E4CB7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4EB-49B8-4ECA-A8E6-04640D9F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2ED-753C-4E1B-BF98-35B4676A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209-D3B1-4D41-BFC7-F75D2C53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017-2652-4A29-91C4-A958D514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083-8C2D-491D-8012-DB43674A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BB5-071E-4FFB-BED3-A50F54ED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611-4B0F-4450-AFCD-1D0952E0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7D9-3365-4360-9349-AD12C8DB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8FD-3A56-4BE9-B61B-73C5885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341-6687-4089-8A8B-AC32CCB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D9B-CA37-488D-825A-84434CC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CEBC-6F50-4DA9-8A30-0ABF0A67D9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&#29399;2.WAV" TargetMode="External"/><Relationship Id="rId3" Type="http://schemas.microsoft.com/office/2007/relationships/media" Target="file:///tmp/home/.config/libreoffice/4/user/gallery/&#29399;2.WAV" TargetMode="External"/><Relationship Id="rId4" Type="http://schemas.openxmlformats.org/officeDocument/2006/relationships/image" Target="../media/image10.png"/><Relationship Id="rId5" Type="http://schemas.openxmlformats.org/officeDocument/2006/relationships/audio" Target="file:///tmp/home/.config/libreoffice/4/user/gallery/&#29483;2.WAV" TargetMode="External"/><Relationship Id="rId6" Type="http://schemas.microsoft.com/office/2007/relationships/media" Target="file:///tmp/home/.config/libreoffice/4/user/gallery/&#29483;2.WAV" TargetMode="External"/><Relationship Id="rId7" Type="http://schemas.openxmlformats.org/officeDocument/2006/relationships/image" Target="../media/image10.png"/><Relationship Id="rId8" Type="http://schemas.openxmlformats.org/officeDocument/2006/relationships/audio" Target="file:///tmp/home/.config/libreoffice/4/user/gallery/&#35937;.WAV" TargetMode="External"/><Relationship Id="rId9" Type="http://schemas.microsoft.com/office/2007/relationships/media" Target="file:///tmp/home/.config/libreoffice/4/user/gallery/&#35937;.WAV" TargetMode="External"/><Relationship Id="rId10" Type="http://schemas.openxmlformats.org/officeDocument/2006/relationships/image" Target="../media/image10.png"/><Relationship Id="rId11" Type="http://schemas.openxmlformats.org/officeDocument/2006/relationships/audio" Target="file:///tmp/home/.config/libreoffice/4/user/gallery/&#34382;.WAV" TargetMode="External"/><Relationship Id="rId12" Type="http://schemas.microsoft.com/office/2007/relationships/media" Target="file:///tmp/home/.config/libreoffice/4/user/gallery/&#34382;.WAV" TargetMode="External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audio" Target="file:///tmp/home/.config/libreoffice/4/user/gallery/a%20zoo.wav" TargetMode="External"/><Relationship Id="rId16" Type="http://schemas.microsoft.com/office/2007/relationships/media" Target="file:///tmp/home/.config/libreoffice/4/user/gallery/a%20zoo.wav" TargetMode="External"/><Relationship Id="rId17" Type="http://schemas.openxmlformats.org/officeDocument/2006/relationships/image" Target="../media/image10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6880" y="1339920"/>
            <a:ext cx="403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Unit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01608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Let’s go to the pa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44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1623960" cy="2253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142416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934320" y="4114800"/>
            <a:ext cx="1536480" cy="1041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410080" y="3733920"/>
            <a:ext cx="4038840" cy="238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209680" y="4290840"/>
            <a:ext cx="1676520" cy="129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22860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par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4991040" cy="306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35053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pa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5486400"/>
            <a:ext cx="8076600" cy="916920"/>
            <a:chOff x="533520" y="5486400"/>
            <a:chExt cx="8076600" cy="916920"/>
          </a:xfrm>
        </p:grpSpPr>
        <p:sp>
          <p:nvSpPr>
            <p:cNvPr id="54" name=""/>
            <p:cNvSpPr/>
            <p:nvPr/>
          </p:nvSpPr>
          <p:spPr>
            <a:xfrm>
              <a:off x="533520" y="5576760"/>
              <a:ext cx="198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K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6160" y="5486400"/>
              <a:ext cx="358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99"/>
                  </a:solidFill>
                  <a:latin typeface="Arial"/>
                </a:rPr>
                <a:t>/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ll right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19360" y="5486400"/>
              <a:ext cx="274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99"/>
                  </a:solidFill>
                  <a:latin typeface="Arial"/>
                </a:rPr>
                <a:t>/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Good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6760" y="5486400"/>
              <a:ext cx="213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724280" y="356544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3565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go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812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Let’s             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6483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7242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让我们去公园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343400" y="1523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3200400" y="2362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648320" y="3886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2286000" y="6095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487692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15"/>
            <p:extLst>
              <p:ext uri="{DAA4B4D4-6D71-4841-9C94-3DE7FCFB9230}">
                <p14:media r:link="rId16"/>
              </p:ext>
            </p:extLst>
          </p:nvPr>
        </p:nvPicPr>
        <p:blipFill>
          <a:blip r:embed="rId17"/>
          <a:stretch>
            <a:fillRect/>
          </a:stretch>
        </p:blipFill>
        <p:spPr>
          <a:xfrm>
            <a:off x="6477120" y="64008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3962520" y="152280"/>
            <a:ext cx="1765080" cy="1333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9"/>
          <a:stretch/>
        </p:blipFill>
        <p:spPr>
          <a:xfrm>
            <a:off x="2590920" y="685800"/>
            <a:ext cx="138888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0"/>
          <a:stretch/>
        </p:blipFill>
        <p:spPr>
          <a:xfrm>
            <a:off x="1498680" y="4178160"/>
            <a:ext cx="1778040" cy="168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1"/>
          <a:stretch/>
        </p:blipFill>
        <p:spPr>
          <a:xfrm>
            <a:off x="5715000" y="4495680"/>
            <a:ext cx="17780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2"/>
          <a:stretch/>
        </p:blipFill>
        <p:spPr>
          <a:xfrm>
            <a:off x="3809880" y="4343400"/>
            <a:ext cx="145260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3"/>
          <a:stretch/>
        </p:blipFill>
        <p:spPr>
          <a:xfrm>
            <a:off x="4191120" y="1981080"/>
            <a:ext cx="1253880" cy="1625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943600" y="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zo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5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  <p:seq>
              <p:cTn id="12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93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  <p:seq>
              <p:cTn id="13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94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  <p:seq>
              <p:cTn id="13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59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  <p:seq>
              <p:cTn id="14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237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259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5867280" cy="3597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24480" y="40384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o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02264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et’s go to the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3520" y="5257800"/>
            <a:ext cx="8076600" cy="916920"/>
            <a:chOff x="533520" y="5257800"/>
            <a:chExt cx="8076600" cy="916920"/>
          </a:xfrm>
        </p:grpSpPr>
        <p:sp>
          <p:nvSpPr>
            <p:cNvPr id="81" name=""/>
            <p:cNvSpPr/>
            <p:nvPr/>
          </p:nvSpPr>
          <p:spPr>
            <a:xfrm>
              <a:off x="533520" y="5348160"/>
              <a:ext cx="198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K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160" y="5257800"/>
              <a:ext cx="358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99"/>
                  </a:solidFill>
                  <a:latin typeface="Arial"/>
                </a:rPr>
                <a:t>/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ll right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360" y="5257800"/>
              <a:ext cx="274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99"/>
                  </a:solidFill>
                  <a:latin typeface="Arial"/>
                </a:rPr>
                <a:t>/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Good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76760" y="5257800"/>
              <a:ext cx="213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562720" y="40384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294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09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434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19520" y="44640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 cin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44640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4640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446400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911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07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086600" cy="4346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41148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et’s go to the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inema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5257800"/>
            <a:ext cx="8076600" cy="916920"/>
            <a:chOff x="533520" y="5257800"/>
            <a:chExt cx="8076600" cy="916920"/>
          </a:xfrm>
        </p:grpSpPr>
        <p:sp>
          <p:nvSpPr>
            <p:cNvPr id="96" name=""/>
            <p:cNvSpPr/>
            <p:nvPr/>
          </p:nvSpPr>
          <p:spPr>
            <a:xfrm>
              <a:off x="533520" y="5348160"/>
              <a:ext cx="198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K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76160" y="5257800"/>
              <a:ext cx="358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99"/>
                  </a:solidFill>
                  <a:latin typeface="Arial"/>
                </a:rPr>
                <a:t>/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ll right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9360" y="5257800"/>
              <a:ext cx="274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99"/>
                  </a:solidFill>
                  <a:latin typeface="Arial"/>
                </a:rPr>
                <a:t>/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Good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76760" y="5257800"/>
              <a:ext cx="213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HOST</cp:lastModifiedBy>
  <dcterms:modified xsi:type="dcterms:W3CDTF">2013-06-08T06:00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