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2F5-1D80-4BF1-8467-5D55D750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552-A538-4D49-94F7-4E88C269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F48-FFC5-443B-986F-0AF63226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7FA-4BFA-4072-8713-32850E44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543-E858-482A-B94D-239492CC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0F6-62CF-4EEF-8B76-A6DCCC57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770E-CB8D-4E7C-B3D3-B81F53F4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884-8407-4CD8-9864-5CD7AC8C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1A63-C7B7-4F42-A868-F8678844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838-B0E6-486D-A9CF-AAC7ECC3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8E1-F5D2-4A1F-ADDC-1202624F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310-3AA1-4EA5-96BF-E2FBA0C2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D7CE-E4A4-4F56-89D4-1F438078CB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590920"/>
            <a:ext cx="6858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Unit 1 I don't like meat.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19320" y="6094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外研版（一起）一年级英语下册课件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01812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047760" cy="2540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 you like…?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es, I do./ No, I do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0" t="7937" r="0" b="0"/>
          <a:stretch/>
        </p:blipFill>
        <p:spPr>
          <a:xfrm>
            <a:off x="0" y="4648320"/>
            <a:ext cx="289548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867280" y="441972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886440" y="0"/>
            <a:ext cx="2257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 you like……?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es, I do./ No, I do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1957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19720" y="30492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28600" y="4267080"/>
            <a:ext cx="3098880" cy="2059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657600" y="4267080"/>
            <a:ext cx="167652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562720" y="4114800"/>
            <a:ext cx="2895480" cy="2155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rcRect l="0" t="7998" r="18482" b="0"/>
          <a:stretch/>
        </p:blipFill>
        <p:spPr>
          <a:xfrm>
            <a:off x="2362320" y="304920"/>
            <a:ext cx="2057400" cy="2000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7010280" y="304920"/>
            <a:ext cx="21337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2666880"/>
          <a:ext cx="7238880" cy="3395880"/>
        </p:xfrm>
        <a:graphic>
          <a:graphicData uri="http://schemas.openxmlformats.org/drawingml/2006/table">
            <a:tbl>
              <a:tblPr/>
              <a:tblGrid>
                <a:gridCol w="1206360"/>
                <a:gridCol w="1206720"/>
                <a:gridCol w="1206360"/>
                <a:gridCol w="1206720"/>
                <a:gridCol w="1206360"/>
                <a:gridCol w="120636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 name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od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914400" y="2666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omework: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Make surveys in group: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o you like…?  Yes, I do./No, I do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3276720"/>
            <a:ext cx="457200" cy="457200"/>
          </a:xfrm>
          <a:prstGeom prst="smileyFace">
            <a:avLst>
              <a:gd name="adj" fmla="val -4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alk about your family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380880"/>
            <a:ext cx="7010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Homework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2971800"/>
          <a:ext cx="7924680" cy="3581280"/>
        </p:xfrm>
        <a:graphic>
          <a:graphicData uri="http://schemas.openxmlformats.org/drawingml/2006/table">
            <a:tbl>
              <a:tblPr/>
              <a:tblGrid>
                <a:gridCol w="1320840"/>
                <a:gridCol w="1320480"/>
                <a:gridCol w="1124280"/>
                <a:gridCol w="1517400"/>
                <a:gridCol w="1320840"/>
                <a:gridCol w="1320840"/>
              </a:tblGrid>
              <a:tr h="96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k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od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h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h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th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533520" y="297180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43000" y="1295280"/>
            <a:ext cx="6858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Thank you</a:t>
            </a: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！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457560" y="0"/>
            <a:ext cx="9906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Let’s say the cha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Comic Sans MS"/>
              </a:rPr>
              <a:t>I like coff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Comic Sans MS"/>
              </a:rPr>
              <a:t>I like t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Comic Sans MS"/>
              </a:rPr>
              <a:t>I like cats and they like me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Comic Sans MS"/>
              </a:rPr>
              <a:t>I like coff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Comic Sans MS"/>
              </a:rPr>
              <a:t>I like t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Comic Sans MS"/>
              </a:rPr>
              <a:t>I don’t like  lions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Comic Sans MS"/>
              </a:rPr>
              <a:t>they don’t like me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Comic Sans MS"/>
              </a:rPr>
              <a:t>i</a:t>
            </a: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4314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4864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Comic Sans MS"/>
              </a:rPr>
              <a:t>oo</a:t>
            </a: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dl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7169" r="0" b="0"/>
          <a:stretch/>
        </p:blipFill>
        <p:spPr>
          <a:xfrm>
            <a:off x="990720" y="609480"/>
            <a:ext cx="708660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5486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Comic Sans MS"/>
              </a:rPr>
              <a:t>i</a:t>
            </a: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5790960" cy="3902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162920" y="601812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43600" y="26665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Comic Sans MS"/>
              </a:rPr>
              <a:t>ea</a:t>
            </a: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867280" y="28191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9600" spc="-1" strike="noStrike" u="sng">
                <a:solidFill>
                  <a:srgbClr val="ff0000"/>
                </a:solidFill>
                <a:uFillTx/>
                <a:latin typeface="Comic Sans MS"/>
              </a:rPr>
              <a:t>i</a:t>
            </a:r>
            <a:r>
              <a:rPr b="1" lang="en-US" sz="9600" spc="-1" strike="noStrike">
                <a:solidFill>
                  <a:srgbClr val="ff0000"/>
                </a:solidFill>
                <a:latin typeface="Comic Sans MS"/>
              </a:rPr>
              <a:t>l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367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Cha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Do you like 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rice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Comic Sans MS"/>
              </a:rPr>
              <a:t>yes, I do. yes, I do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Do you like 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meat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3333cc"/>
                </a:solidFill>
                <a:latin typeface="Comic Sans MS"/>
              </a:rPr>
              <a:t>No, I don’t. No, I don’t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Do you like 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noodles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3333cc"/>
                </a:solidFill>
                <a:latin typeface="Comic Sans MS"/>
              </a:rPr>
              <a:t>yes, I do. yes, I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Do you like 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</a:rPr>
              <a:t>fish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Comic Sans MS"/>
              </a:rPr>
              <a:t>No, I don’t. No, I don’t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600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行楷"/>
              </a:rPr>
              <a:t>What does Lingling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行楷"/>
              </a:rPr>
              <a:t>What does Sam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行楷"/>
              </a:rPr>
              <a:t>What does Amy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华文行楷"/>
              </a:rPr>
              <a:t>What does Tom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3720" y="0"/>
            <a:ext cx="37335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Question: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dz</cp:lastModifiedBy>
  <dcterms:modified xsi:type="dcterms:W3CDTF">2012-07-06T06:17:53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