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23F-1EEC-484F-A57E-37134F9B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FD2-A14F-4C85-ACC6-638E0A4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3EA-879F-4DE1-B64B-424B610D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C15-0228-4C55-AF0C-5BCC832B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E70D-C62D-43CD-9B1B-0CC879C5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525-858C-41D3-998E-046FD58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FBF1-D3FE-4D9E-9451-4654EAE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6F28-7183-452D-9955-E4AE7AF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05AA-0AC0-441A-A2DF-A5DCFA4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AC7-ABC3-42E7-8DB4-92BAFA8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D9C-77FE-41FC-B7F9-F02630D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D02-F290-4C98-8C39-8C83F02A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ED2D-7D60-4FA9-AB70-40F785F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96A-9BEB-4EE3-A37C-68D6117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378-9B63-4514-AF72-3D4986A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DC2-8CCC-43E4-8AA8-388D9807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248-2E87-4369-A2B7-03E384FF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2077-AB90-4273-934D-CDCCFBB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B97C-D7C1-4DCC-94C5-A4BDBE2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3268-2873-411C-A276-287F746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0FD3-677A-45FF-84BE-18C0B49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0457-67B1-4300-84C8-CBDBA57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2D9-79E0-446B-A5AC-F89A803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0F64-79D3-46A8-96B5-8162DE3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27ED-F33E-44BC-B92C-E59ABBF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ECE6-0AFA-467A-A8C6-EBAEE91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F857-224B-4FDF-BF88-09AF509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7289-24C2-4A75-BB65-7585824A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E470-9EF4-482D-87DD-C93D5A25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AE04-079A-4340-970F-FF4B1C14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E053-3098-42C5-A2A6-631EFFD5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51C0-C0BC-47B8-BD22-7D81802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9B75-8497-40B4-B900-7104746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441-C210-4F8A-A8D8-8E03A19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1B44-6370-49BC-ACF2-00D0BCC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19CD-1C9C-4989-B040-036D8708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675B-70EF-4445-88A8-F9311587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FA88-D9E9-4971-A906-98E688A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8408-FC43-4A00-A6ED-D578B23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F831-9538-4831-A147-736063D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4F0F-ED85-4D4A-B684-E7CEB13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8F1A-CE19-4C0A-A62E-C189A599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BB82-30CC-416E-9B1C-DE6FC232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905F-FE23-4F76-A2BD-C963F28E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DA7-C4C3-4E55-8EC1-53021C59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5F1A-CF67-49CE-86AC-4AF6FCE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B43B-A265-4B49-898B-BDC1775B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1198-8C11-4DCF-8FF2-031BA816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3D14-FACE-4A04-8124-FC7F5F9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CB60-6639-47C2-9DDA-8CD31D9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5DE4-0AB7-48D9-9F17-2BECF640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572A-0AC1-465A-91E4-8F1FD9A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DDD3-073E-4BFD-B84F-3A071A7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B99E-94BC-4CBB-9B7B-B9D8838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ACD1B-D9AC-45F0-BBE9-9642F228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A35-8F03-4EAB-8DAB-CBA7503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CC98-A515-4885-9F0F-8C617FCD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9973-9D66-45CD-95FA-083160DF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3A91-D3B4-46A7-BB6F-ECCA935B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7CD55-2555-4F79-AB0F-B8DDD98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891C-4E33-4E47-AECD-C50DBA6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4C70-4D65-4C36-80C2-2BE90345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DD4A-14D2-475F-8CCC-02A0524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5B78-26E5-47AB-92A4-410BE98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62BE-9BC7-45A2-A055-696B4136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F4AD-EB6E-4A0A-B537-E98EC44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94D-CF6C-4EBA-B8DB-6AF07CF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4E547-5C66-4061-B2AA-1071119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12E5F-DB70-4E1F-A2C7-D340EDA5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99623-57B1-4674-8595-6BD523D4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CBD-975C-4AD8-BF8A-B76F4C9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C09-9D61-4977-B383-6866D70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6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CBA-EA41-47F4-840E-EA128BCF4B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016-1FD1-4137-9F36-0648EBBAC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7D3-7A9D-4A5E-BE97-B8894D5EFD17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392-98DD-4987-8C13-2DBA92050FDB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2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3C2-CA35-4AE5-BF3D-49799EB41C30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BE5-32D3-48E7-81C8-975BF34B400D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8185-92CC-4592-A40C-EAE1DE6A5A8A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CA2-AC3F-4714-9929-4D6EBAA86457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A70E-CE88-4D91-8FAE-BA4AD55F5499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C29-DFC5-42BF-A773-504D3BAABC57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4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946-0E5C-478B-A274-EBCEF57B3E56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E49-2BBC-493E-8C2B-ABB97AC75C5B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4"/>
          <p:cNvSpPr/>
          <p:nvPr/>
        </p:nvSpPr>
        <p:spPr>
          <a:xfrm>
            <a:off x="1117440" y="1333440"/>
            <a:ext cx="6912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STARS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strawberri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2 strawberri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9" name="图片 1" descr=""/>
          <p:cNvPicPr/>
          <p:nvPr/>
        </p:nvPicPr>
        <p:blipFill>
          <a:blip r:embed="rId1"/>
          <a:stretch/>
        </p:blipFill>
        <p:spPr>
          <a:xfrm>
            <a:off x="1515960" y="3241800"/>
            <a:ext cx="29149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2200" y="6840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ring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2 ring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322200" y="102888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1"/>
          <a:stretch/>
        </p:blipFill>
        <p:spPr>
          <a:xfrm>
            <a:off x="2170080" y="3543480"/>
            <a:ext cx="26481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8935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tabl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only one table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4" name="图片 1" descr=""/>
          <p:cNvPicPr/>
          <p:nvPr/>
        </p:nvPicPr>
        <p:blipFill>
          <a:blip r:embed="rId1"/>
          <a:stretch/>
        </p:blipFill>
        <p:spPr>
          <a:xfrm>
            <a:off x="2130480" y="297324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tre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tre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6" name="图片 1" descr=""/>
          <p:cNvPicPr/>
          <p:nvPr/>
        </p:nvPicPr>
        <p:blipFill>
          <a:blip r:embed="rId1"/>
          <a:stretch/>
        </p:blipFill>
        <p:spPr>
          <a:xfrm>
            <a:off x="2843280" y="29923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60300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motorcycl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motorcycl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8" name="图片 1" descr=""/>
          <p:cNvPicPr/>
          <p:nvPr/>
        </p:nvPicPr>
        <p:blipFill>
          <a:blip r:embed="rId1"/>
          <a:stretch/>
        </p:blipFill>
        <p:spPr>
          <a:xfrm>
            <a:off x="847800" y="3184560"/>
            <a:ext cx="2361960" cy="14763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2" descr=""/>
          <p:cNvPicPr/>
          <p:nvPr/>
        </p:nvPicPr>
        <p:blipFill>
          <a:blip r:embed="rId2"/>
          <a:stretch/>
        </p:blipFill>
        <p:spPr>
          <a:xfrm>
            <a:off x="3654360" y="3094200"/>
            <a:ext cx="25066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96660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rabbit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only one rabbit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1" name="图片 1" descr=""/>
          <p:cNvPicPr/>
          <p:nvPr/>
        </p:nvPicPr>
        <p:blipFill>
          <a:blip r:embed="rId1"/>
          <a:stretch/>
        </p:blipFill>
        <p:spPr>
          <a:xfrm>
            <a:off x="2460600" y="2901960"/>
            <a:ext cx="3352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skirt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skirt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3" name="图片 1" descr=""/>
          <p:cNvPicPr/>
          <p:nvPr/>
        </p:nvPicPr>
        <p:blipFill>
          <a:blip r:embed="rId1"/>
          <a:stretch/>
        </p:blipFill>
        <p:spPr>
          <a:xfrm>
            <a:off x="942840" y="295416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"/>
          <p:cNvPicPr/>
          <p:nvPr/>
        </p:nvPicPr>
        <p:blipFill>
          <a:blip r:embed="rId2"/>
          <a:stretch/>
        </p:blipFill>
        <p:spPr>
          <a:xfrm>
            <a:off x="3505320" y="2954160"/>
            <a:ext cx="1887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sho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a pair of sho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1387440" y="3112920"/>
            <a:ext cx="3143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tortois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2 tortois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8" name="图片 1" descr=""/>
          <p:cNvPicPr/>
          <p:nvPr/>
        </p:nvPicPr>
        <p:blipFill>
          <a:blip r:embed="rId1"/>
          <a:stretch/>
        </p:blipFill>
        <p:spPr>
          <a:xfrm>
            <a:off x="1836720" y="3030480"/>
            <a:ext cx="30574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Bye-bye</a:t>
            </a:r>
            <a:r>
              <a:rPr b="0" lang="zh-CN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500" spc="-1" strike="noStrike">
                <a:solidFill>
                  <a:srgbClr val="90c226"/>
                </a:solidFill>
                <a:latin typeface="Trebuchet MS"/>
              </a:rPr>
              <a:t>Let’s learn and say!</a:t>
            </a:r>
            <a:endParaRPr b="0" lang="en-US" sz="11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21752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Q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Peach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queen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1" descr=""/>
          <p:cNvPicPr/>
          <p:nvPr/>
        </p:nvPicPr>
        <p:blipFill>
          <a:blip r:embed="rId1"/>
          <a:stretch/>
        </p:blipFill>
        <p:spPr>
          <a:xfrm>
            <a:off x="885960" y="1727280"/>
            <a:ext cx="2303280" cy="303372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2" descr=""/>
          <p:cNvPicPr/>
          <p:nvPr/>
        </p:nvPicPr>
        <p:blipFill>
          <a:blip r:embed="rId2"/>
          <a:srcRect l="0" t="0" r="0" b="13383"/>
          <a:stretch/>
        </p:blipFill>
        <p:spPr>
          <a:xfrm>
            <a:off x="4267080" y="2301840"/>
            <a:ext cx="1482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eaches 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桃子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图片 1" descr=""/>
          <p:cNvPicPr/>
          <p:nvPr/>
        </p:nvPicPr>
        <p:blipFill>
          <a:blip r:embed="rId1"/>
          <a:srcRect l="0" t="-2543" r="-5573" b="24721"/>
          <a:stretch/>
        </p:blipFill>
        <p:spPr>
          <a:xfrm>
            <a:off x="2195640" y="1755720"/>
            <a:ext cx="40748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en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王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图片 2" descr=""/>
          <p:cNvPicPr/>
          <p:nvPr/>
        </p:nvPicPr>
        <p:blipFill>
          <a:blip r:embed="rId1"/>
          <a:stretch/>
        </p:blipFill>
        <p:spPr>
          <a:xfrm>
            <a:off x="2635200" y="2003400"/>
            <a:ext cx="338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2114640"/>
            <a:ext cx="82296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Let’s  practice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26560" y="873000"/>
            <a:ext cx="74552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How many …do you have?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I have..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2049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orang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3 orang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7" name="图片 2" descr=""/>
          <p:cNvPicPr/>
          <p:nvPr/>
        </p:nvPicPr>
        <p:blipFill>
          <a:blip r:embed="rId1"/>
          <a:srcRect l="0" t="0" r="0" b="12317"/>
          <a:stretch/>
        </p:blipFill>
        <p:spPr>
          <a:xfrm>
            <a:off x="1600200" y="3195720"/>
            <a:ext cx="33526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ion</dc:creator>
  <dc:description/>
  <dc:language>en-US</dc:language>
  <cp:lastModifiedBy>Administrator</cp:lastModifiedBy>
  <dcterms:modified xsi:type="dcterms:W3CDTF">2017-04-19T09:20:55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