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94D-8EFE-4A5B-850C-95F3DDD5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28F-AAC9-4447-AC98-36F1DDD6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CCE-228D-47A3-9044-FA3B17B8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224-D6BD-443E-BECD-8A96CD6F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15A-0280-4061-9B19-ADC1E982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AE16-2866-45A3-8F43-C8D1DAB0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1C68-2CA0-4F28-B209-B89A2E31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C9E6-35C5-484B-AE96-81213E58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DBAC-2035-4C86-9D93-15BCE0ED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7838-FF97-45BB-93DD-5F72386D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97D-3465-41AC-848B-A142578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9E0-BE36-4620-8A3D-63CE945C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F6CE-1872-4FA8-96FB-5B36E03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3007-E5F0-4A04-B8FA-A3115A8B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4B98-D6FC-4B82-AD19-8A3D6A98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6835-D22A-49B0-9890-784D919C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0113-CA72-43DC-B31E-659F1AFB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D307-C144-427F-96E4-5D1F70C5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3755-B14E-4817-A8A2-F61666BE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EC5B-A60A-4303-BD00-E3D89FE2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C2ED-2E84-4AFA-B32C-854F7A87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27EF0-DE3C-4E2D-BBBB-60E04C8F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FD3-B857-4C86-896B-01C3AC53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826D2-A7CF-4A81-AB56-2AB19213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CB2F-F66A-469E-9F1A-6D9BC828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62BA-CBA3-4FEF-BE01-BEAD18EC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57D7-CFDE-4D32-A2EB-957A39B6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47B9-4543-44CC-BD3A-078ED45A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4863-0E79-46C9-B5D5-8B5C0BD7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1149-8E50-4B14-B921-D617F8F0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6E08-BF93-4E72-9DA0-E9F415B9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3457-23C2-44EF-8247-E1C81AA2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BC9AF-B5D0-4797-851A-F1A8DAA2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ED8-2F90-49D0-9720-33A07A31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417D-5AC8-4451-B04B-FE4263C5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D0D0-E629-4253-BDFC-A3CC688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C0D6-E5C3-4830-B012-B446E5AE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DB66-9AC4-4424-B7B4-8029934B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C1C5E-AAFE-48A1-A311-AEC0ADC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14F95-4DEE-44C9-AD71-99126F4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809F-0465-4E66-9017-B4FE83E7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11CE2-C50E-48BF-B874-32894DFC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62FC-D88B-4907-B7CD-EA07747C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A0A14-8FCB-46E0-A67E-89CFAA4B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41E-48ED-4D6F-97EA-CD2281A8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8280-7B2C-4FDC-BBD5-764FF368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B8065-B9AB-4EB5-8518-EA1DA909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54178-2D67-454D-BF3B-D284350B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C05DB-EFBB-4934-A205-A96DC36B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6E5A-B260-450F-BB72-18CE6C92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5373A-6658-43AE-ADF6-0121B7A0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5D170-585A-4B9B-B845-53739E5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87080-BE00-4C45-9519-B965AD1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DD7F-DC63-49F6-BCA0-31495E41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A917-9552-4402-8BA3-6DA3B8A1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FE3-F953-4FCC-999B-30336968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3D40-54A4-4B6E-9217-859FF3E1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CA12-4552-4AE7-B304-97B24A59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45F50-CA83-447D-8CEC-8751920E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BC56-7A1D-4E45-AB70-5FAA3BF3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80EA3-7B0C-4FE9-87DE-5759D85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58C36-74FF-4C9D-92D8-0FD0104D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F94B-2B5A-48F3-A520-38ABE14F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DEDBD-CE47-4DED-913F-91A2538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FDA69-A1D5-4555-A6F7-7BEF1919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3E04-EE85-4B8F-9263-0AC988C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5CD-998F-446B-BCDF-E812798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DCA5-0B71-423B-9B3B-9DEA4136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CFEC1-5D4A-4EDA-89EB-2D8C572A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5CEF3-03D1-4404-B32B-B58DCD3E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E82-C56D-4919-89A7-D074E8E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D4B-17AB-4E5C-B7E8-FC4AC2A5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6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91C4-C02A-4CEC-8D45-27347686ED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C75C-2CFA-4AD5-AAF7-9B31129E9C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6ADD-30D8-4DE0-9023-9E0062327638}" type="datetime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2DAA-D8D4-4AA7-AC43-28008A1849DD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8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594-1D5B-440B-8A97-547055267228}" type="datetime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E8CC-97D9-4B19-8B82-1985BA9D207F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F037-E3D3-4268-AF11-D5C4EFD7E174}" type="datetime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C100-C15F-48FF-AD89-2C8DE3CB8925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369E-FCB9-4E31-866C-73C8D6385EFF}" type="datetime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741-A770-4A56-9C12-159006199FFB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4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BCCC-72C6-4370-8B0D-1EFDA976F2ED}" type="datetime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B44-90E5-4502-A026-AAC467DDE740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4"/>
          <p:cNvSpPr/>
          <p:nvPr/>
        </p:nvSpPr>
        <p:spPr>
          <a:xfrm>
            <a:off x="1117440" y="1333440"/>
            <a:ext cx="6912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T F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STARS CAN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sson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22200" y="6840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book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four book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矩形 4"/>
          <p:cNvSpPr/>
          <p:nvPr/>
        </p:nvSpPr>
        <p:spPr>
          <a:xfrm>
            <a:off x="322200" y="1028880"/>
            <a:ext cx="58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7" descr=""/>
          <p:cNvPicPr/>
          <p:nvPr/>
        </p:nvPicPr>
        <p:blipFill>
          <a:blip r:embed="rId1"/>
          <a:srcRect l="0" t="14757" r="0" b="14826"/>
          <a:stretch/>
        </p:blipFill>
        <p:spPr>
          <a:xfrm>
            <a:off x="2463840" y="3181320"/>
            <a:ext cx="29494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89352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computer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only one computer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1" name="图片 5" descr=""/>
          <p:cNvPicPr/>
          <p:nvPr/>
        </p:nvPicPr>
        <p:blipFill>
          <a:blip r:embed="rId1"/>
          <a:stretch/>
        </p:blipFill>
        <p:spPr>
          <a:xfrm>
            <a:off x="2141640" y="3522600"/>
            <a:ext cx="3314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8110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phon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two phon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3" name="图片 4" descr=""/>
          <p:cNvPicPr/>
          <p:nvPr/>
        </p:nvPicPr>
        <p:blipFill>
          <a:blip r:embed="rId1"/>
          <a:srcRect l="0" t="0" r="0" b="18760"/>
          <a:stretch/>
        </p:blipFill>
        <p:spPr>
          <a:xfrm>
            <a:off x="725400" y="2960640"/>
            <a:ext cx="2809800" cy="170352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5" descr=""/>
          <p:cNvPicPr/>
          <p:nvPr/>
        </p:nvPicPr>
        <p:blipFill>
          <a:blip r:embed="rId2"/>
          <a:stretch/>
        </p:blipFill>
        <p:spPr>
          <a:xfrm>
            <a:off x="4392720" y="2960640"/>
            <a:ext cx="25621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60300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car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two car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6" name="图片 2" descr=""/>
          <p:cNvPicPr/>
          <p:nvPr/>
        </p:nvPicPr>
        <p:blipFill>
          <a:blip r:embed="rId1"/>
          <a:stretch/>
        </p:blipFill>
        <p:spPr>
          <a:xfrm>
            <a:off x="846000" y="3236760"/>
            <a:ext cx="2200320" cy="156528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3" descr=""/>
          <p:cNvPicPr/>
          <p:nvPr/>
        </p:nvPicPr>
        <p:blipFill>
          <a:blip r:embed="rId2"/>
          <a:stretch/>
        </p:blipFill>
        <p:spPr>
          <a:xfrm>
            <a:off x="3637080" y="2706840"/>
            <a:ext cx="3352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96660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hous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only one house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9" name="图片 4" descr=""/>
          <p:cNvPicPr/>
          <p:nvPr/>
        </p:nvPicPr>
        <p:blipFill>
          <a:blip r:embed="rId1"/>
          <a:stretch/>
        </p:blipFill>
        <p:spPr>
          <a:xfrm>
            <a:off x="2265480" y="2894040"/>
            <a:ext cx="26668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rabbit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two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1" name="图片 6" descr=""/>
          <p:cNvPicPr/>
          <p:nvPr/>
        </p:nvPicPr>
        <p:blipFill>
          <a:blip r:embed="rId1"/>
          <a:srcRect l="0" t="0" r="0" b="10325"/>
          <a:stretch/>
        </p:blipFill>
        <p:spPr>
          <a:xfrm>
            <a:off x="2182680" y="3403440"/>
            <a:ext cx="310536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bags 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2 bag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3" name="图片 3" descr=""/>
          <p:cNvPicPr/>
          <p:nvPr/>
        </p:nvPicPr>
        <p:blipFill>
          <a:blip r:embed="rId1"/>
          <a:srcRect l="0" t="0" r="0" b="8847"/>
          <a:stretch/>
        </p:blipFill>
        <p:spPr>
          <a:xfrm>
            <a:off x="2765520" y="3419640"/>
            <a:ext cx="31525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cats do you have</a:t>
            </a: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2 cat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5" name="图片 3" descr=""/>
          <p:cNvPicPr/>
          <p:nvPr/>
        </p:nvPicPr>
        <p:blipFill>
          <a:blip r:embed="rId1"/>
          <a:stretch/>
        </p:blipFill>
        <p:spPr>
          <a:xfrm>
            <a:off x="914400" y="3232080"/>
            <a:ext cx="2278080" cy="174960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4" descr=""/>
          <p:cNvPicPr/>
          <p:nvPr/>
        </p:nvPicPr>
        <p:blipFill>
          <a:blip r:embed="rId2"/>
          <a:stretch/>
        </p:blipFill>
        <p:spPr>
          <a:xfrm>
            <a:off x="3675240" y="3232080"/>
            <a:ext cx="2624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zh-CN" sz="9600" spc="-1" strike="noStrike">
                <a:solidFill>
                  <a:srgbClr val="ffffff"/>
                </a:solidFill>
                <a:latin typeface="Trebuchet MS"/>
              </a:rPr>
              <a:t>Bye-bye</a:t>
            </a:r>
            <a:r>
              <a:rPr b="0" lang="zh-CN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500" spc="-1" strike="noStrike">
                <a:solidFill>
                  <a:srgbClr val="90c226"/>
                </a:solidFill>
                <a:latin typeface="Trebuchet MS"/>
              </a:rPr>
              <a:t>Let’s learn and say!</a:t>
            </a:r>
            <a:endParaRPr b="0" lang="en-US" sz="115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21752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P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panda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2487600" y="1851120"/>
            <a:ext cx="36291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nda  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</a:rPr>
              <a:t>熊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0" name="图片 6" descr=""/>
          <p:cNvPicPr/>
          <p:nvPr/>
        </p:nvPicPr>
        <p:blipFill>
          <a:blip r:embed="rId1"/>
          <a:srcRect l="40707" t="8847" r="0" b="0"/>
          <a:stretch/>
        </p:blipFill>
        <p:spPr>
          <a:xfrm>
            <a:off x="2333520" y="2108160"/>
            <a:ext cx="289872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2114640"/>
            <a:ext cx="822960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Let’s  practice!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26560" y="873000"/>
            <a:ext cx="745524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How many …do you have?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I have...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20492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apple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3 appl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4" name="图片 6" descr=""/>
          <p:cNvPicPr/>
          <p:nvPr/>
        </p:nvPicPr>
        <p:blipFill>
          <a:blip r:embed="rId1"/>
          <a:srcRect l="0" t="0" r="0" b="12816"/>
          <a:stretch/>
        </p:blipFill>
        <p:spPr>
          <a:xfrm>
            <a:off x="2309760" y="3127320"/>
            <a:ext cx="30099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8110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dogs do you hav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have two dog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6" name="图片 8" descr=""/>
          <p:cNvPicPr/>
          <p:nvPr/>
        </p:nvPicPr>
        <p:blipFill>
          <a:blip r:embed="rId1"/>
          <a:srcRect l="0" t="0" r="0" b="8349"/>
          <a:stretch/>
        </p:blipFill>
        <p:spPr>
          <a:xfrm>
            <a:off x="2765520" y="3414600"/>
            <a:ext cx="27907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ion</dc:creator>
  <dc:description/>
  <cp:keywords/>
  <dc:language>en-US</dc:language>
  <cp:lastModifiedBy>User</cp:lastModifiedBy>
  <dcterms:modified xsi:type="dcterms:W3CDTF">2015-06-30T15:17:00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