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95EA-0871-48C2-92FF-77EF885ED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3886-A2F9-4603-B997-B7DCBA3D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664C-ECA9-4D04-AEB1-42722ED4B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4C65-468F-4EBA-9EE7-72376A3C4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2A2C-77C7-4FEC-9784-7812EBB4D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53FF-F347-4680-BA4E-7F8C02F0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0A43-53F3-4D5C-A48C-1437527B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25BAE-345A-4998-A7E1-DDFACE66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4B3B-A3C5-4A4E-8784-20EF5BBE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95DA-96F7-42EE-85FE-77514DDB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F0A6-F09E-43C2-B42E-A399BDFE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66C7-DEE6-4629-8A8C-A6ECBE0F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3044-F801-45EC-B6E6-182181AE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3687-60D4-4BFD-9952-0B54ADAB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6FEC-EE5C-4126-980C-CBD0573B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44C1-6D73-4C27-BAA9-F201DB159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3FD3-D850-4EA0-B744-187E85717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7EF2D-FDFC-4CE8-8955-3D2CFB093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95683-2D15-46CE-9463-1BE31B95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0793D-B1F5-4F6C-BF3E-D7489A17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7085F-F10D-470C-9D4F-6654ABC5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3D34E-E58C-4B97-8702-4F942A78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5CD3-16C7-4EC2-B1F9-C7AF8826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C6009-590F-48D2-9022-AC143B6E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E8E4D-83AC-4A92-B787-9D986B43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95C40-0919-4734-91CD-6D154B59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BD5C0-11AE-4F3F-AB18-C1E3FC46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F56D4-189A-4AE6-93B8-DD8DF9F1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5D890-7A00-41F5-A6F3-8250E56BC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DED73-BAE7-4EB1-8EED-61DCDD779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A65F2-F6BB-4147-8E9B-9EAEB2953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80B2A-A6EF-4548-B2A2-A31B0DA7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B07A6-11F4-4038-A48A-9D5B150A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4E20-87D5-4ED5-B762-A2E2DA8E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513A2-7EAF-44C2-AF44-514C81B0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CC701-99F3-4DE5-ADDD-4BFD7CBC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4BF4A-0BF9-42E0-BA98-0325228D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7DFDB-A3AE-42FD-AEAD-FFE0942B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FF85E-5874-4309-9D5A-5014A28D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DEEFD-AC56-4EEB-BF8A-566BF596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29A1B-612F-461E-B683-F74478A7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A105C-706C-429C-871F-AEDCE6E69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4A5B5-0A51-4292-800B-38D9B47C0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3F0D8-5AFD-4290-B35D-900135673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3ABD-3640-4C0E-ADB0-117B186C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1CFF2-6BE8-4C92-9273-785B4804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7DBA1-EEA3-46A6-81E6-88D69BA6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93E31-7248-4325-8E93-21E41720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91A66-C236-4467-9895-F35DB57E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D08B4-C88D-44D2-9069-E9954560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B9F28-EBDC-42E6-95E6-23BA4891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C0C5B-4DA0-4BF6-8635-9865D651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F265E-20E7-497F-BD91-5D528AAA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0D437-99F0-485F-BD42-9176B98D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D6828-3AA1-48FD-B70E-E9E5A839C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277F-51CD-4AC2-92DF-CA24DB48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C2153-1852-485B-B35F-5886147F1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0FE40-791C-408D-AB2C-5DDF90E7A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24F85-8C22-4D6A-B7D7-10D5B7C6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95A6C-924C-4556-B534-38F2F4CA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E7DFA-46B1-4129-AA28-88B40881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CF9BE-6108-4165-9C96-27D729B9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A8084-E02A-4082-811C-FE46652F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EFE5E-5D31-4150-B0CB-700BC731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21755-B270-4C8C-95D0-422ACD02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F31FD-7847-4299-85F3-5B4189F2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BF35-0AF6-4BE3-B650-5DD4B73B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9C3E5-310D-4911-84DC-1515E857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EA6A9-AECF-4627-8717-9D28520C9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79000-5F17-41E8-B446-449DE7925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C8E5-5AD6-410D-804B-738B7615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1425-1CE6-4000-B57F-8B0A5A59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c6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8C5E-B83B-4975-9C20-AF9555BFBBC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BB16-742C-472E-92FA-08B5D86BA1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2" name="Straight Connector 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Straight Connector 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8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40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804600" indent="-40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206720" indent="-804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1609200" indent="-12067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1609200" indent="-120672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1609200" indent="-120672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6B87-6253-476C-B99E-EFE9DAD0111F}" type="datetime">
              <a:rPr b="0" lang="zh-CN" sz="900" spc="-1" strike="noStrike">
                <a:solidFill>
                  <a:srgbClr val="ffffff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90c2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Arial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90c2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AA51-122A-4B97-A449-67CBF179E7B8}" type="slidenum">
              <a:rPr b="0" lang="zh-CN" sz="900" spc="-1" strike="noStrike">
                <a:solidFill>
                  <a:srgbClr val="90c226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94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8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6c921d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40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804600" indent="-40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206720" indent="-804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1609200" indent="-12067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1609200" indent="-120672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1609200" indent="-120672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A8C6-4314-463A-9AD5-5EC20B127DA4}" type="datetime">
              <a:rPr b="0" lang="zh-CN" sz="900" spc="-1" strike="noStrike">
                <a:solidFill>
                  <a:srgbClr val="ffffff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90c2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Arial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90c2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52A1-F29F-480D-B393-3EE09BB7529E}" type="slidenum">
              <a:rPr b="0" lang="zh-CN" sz="900" spc="-1" strike="noStrike">
                <a:solidFill>
                  <a:srgbClr val="90c226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46" name="Straight Connector 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Straight Connector 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8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40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804600" indent="-40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206720" indent="-804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1609200" indent="-12067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1609200" indent="-120672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1609200" indent="-120672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9446-5B44-46D2-8F5F-73E72F3AE75E}" type="datetime">
              <a:rPr b="0" lang="zh-CN" sz="900" spc="-1" strike="noStrike">
                <a:solidFill>
                  <a:srgbClr val="ffffff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90c2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Arial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90c2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5C77-A98F-4D8A-8A91-AA86B4B6A152}" type="slidenum">
              <a:rPr b="0" lang="zh-CN" sz="900" spc="-1" strike="noStrike">
                <a:solidFill>
                  <a:srgbClr val="90c226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00" name="Straight Connector 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Straight Connector 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8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40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804600" indent="-40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206720" indent="-804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1609200" indent="-12067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1609200" indent="-120672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1609200" indent="-120672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6CF0-597F-43F1-A725-7BD051DD2E1B}" type="datetime">
              <a:rPr b="0" lang="zh-CN" sz="900" spc="-1" strike="noStrike">
                <a:solidFill>
                  <a:srgbClr val="ffffff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90c2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Arial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90c2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9E3E-710A-4DCE-85D3-35D6B677F3C4}" type="slidenum">
              <a:rPr b="0" lang="zh-CN" sz="900" spc="-1" strike="noStrike">
                <a:solidFill>
                  <a:srgbClr val="90c226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54" name="Straight Connector 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Straight Connector 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8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40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804600" indent="-40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206720" indent="-804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1609200" indent="-12067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1609200" indent="-120672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1609200" indent="-120672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38B9-08C5-47CF-9CC6-871E779D4180}" type="datetime">
              <a:rPr b="0" lang="zh-CN" sz="900" spc="-1" strike="noStrike">
                <a:solidFill>
                  <a:srgbClr val="ffffff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90c2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Arial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90c2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97F6-FB95-494F-8AB1-E08274D9523A}" type="slidenum">
              <a:rPr b="0" lang="zh-CN" sz="900" spc="-1" strike="noStrike">
                <a:solidFill>
                  <a:srgbClr val="90c226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4"/>
          <p:cNvSpPr/>
          <p:nvPr/>
        </p:nvSpPr>
        <p:spPr>
          <a:xfrm>
            <a:off x="1117440" y="1333440"/>
            <a:ext cx="6912000" cy="28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UNIT FOU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MANY STARS CAN YOU S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sson 1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81108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How many bananas can you see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 can see 3 bananas.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19" name="图片 1" descr=""/>
          <p:cNvPicPr/>
          <p:nvPr/>
        </p:nvPicPr>
        <p:blipFill>
          <a:blip r:embed="rId1"/>
          <a:stretch/>
        </p:blipFill>
        <p:spPr>
          <a:xfrm>
            <a:off x="2624040" y="3117960"/>
            <a:ext cx="241308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22200" y="6840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How many peaches can you see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 can see 2 peaches.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矩形 4"/>
          <p:cNvSpPr/>
          <p:nvPr/>
        </p:nvSpPr>
        <p:spPr>
          <a:xfrm>
            <a:off x="322200" y="1028880"/>
            <a:ext cx="589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图片 1" descr=""/>
          <p:cNvPicPr/>
          <p:nvPr/>
        </p:nvPicPr>
        <p:blipFill>
          <a:blip r:embed="rId1"/>
          <a:srcRect l="-2772" t="498" r="2786" b="15289"/>
          <a:stretch/>
        </p:blipFill>
        <p:spPr>
          <a:xfrm>
            <a:off x="2379600" y="2720880"/>
            <a:ext cx="324792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57200" y="893520"/>
            <a:ext cx="822960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How many pears can you see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 can see only one pear.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24" name="图片 1" descr=""/>
          <p:cNvPicPr/>
          <p:nvPr/>
        </p:nvPicPr>
        <p:blipFill>
          <a:blip r:embed="rId1"/>
          <a:stretch/>
        </p:blipFill>
        <p:spPr>
          <a:xfrm>
            <a:off x="2306520" y="2995560"/>
            <a:ext cx="23432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457200" y="81108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How many apples can you see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 can see 3 apples.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26" name="图片 1" descr=""/>
          <p:cNvPicPr/>
          <p:nvPr/>
        </p:nvPicPr>
        <p:blipFill>
          <a:blip r:embed="rId1"/>
          <a:stretch/>
        </p:blipFill>
        <p:spPr>
          <a:xfrm>
            <a:off x="2298600" y="2782800"/>
            <a:ext cx="331812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457200" y="603000"/>
            <a:ext cx="8229600" cy="55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How many mangos can you see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 can see 2 mangos.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28" name="图片 1" descr=""/>
          <p:cNvPicPr/>
          <p:nvPr/>
        </p:nvPicPr>
        <p:blipFill>
          <a:blip r:embed="rId1"/>
          <a:stretch/>
        </p:blipFill>
        <p:spPr>
          <a:xfrm>
            <a:off x="2486160" y="2454120"/>
            <a:ext cx="3619440" cy="32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966600"/>
            <a:ext cx="8229600" cy="51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How many planes can you see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 can see 1 plane.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30" name="图片 1" descr=""/>
          <p:cNvPicPr/>
          <p:nvPr/>
        </p:nvPicPr>
        <p:blipFill>
          <a:blip r:embed="rId1"/>
          <a:stretch/>
        </p:blipFill>
        <p:spPr>
          <a:xfrm>
            <a:off x="2025720" y="2598840"/>
            <a:ext cx="319068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57200" y="1245960"/>
            <a:ext cx="822960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How many ships can you see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 can see 2 ships.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32" name="图片 1" descr=""/>
          <p:cNvPicPr/>
          <p:nvPr/>
        </p:nvPicPr>
        <p:blipFill>
          <a:blip r:embed="rId1"/>
          <a:stretch/>
        </p:blipFill>
        <p:spPr>
          <a:xfrm>
            <a:off x="1881360" y="3051000"/>
            <a:ext cx="2908080" cy="2183040"/>
          </a:xfrm>
          <a:prstGeom prst="rect">
            <a:avLst/>
          </a:prstGeom>
          <a:ln w="0">
            <a:noFill/>
          </a:ln>
        </p:spPr>
      </p:pic>
      <p:pic>
        <p:nvPicPr>
          <p:cNvPr id="333" name="图片 1" descr=""/>
          <p:cNvPicPr/>
          <p:nvPr/>
        </p:nvPicPr>
        <p:blipFill>
          <a:blip r:embed="rId2"/>
          <a:stretch/>
        </p:blipFill>
        <p:spPr>
          <a:xfrm>
            <a:off x="5246640" y="3051000"/>
            <a:ext cx="290844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457200" y="1245960"/>
            <a:ext cx="822960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How many bikes can you see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 can see 2 bikes.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35" name="图片 1" descr=""/>
          <p:cNvPicPr/>
          <p:nvPr/>
        </p:nvPicPr>
        <p:blipFill>
          <a:blip r:embed="rId1"/>
          <a:stretch/>
        </p:blipFill>
        <p:spPr>
          <a:xfrm>
            <a:off x="633240" y="3451320"/>
            <a:ext cx="2778120" cy="1693800"/>
          </a:xfrm>
          <a:prstGeom prst="rect">
            <a:avLst/>
          </a:prstGeom>
          <a:ln w="0">
            <a:noFill/>
          </a:ln>
        </p:spPr>
      </p:pic>
      <p:pic>
        <p:nvPicPr>
          <p:cNvPr id="336" name="图片 2" descr=""/>
          <p:cNvPicPr/>
          <p:nvPr/>
        </p:nvPicPr>
        <p:blipFill>
          <a:blip r:embed="rId2"/>
          <a:stretch/>
        </p:blipFill>
        <p:spPr>
          <a:xfrm>
            <a:off x="4478400" y="3497400"/>
            <a:ext cx="249408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57200" y="1245960"/>
            <a:ext cx="822960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How many flowers can you see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 can see 2 flowers.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38" name="图片 1" descr=""/>
          <p:cNvPicPr/>
          <p:nvPr/>
        </p:nvPicPr>
        <p:blipFill>
          <a:blip r:embed="rId1"/>
          <a:srcRect l="0" t="0" r="0" b="14293"/>
          <a:stretch/>
        </p:blipFill>
        <p:spPr>
          <a:xfrm>
            <a:off x="2649600" y="3600360"/>
            <a:ext cx="227016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6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0" lang="zh-CN" sz="9600" spc="-1" strike="noStrike">
                <a:solidFill>
                  <a:srgbClr val="ffffff"/>
                </a:solidFill>
                <a:latin typeface="Trebuchet MS"/>
              </a:rPr>
              <a:t>Bye-bye</a:t>
            </a:r>
            <a:r>
              <a:rPr b="0" lang="zh-CN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6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500" spc="-1" strike="noStrike">
                <a:solidFill>
                  <a:srgbClr val="90c226"/>
                </a:solidFill>
                <a:latin typeface="Trebuchet MS"/>
              </a:rPr>
              <a:t>Let’s learn and say!</a:t>
            </a:r>
            <a:endParaRPr b="0" lang="en-US" sz="115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90c226"/>
                </a:solidFill>
                <a:latin typeface="Trebuchet MS"/>
              </a:rPr>
              <a:t>S</a:t>
            </a:r>
            <a:br>
              <a:rPr sz="8800"/>
            </a:br>
            <a:r>
              <a:rPr b="0" lang="en-US" sz="8800" spc="-1" strike="noStrike">
                <a:solidFill>
                  <a:srgbClr val="90c226"/>
                </a:solidFill>
                <a:latin typeface="Trebuchet MS"/>
              </a:rPr>
              <a:t>ship</a:t>
            </a:r>
            <a:br>
              <a:rPr sz="8800"/>
            </a:br>
            <a:r>
              <a:rPr b="0" lang="en-US" sz="8800" spc="-1" strike="noStrike">
                <a:solidFill>
                  <a:srgbClr val="90c226"/>
                </a:solidFill>
                <a:latin typeface="Trebuchet MS"/>
              </a:rPr>
              <a:t>river</a:t>
            </a:r>
            <a:br>
              <a:rPr sz="8800"/>
            </a:br>
            <a:endParaRPr b="0" lang="en-US" sz="88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图片 1" descr=""/>
          <p:cNvPicPr/>
          <p:nvPr/>
        </p:nvPicPr>
        <p:blipFill>
          <a:blip r:embed="rId1"/>
          <a:stretch/>
        </p:blipFill>
        <p:spPr>
          <a:xfrm>
            <a:off x="1292400" y="1697040"/>
            <a:ext cx="2327040" cy="273060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2" descr=""/>
          <p:cNvPicPr/>
          <p:nvPr/>
        </p:nvPicPr>
        <p:blipFill>
          <a:blip r:embed="rId2"/>
          <a:stretch/>
        </p:blipFill>
        <p:spPr>
          <a:xfrm>
            <a:off x="4106880" y="2481120"/>
            <a:ext cx="145260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               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ship   </a:t>
            </a:r>
            <a:r>
              <a:rPr b="0" lang="zh-CN" sz="3600" spc="-1" strike="noStrike">
                <a:solidFill>
                  <a:srgbClr val="90c226"/>
                </a:solidFill>
                <a:latin typeface="Trebuchet MS"/>
              </a:rPr>
              <a:t>船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11" name="图片 1" descr=""/>
          <p:cNvPicPr/>
          <p:nvPr/>
        </p:nvPicPr>
        <p:blipFill>
          <a:blip r:embed="rId1"/>
          <a:stretch/>
        </p:blipFill>
        <p:spPr>
          <a:xfrm>
            <a:off x="1965240" y="1841400"/>
            <a:ext cx="413388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            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river  </a:t>
            </a:r>
            <a:r>
              <a:rPr b="0" lang="zh-CN" sz="3600" spc="-1" strike="noStrike">
                <a:solidFill>
                  <a:srgbClr val="90c226"/>
                </a:solidFill>
                <a:latin typeface="Trebuchet MS"/>
              </a:rPr>
              <a:t>河流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13" name="图片 1" descr=""/>
          <p:cNvPicPr/>
          <p:nvPr/>
        </p:nvPicPr>
        <p:blipFill>
          <a:blip r:embed="rId1"/>
          <a:stretch/>
        </p:blipFill>
        <p:spPr>
          <a:xfrm>
            <a:off x="2263680" y="2089080"/>
            <a:ext cx="3427560" cy="25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36680" y="2114640"/>
            <a:ext cx="8229600" cy="31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90c226"/>
                </a:solidFill>
                <a:latin typeface="Trebuchet MS"/>
              </a:rPr>
              <a:t>Let’s  practice!</a:t>
            </a:r>
            <a:endParaRPr b="0" lang="en-US" sz="88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96560" y="873000"/>
            <a:ext cx="808524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rebuchet MS"/>
              </a:rPr>
              <a:t>How many … can you see?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rebuchet MS"/>
              </a:rPr>
              <a:t>I can see ...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57200" y="1204920"/>
            <a:ext cx="822960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How many oranges can you see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 can see 2 oranges.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17" name="图片 1" descr=""/>
          <p:cNvPicPr/>
          <p:nvPr/>
        </p:nvPicPr>
        <p:blipFill>
          <a:blip r:embed="rId1"/>
          <a:stretch/>
        </p:blipFill>
        <p:spPr>
          <a:xfrm>
            <a:off x="2583000" y="2962440"/>
            <a:ext cx="316836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dc:language>en-US</dc:language>
  <cp:lastModifiedBy>Administrator</cp:lastModifiedBy>
  <dcterms:modified xsi:type="dcterms:W3CDTF">2017-04-19T09:23:01Z</dcterms:modified>
  <cp:revision>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93</vt:lpwstr>
  </property>
</Properties>
</file>