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91B-A9C9-42D1-A178-205079EE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4DF-55E7-47A4-9FED-987E32A3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85A-7DCC-49FA-98EA-D9350945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4AD-830D-4A2E-82D5-96F6F032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B059-35C1-45E3-B510-483C10EF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9981-E0F3-4286-8283-A13BB0D7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3E69-3C0F-44B0-8E43-D2DAA67D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B20B-47B6-4400-97AD-C44EC736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8F0E-9B63-48EC-8B00-D4300646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CA6D-24F3-43A2-BEDC-61087132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DB81-4C99-4918-B541-7905C53B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E2C-F286-4234-BBF7-E9A7C0E8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1A50-E87A-4A49-AA08-41E4796F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B699-762A-48A1-BA66-11CEB3B4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7D1B-CBD7-45C8-98F5-D04D0A66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1BE8-18D7-4946-857B-DB911F98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E36A-699D-4D33-916B-1D8C39CB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A6A5-9629-4762-A51B-13B37436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BFAF4-7A4E-4BBB-862D-574BC22C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06CF-2E17-4431-8B51-C5EFDA72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BD0C-5192-4ED5-B10E-23765C3A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F615-B6B1-404F-AB80-AB3F0139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B0E-7864-4639-AA2A-E98BD0CF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662A-7741-4686-B27B-958FCA66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B93D6-2513-4E51-A838-CA79C527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A17AE-B273-43E2-8E5E-9BA0203F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AC27-E496-4442-8D26-E2BED657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7F662-C846-4C01-80BC-44E83667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8E6E-8D71-45B7-947B-DD2837B0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EE51-1D11-4A2C-8828-C2B8FEA3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3F9D-80AB-4571-9682-B69FAB61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15894-202B-4A0E-B5DE-E8477D9A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6D614-FDE0-4157-A645-B99C7B27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1F5-986F-476C-8DB7-5A17F64B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CBF16-7E35-4631-9B21-438DA294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0005D-072A-40A5-A5F5-3ED5B3D5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7FEE-48C5-4EC8-AA1C-254A5C93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257F9-962A-44E0-91D8-75A10DC8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93183-BE7A-41F7-B6AF-60C20A99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A70F-8572-4210-84A0-53DB529F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9588A-FCA2-4C85-9474-12265B27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FB95E-3EB9-4973-96C7-6E975418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A2E0-DAFD-4630-A977-29A601BC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EA50A-D7F8-4317-9F74-7AA08C3F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C43-2BF1-458D-AD6E-7BC7A2DB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F1410-C2B6-4279-90A1-523DD910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1D2D9-79FC-4C86-9C86-B523FF5E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9A1B0-CF85-4BAD-885C-40D5EEF8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49C60-22DF-4591-B58A-D17304DD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A03D4-BEE2-4E9A-B44D-CCF3F8CE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7432D-4598-4460-BFF5-54DEA135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14109-37CD-4C58-8529-4C46D410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83A82-ED90-4C1A-BFC7-36C124CB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82F62-99F9-4005-A913-8751AE20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FCA9D-2DFD-48F1-8DF8-31C6FE6D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A7A-93E0-4D71-9965-D2834B12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5090C-59EB-41F2-89FC-4787D152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45D15-ED54-442D-A456-40F892CD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8F876-C7CD-413B-84A9-77D73342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95208-004C-475C-822A-B69F48D9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E75E9-958D-4A2E-A032-3E13D1F8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FB3F2-5D48-4497-8890-31E7B946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5AF09-EFA0-4779-989B-C9632AB5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EA392-6EAE-43D1-9866-2DB725C0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20A56-863F-41EE-9775-42A8C303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74CCC-35C2-4E42-909E-30E7A46A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24B-85D0-4C42-BFE4-1ABA4AA3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DCE06-A698-41B7-ACF0-3E0955D7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790FB-461E-4A73-9D89-9D1789C8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55666-7223-41DF-8607-115FA418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62C-0AEE-49F8-A894-23E6718E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FA4-761C-4BB1-A8A8-6C7E2287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6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8889-842D-49E4-881A-4512967AE8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7EA8-BE00-44F8-B85B-72A876ADF6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90BC-9A63-44D5-8B36-D332EBBB47CB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E737-060E-48CD-8422-40E1A22250FB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8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6c92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2A14-BA8F-40C4-93CD-5AB491D4C07E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1A39-069D-4C72-9FAE-8282DCE54244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23D6-F670-44F3-AC25-82C45B1277CC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709F-C68D-4B7A-9554-179402AFBAD5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8537-0821-4C2B-A477-8E2502882A7C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A327-13C5-43B5-9EA2-23E00B08A996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54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4384-4F56-4037-B81D-B4716CB456B8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D319-7C73-47DA-9A16-CF85E0E58A45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4"/>
          <p:cNvSpPr/>
          <p:nvPr/>
        </p:nvSpPr>
        <p:spPr>
          <a:xfrm>
            <a:off x="1117440" y="1333440"/>
            <a:ext cx="69120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IT F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STARS CAN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sson 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8110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dog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2 dog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8" name="图片 1" descr=""/>
          <p:cNvPicPr/>
          <p:nvPr/>
        </p:nvPicPr>
        <p:blipFill>
          <a:blip r:embed="rId1"/>
          <a:stretch/>
        </p:blipFill>
        <p:spPr>
          <a:xfrm>
            <a:off x="1660680" y="3147840"/>
            <a:ext cx="37242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22200" y="6840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book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four book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矩形 4"/>
          <p:cNvSpPr/>
          <p:nvPr/>
        </p:nvSpPr>
        <p:spPr>
          <a:xfrm>
            <a:off x="322200" y="1028880"/>
            <a:ext cx="58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片 1" descr=""/>
          <p:cNvPicPr/>
          <p:nvPr/>
        </p:nvPicPr>
        <p:blipFill>
          <a:blip r:embed="rId1"/>
          <a:stretch/>
        </p:blipFill>
        <p:spPr>
          <a:xfrm>
            <a:off x="1598760" y="2940120"/>
            <a:ext cx="3152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893520"/>
            <a:ext cx="82296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computer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only one computer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3" name="图片 5" descr=""/>
          <p:cNvPicPr/>
          <p:nvPr/>
        </p:nvPicPr>
        <p:blipFill>
          <a:blip r:embed="rId1"/>
          <a:stretch/>
        </p:blipFill>
        <p:spPr>
          <a:xfrm>
            <a:off x="2324160" y="3595680"/>
            <a:ext cx="3314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8110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phone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3 phon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5" name="图片 4" descr=""/>
          <p:cNvPicPr/>
          <p:nvPr/>
        </p:nvPicPr>
        <p:blipFill>
          <a:blip r:embed="rId1"/>
          <a:srcRect l="0" t="0" r="0" b="18760"/>
          <a:stretch/>
        </p:blipFill>
        <p:spPr>
          <a:xfrm>
            <a:off x="1020600" y="3335400"/>
            <a:ext cx="2810160" cy="170316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5" descr=""/>
          <p:cNvPicPr/>
          <p:nvPr/>
        </p:nvPicPr>
        <p:blipFill>
          <a:blip r:embed="rId2"/>
          <a:stretch/>
        </p:blipFill>
        <p:spPr>
          <a:xfrm>
            <a:off x="4392720" y="2943360"/>
            <a:ext cx="25621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60300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car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2 car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8" name="图片 3" descr=""/>
          <p:cNvPicPr/>
          <p:nvPr/>
        </p:nvPicPr>
        <p:blipFill>
          <a:blip r:embed="rId1"/>
          <a:stretch/>
        </p:blipFill>
        <p:spPr>
          <a:xfrm>
            <a:off x="4473720" y="3387600"/>
            <a:ext cx="3352680" cy="20955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" descr=""/>
          <p:cNvPicPr/>
          <p:nvPr/>
        </p:nvPicPr>
        <p:blipFill>
          <a:blip r:embed="rId2"/>
          <a:srcRect l="-1235" t="5600" r="5068" b="16063"/>
          <a:stretch/>
        </p:blipFill>
        <p:spPr>
          <a:xfrm>
            <a:off x="909720" y="4164120"/>
            <a:ext cx="322416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96660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house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2 hous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1" name="图片 4" descr=""/>
          <p:cNvPicPr/>
          <p:nvPr/>
        </p:nvPicPr>
        <p:blipFill>
          <a:blip r:embed="rId1"/>
          <a:stretch/>
        </p:blipFill>
        <p:spPr>
          <a:xfrm>
            <a:off x="755640" y="3884760"/>
            <a:ext cx="2324160" cy="182556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" descr=""/>
          <p:cNvPicPr/>
          <p:nvPr/>
        </p:nvPicPr>
        <p:blipFill>
          <a:blip r:embed="rId2"/>
          <a:stretch/>
        </p:blipFill>
        <p:spPr>
          <a:xfrm>
            <a:off x="3544920" y="4106880"/>
            <a:ext cx="2730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124596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rabbit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3 rabbit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4" name="图片 1" descr=""/>
          <p:cNvPicPr/>
          <p:nvPr/>
        </p:nvPicPr>
        <p:blipFill>
          <a:blip r:embed="rId1"/>
          <a:stretch/>
        </p:blipFill>
        <p:spPr>
          <a:xfrm>
            <a:off x="1847880" y="3502080"/>
            <a:ext cx="39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4596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bag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2 bag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6" name="图片 3" descr=""/>
          <p:cNvPicPr/>
          <p:nvPr/>
        </p:nvPicPr>
        <p:blipFill>
          <a:blip r:embed="rId1"/>
          <a:srcRect l="0" t="0" r="0" b="8847"/>
          <a:stretch/>
        </p:blipFill>
        <p:spPr>
          <a:xfrm>
            <a:off x="3098880" y="3419640"/>
            <a:ext cx="3152520" cy="22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24596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cat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2 cat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8" name="图片 4" descr=""/>
          <p:cNvPicPr/>
          <p:nvPr/>
        </p:nvPicPr>
        <p:blipFill>
          <a:blip r:embed="rId1"/>
          <a:stretch/>
        </p:blipFill>
        <p:spPr>
          <a:xfrm>
            <a:off x="3675240" y="2919240"/>
            <a:ext cx="2071440" cy="196236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2" descr=""/>
          <p:cNvPicPr/>
          <p:nvPr/>
        </p:nvPicPr>
        <p:blipFill>
          <a:blip r:embed="rId2"/>
          <a:stretch/>
        </p:blipFill>
        <p:spPr>
          <a:xfrm>
            <a:off x="1114560" y="291924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zh-CN" sz="9600" spc="-1" strike="noStrike">
                <a:solidFill>
                  <a:srgbClr val="ffffff"/>
                </a:solidFill>
                <a:latin typeface="Trebuchet MS"/>
              </a:rPr>
              <a:t>Bye-bye</a:t>
            </a:r>
            <a:r>
              <a:rPr b="0" lang="zh-CN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500" spc="-1" strike="noStrike">
                <a:solidFill>
                  <a:srgbClr val="90c226"/>
                </a:solidFill>
                <a:latin typeface="Trebuchet MS"/>
              </a:rPr>
              <a:t>Let’s learn and say!</a:t>
            </a:r>
            <a:endParaRPr b="0" lang="en-US" sz="115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90c226"/>
                </a:solidFill>
                <a:latin typeface="Trebuchet MS"/>
              </a:rPr>
              <a:t>R</a:t>
            </a:r>
            <a:br>
              <a:rPr sz="8800"/>
            </a:br>
            <a:r>
              <a:rPr b="0" lang="en-US" sz="8800" spc="-1" strike="noStrike">
                <a:solidFill>
                  <a:srgbClr val="90c226"/>
                </a:solidFill>
                <a:latin typeface="Trebuchet MS"/>
              </a:rPr>
              <a:t>snake</a:t>
            </a:r>
            <a:br>
              <a:rPr sz="8800"/>
            </a:br>
            <a:r>
              <a:rPr b="0" lang="en-US" sz="8800" spc="-1" strike="noStrike">
                <a:solidFill>
                  <a:srgbClr val="90c226"/>
                </a:solidFill>
                <a:latin typeface="Trebuchet MS"/>
              </a:rPr>
              <a:t>rabbit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5" descr=""/>
          <p:cNvPicPr/>
          <p:nvPr/>
        </p:nvPicPr>
        <p:blipFill>
          <a:blip r:embed="rId1"/>
          <a:stretch/>
        </p:blipFill>
        <p:spPr>
          <a:xfrm>
            <a:off x="1523880" y="1528920"/>
            <a:ext cx="4591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         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nake 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</a:rPr>
              <a:t>蛇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0" name="图片 2" descr=""/>
          <p:cNvPicPr/>
          <p:nvPr/>
        </p:nvPicPr>
        <p:blipFill>
          <a:blip r:embed="rId1"/>
          <a:srcRect l="0" t="0" r="0" b="16097"/>
          <a:stretch/>
        </p:blipFill>
        <p:spPr>
          <a:xfrm>
            <a:off x="1835280" y="2190600"/>
            <a:ext cx="3352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         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rabbit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</a:rPr>
              <a:t>兔子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2" name="图片 3" descr=""/>
          <p:cNvPicPr/>
          <p:nvPr/>
        </p:nvPicPr>
        <p:blipFill>
          <a:blip r:embed="rId1"/>
          <a:srcRect l="6926" t="0" r="0" b="11132"/>
          <a:stretch/>
        </p:blipFill>
        <p:spPr>
          <a:xfrm>
            <a:off x="2343240" y="1930320"/>
            <a:ext cx="31208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6680" y="2114640"/>
            <a:ext cx="822960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90c226"/>
                </a:solidFill>
                <a:latin typeface="Trebuchet MS"/>
              </a:rPr>
              <a:t>Let’s  practice!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6560" y="873000"/>
            <a:ext cx="808524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How many … can you see?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I can see ...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20492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apple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3 appl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6" name="图片 1" descr=""/>
          <p:cNvPicPr/>
          <p:nvPr/>
        </p:nvPicPr>
        <p:blipFill>
          <a:blip r:embed="rId1"/>
          <a:srcRect l="0" t="0" r="0" b="6373"/>
          <a:stretch/>
        </p:blipFill>
        <p:spPr>
          <a:xfrm>
            <a:off x="1290600" y="3036960"/>
            <a:ext cx="3143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ion</dc:creator>
  <dc:description/>
  <dc:language>en-US</dc:language>
  <cp:lastModifiedBy>Administrator</cp:lastModifiedBy>
  <dcterms:modified xsi:type="dcterms:W3CDTF">2017-04-19T09:22:18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