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788-AC1A-4E66-8585-4E2FBBC5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285-6933-4B16-9792-E5BB0B95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3CB-0274-4E0D-9BD4-061168F4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164-084F-4999-B0F5-5931A326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E710-5512-4255-B396-3A9036FC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5DDD-0CBC-43D7-839C-4A65BA4D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E180-F091-47B9-AC11-499D585D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CCE9-1656-45AE-BFBA-EE35A912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E488-280D-4236-A37E-5D28E396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A245-F6A3-47C3-8D42-5E8B74D2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BCD5-BA32-4421-9EE0-6BBCE96C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02A-D6BF-4E6E-B365-CC12FA04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C0B2-42B1-412B-AA4D-27732D79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F6D7-2B5E-486A-92E6-8BBDBDED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FDF3-F9E1-4F27-B7F5-35399885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D46D-EBD1-47DB-A455-A1F60B2D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C987-5312-47D8-99EE-2C895B94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A2DC-2D95-4CD9-942A-B20286B5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F8A13-6B25-4576-A365-F4EF864A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05E7-90D7-406C-83CF-C252430C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5D51-3B53-4A72-B90E-A98C529B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665F-27EF-49A7-99C1-DEB31222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CDF-0AB5-41E8-BFFB-D7990CF1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FCFE-374F-466F-B6BF-E6008419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37C3-ACC0-4CC5-A303-A405E982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12CB6-91B4-4971-B23B-39277A14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F44F-EABE-4EC5-BF11-3307F968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565D-21BA-4373-95CF-3368E43E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53D8-6398-40A6-8386-9B17EF62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0C2E3-1E6B-4487-BD35-DC464302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9C5-91AE-48A5-9DE1-8AB61D9C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6C5-3A11-4F7E-BF4B-FB0A80AA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CE2-CBB0-4D33-9803-69E90965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063-DBF1-40FF-ACC2-F21774ED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0B4-E3FC-43AD-AB07-9598DBB2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BD2-59FC-469C-9585-E557C0D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4351-AF97-4743-992D-1AA8D53E95BF}" type="slidenum">
              <a:rPr b="0" lang="en-US" sz="1200" spc="-1" strike="noStrike">
                <a:solidFill>
                  <a:srgbClr val="d1eae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4" name="Picture 53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7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pic>
        <p:nvPicPr>
          <p:cNvPr id="60" name="Picture 53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官方logo"/>
          <p:cNvPicPr/>
          <p:nvPr/>
        </p:nvPicPr>
        <p:blipFill>
          <a:blip r:embed="rId6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CCF0-4491-48F3-8CFA-B8E15EF09389}" type="slidenum">
              <a:rPr b="0" lang="en-US" sz="1200" spc="-1" strike="noStrike">
                <a:solidFill>
                  <a:srgbClr val="d1eae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C0B2-62F4-487D-A5DA-B4964980E281}" type="slidenum">
              <a:rPr b="0" lang="en-US" sz="1200" spc="-1" strike="noStrike">
                <a:solidFill>
                  <a:srgbClr val="d1eae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jpeg"/><Relationship Id="rId3" Type="http://schemas.openxmlformats.org/officeDocument/2006/relationships/image" Target="../media/image25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9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201010915418474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2833560" y="2595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沪教牛津版）一年级英语下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0" name="Picture 10" descr="butterfly"/>
          <p:cNvPicPr/>
          <p:nvPr/>
        </p:nvPicPr>
        <p:blipFill>
          <a:blip r:embed="rId2"/>
          <a:stretch/>
        </p:blipFill>
        <p:spPr>
          <a:xfrm rot="1381200">
            <a:off x="6012000" y="2781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20081299145492_2"/>
          <p:cNvPicPr/>
          <p:nvPr/>
        </p:nvPicPr>
        <p:blipFill>
          <a:blip r:embed="rId3"/>
          <a:srcRect l="0" t="5474" r="0" b="0"/>
          <a:stretch/>
        </p:blipFill>
        <p:spPr>
          <a:xfrm rot="20677800">
            <a:off x="2354400" y="2603160"/>
            <a:ext cx="1555560" cy="1965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bee"/>
          <p:cNvPicPr/>
          <p:nvPr/>
        </p:nvPicPr>
        <p:blipFill>
          <a:blip r:embed="rId4"/>
          <a:srcRect l="0" t="0" r="-548" b="3307"/>
          <a:stretch/>
        </p:blipFill>
        <p:spPr>
          <a:xfrm rot="1191600">
            <a:off x="539280" y="4365720"/>
            <a:ext cx="2376720" cy="19414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3"/>
          <p:cNvSpPr/>
          <p:nvPr/>
        </p:nvSpPr>
        <p:spPr>
          <a:xfrm>
            <a:off x="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it 2 Small animals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8" descr="2009218223530401_2"/>
          <p:cNvPicPr/>
          <p:nvPr/>
        </p:nvPicPr>
        <p:blipFill>
          <a:blip r:embed="rId5"/>
          <a:srcRect l="0" t="0" r="0" b="7577"/>
          <a:stretch/>
        </p:blipFill>
        <p:spPr>
          <a:xfrm rot="1353000">
            <a:off x="4242960" y="3939840"/>
            <a:ext cx="15843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52480" y="5734080"/>
            <a:ext cx="829152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onstantia"/>
              </a:rPr>
              <a:t>butter</a:t>
            </a:r>
            <a:r>
              <a:rPr b="0" lang="en-US" sz="3900" spc="-1" strike="noStrike">
                <a:solidFill>
                  <a:srgbClr val="ff3300"/>
                </a:solidFill>
                <a:latin typeface="Constantia"/>
              </a:rPr>
              <a:t>fly</a:t>
            </a: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Picture 4" descr="butterfly"/>
          <p:cNvPicPr/>
          <p:nvPr/>
        </p:nvPicPr>
        <p:blipFill>
          <a:blip r:embed="rId1"/>
          <a:stretch/>
        </p:blipFill>
        <p:spPr>
          <a:xfrm>
            <a:off x="684360" y="333360"/>
            <a:ext cx="7489800" cy="50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Picture 5" descr="4486591_201214002366_2"/>
          <p:cNvPicPr/>
          <p:nvPr/>
        </p:nvPicPr>
        <p:blipFill>
          <a:blip r:embed="rId1"/>
          <a:srcRect l="0" t="0" r="0" b="5543"/>
          <a:stretch/>
        </p:blipFill>
        <p:spPr>
          <a:xfrm>
            <a:off x="0" y="-1684440"/>
            <a:ext cx="9753480" cy="91141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7"/>
          <p:cNvSpPr/>
          <p:nvPr/>
        </p:nvSpPr>
        <p:spPr>
          <a:xfrm>
            <a:off x="0" y="476280"/>
            <a:ext cx="6659640" cy="2521080"/>
          </a:xfrm>
          <a:prstGeom prst="flowChartMagneticTap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116000" y="692280"/>
            <a:ext cx="504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utter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ly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utter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ly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 am a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utter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ly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AutoShape 8"/>
          <p:cNvSpPr/>
          <p:nvPr/>
        </p:nvSpPr>
        <p:spPr>
          <a:xfrm rot="12040200">
            <a:off x="539640" y="5229360"/>
            <a:ext cx="3600720" cy="1079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9"/>
          <p:cNvSpPr/>
          <p:nvPr/>
        </p:nvSpPr>
        <p:spPr>
          <a:xfrm rot="1323600">
            <a:off x="1257840" y="5429160"/>
            <a:ext cx="25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 can </a:t>
            </a:r>
            <a:r>
              <a:rPr b="1" lang="en-US" sz="4400" spc="-1" strike="noStrike">
                <a:solidFill>
                  <a:srgbClr val="dbf5f9"/>
                </a:solidFill>
                <a:latin typeface="Comic Sans MS"/>
              </a:rPr>
              <a:t>fly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68480" y="5661000"/>
            <a:ext cx="807552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b</a:t>
            </a:r>
            <a:r>
              <a:rPr b="0" lang="en-US" sz="5200" spc="-1" strike="noStrike">
                <a:solidFill>
                  <a:srgbClr val="ff3300"/>
                </a:solidFill>
                <a:latin typeface="Constantia"/>
              </a:rPr>
              <a:t>ir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d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Picture 5" descr="558801_212"/>
          <p:cNvPicPr/>
          <p:nvPr/>
        </p:nvPicPr>
        <p:blipFill>
          <a:blip r:embed="rId1"/>
          <a:stretch/>
        </p:blipFill>
        <p:spPr>
          <a:xfrm>
            <a:off x="1042920" y="189000"/>
            <a:ext cx="6912000" cy="52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Picture 5" descr="20120227084720_WSeHC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7"/>
          <p:cNvSpPr/>
          <p:nvPr/>
        </p:nvSpPr>
        <p:spPr>
          <a:xfrm>
            <a:off x="250920" y="1700280"/>
            <a:ext cx="6913440" cy="2232000"/>
          </a:xfrm>
          <a:prstGeom prst="flowChartMagneticTap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547640" y="907920"/>
            <a:ext cx="49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Bird, bird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I am a bird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AutoShape 9"/>
          <p:cNvSpPr/>
          <p:nvPr/>
        </p:nvSpPr>
        <p:spPr>
          <a:xfrm rot="9996000">
            <a:off x="1475640" y="5229000"/>
            <a:ext cx="3600360" cy="1079280"/>
          </a:xfrm>
          <a:prstGeom prst="wedgeEllipseCallout">
            <a:avLst>
              <a:gd name="adj1" fmla="val -25245"/>
              <a:gd name="adj2" fmla="val 3692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8"/>
          <p:cNvSpPr/>
          <p:nvPr/>
        </p:nvSpPr>
        <p:spPr>
          <a:xfrm rot="20988600">
            <a:off x="2061000" y="5373720"/>
            <a:ext cx="25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 can </a:t>
            </a:r>
            <a:r>
              <a:rPr b="1" lang="en-US" sz="4400" spc="-1" strike="noStrike">
                <a:solidFill>
                  <a:srgbClr val="dbf5f9"/>
                </a:solidFill>
                <a:latin typeface="Comic Sans MS"/>
              </a:rPr>
              <a:t>fly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996480" y="566064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fr</a:t>
            </a:r>
            <a:r>
              <a:rPr b="0" lang="en-US" sz="5200" spc="-1" strike="noStrike">
                <a:solidFill>
                  <a:srgbClr val="ff3300"/>
                </a:solidFill>
                <a:latin typeface="Constantia"/>
              </a:rPr>
              <a:t>o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g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4" descr="frog"/>
          <p:cNvPicPr/>
          <p:nvPr/>
        </p:nvPicPr>
        <p:blipFill>
          <a:blip r:embed="rId1"/>
          <a:stretch/>
        </p:blipFill>
        <p:spPr>
          <a:xfrm>
            <a:off x="324000" y="189000"/>
            <a:ext cx="755964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20081299145492_2"/>
          <p:cNvPicPr/>
          <p:nvPr/>
        </p:nvPicPr>
        <p:blipFill>
          <a:blip r:embed="rId1"/>
          <a:srcRect l="0" t="3924" r="0" b="0"/>
          <a:stretch/>
        </p:blipFill>
        <p:spPr>
          <a:xfrm>
            <a:off x="4427640" y="500040"/>
            <a:ext cx="4573440" cy="58705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179280" y="1628640"/>
            <a:ext cx="6158160" cy="2232000"/>
          </a:xfrm>
          <a:prstGeom prst="flowChartMagneticTap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042920" y="907920"/>
            <a:ext cx="49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rog,frog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am a frog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AutoShape 9"/>
          <p:cNvSpPr/>
          <p:nvPr/>
        </p:nvSpPr>
        <p:spPr>
          <a:xfrm rot="12040200">
            <a:off x="1115640" y="4941000"/>
            <a:ext cx="3600360" cy="1079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10"/>
          <p:cNvSpPr/>
          <p:nvPr/>
        </p:nvSpPr>
        <p:spPr>
          <a:xfrm rot="1042200">
            <a:off x="1765440" y="523836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 can </a:t>
            </a:r>
            <a:r>
              <a:rPr b="1" lang="en-US" sz="3600" spc="-1" strike="noStrike">
                <a:solidFill>
                  <a:srgbClr val="dbf5f9"/>
                </a:solidFill>
                <a:latin typeface="Comic Sans MS"/>
              </a:rPr>
              <a:t>jump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1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9"/>
          <p:cNvSpPr/>
          <p:nvPr/>
        </p:nvSpPr>
        <p:spPr>
          <a:xfrm>
            <a:off x="3419640" y="2924280"/>
            <a:ext cx="23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utterfl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745640" y="144936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Arial"/>
              </a:rPr>
              <a:t>bir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242720" y="548172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rabbi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6" descr="rabbit"/>
          <p:cNvPicPr/>
          <p:nvPr/>
        </p:nvPicPr>
        <p:blipFill>
          <a:blip r:embed="rId1"/>
          <a:stretch/>
        </p:blipFill>
        <p:spPr>
          <a:xfrm>
            <a:off x="324000" y="396864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6443640" y="53006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ro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0" name="Picture 5" descr="frog"/>
          <p:cNvPicPr/>
          <p:nvPr/>
        </p:nvPicPr>
        <p:blipFill>
          <a:blip r:embed="rId2"/>
          <a:stretch/>
        </p:blipFill>
        <p:spPr>
          <a:xfrm>
            <a:off x="5292720" y="3933720"/>
            <a:ext cx="3457440" cy="2595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bird"/>
          <p:cNvPicPr/>
          <p:nvPr/>
        </p:nvPicPr>
        <p:blipFill>
          <a:blip r:embed="rId3"/>
          <a:stretch/>
        </p:blipFill>
        <p:spPr>
          <a:xfrm>
            <a:off x="395280" y="404640"/>
            <a:ext cx="3168720" cy="23781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3"/>
          <p:cNvSpPr/>
          <p:nvPr/>
        </p:nvSpPr>
        <p:spPr>
          <a:xfrm>
            <a:off x="6879600" y="12682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dd9"/>
                </a:solidFill>
                <a:latin typeface="Arial"/>
              </a:rPr>
              <a:t>be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4" descr="butterfly"/>
          <p:cNvPicPr/>
          <p:nvPr/>
        </p:nvPicPr>
        <p:blipFill>
          <a:blip r:embed="rId4"/>
          <a:stretch/>
        </p:blipFill>
        <p:spPr>
          <a:xfrm>
            <a:off x="291636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bee"/>
          <p:cNvPicPr/>
          <p:nvPr/>
        </p:nvPicPr>
        <p:blipFill>
          <a:blip r:embed="rId5"/>
          <a:srcRect l="0" t="0" r="-548" b="3307"/>
          <a:stretch/>
        </p:blipFill>
        <p:spPr>
          <a:xfrm>
            <a:off x="5003640" y="260280"/>
            <a:ext cx="338472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1908360" y="0"/>
            <a:ext cx="6870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Gues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1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               </a:t>
            </a:r>
            <a:r>
              <a:rPr b="0" lang="en-US" sz="4100" spc="-1" strike="noStrike">
                <a:solidFill>
                  <a:srgbClr val="ffffff"/>
                </a:solidFill>
                <a:latin typeface="Constantia"/>
              </a:rPr>
              <a:t>b_____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2556000" y="544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bird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148360" y="5445000"/>
            <a:ext cx="213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butterfl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9" name="Picture 11" descr="butterfly2"/>
          <p:cNvPicPr/>
          <p:nvPr/>
        </p:nvPicPr>
        <p:blipFill>
          <a:blip r:embed="rId3"/>
          <a:srcRect l="0" t="4479" r="38" b="2891"/>
          <a:stretch/>
        </p:blipFill>
        <p:spPr>
          <a:xfrm>
            <a:off x="2195640" y="2276640"/>
            <a:ext cx="42480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Gues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1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               </a:t>
            </a:r>
            <a:r>
              <a:rPr b="0" lang="en-US" sz="4100" spc="-1" strike="noStrike">
                <a:solidFill>
                  <a:srgbClr val="3333cc"/>
                </a:solidFill>
                <a:latin typeface="Constantia"/>
              </a:rPr>
              <a:t>butterfly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Picture 4" descr="butterfly2"/>
          <p:cNvPicPr/>
          <p:nvPr/>
        </p:nvPicPr>
        <p:blipFill>
          <a:blip r:embed="rId1"/>
          <a:srcRect l="0" t="4479" r="1720" b="2891"/>
          <a:stretch/>
        </p:blipFill>
        <p:spPr>
          <a:xfrm>
            <a:off x="2195640" y="227664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684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                  </a:t>
            </a:r>
            <a:r>
              <a:rPr b="0" lang="en-US" sz="4200" spc="-1" strike="noStrike">
                <a:solidFill>
                  <a:srgbClr val="dbf5f9"/>
                </a:solidFill>
                <a:latin typeface="Calibri"/>
              </a:rPr>
              <a:t>r_______</a:t>
            </a:r>
            <a:endParaRPr b="0" lang="en-US" sz="4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414880" y="5157720"/>
            <a:ext cx="16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rubb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295600" y="522936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rabbi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6" name="Picture 9" descr="00219740822d0cca25d62d"/>
          <p:cNvPicPr/>
          <p:nvPr/>
        </p:nvPicPr>
        <p:blipFill>
          <a:blip r:embed="rId3"/>
          <a:srcRect l="0" t="26806" r="0" b="0"/>
          <a:stretch/>
        </p:blipFill>
        <p:spPr>
          <a:xfrm>
            <a:off x="1692360" y="2357280"/>
            <a:ext cx="5286240" cy="25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93 -7.40741E-007 L 6.11111E-006 -7.40741E-007 E">
                                      <p:cBhvr>
                                        <p:cTn id="366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7 -2.96296E-006 L 0.83924 -0.00486 E">
                                      <p:cBhvr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1258187398kj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00"/>
                </a:solidFill>
                <a:latin typeface="Calibri"/>
              </a:rPr>
              <a:t>GUESS</a:t>
            </a:r>
            <a:r>
              <a:rPr b="0" lang="zh-CN" sz="5000" spc="-1" strike="noStrike">
                <a:solidFill>
                  <a:srgbClr val="ff3300"/>
                </a:solidFill>
                <a:latin typeface="Calibri"/>
              </a:rPr>
              <a:t>猜一猜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11280" y="206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small and whit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can jump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like to eat carrot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                      </a:t>
            </a:r>
            <a:r>
              <a:rPr b="0" lang="en-US" sz="4600" spc="-1" strike="noStrike">
                <a:solidFill>
                  <a:srgbClr val="dbf5f9"/>
                </a:solidFill>
                <a:latin typeface="Calibri"/>
              </a:rPr>
              <a:t>rabbit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8" name="Picture 3" descr="00219740822d0cca25d62d"/>
          <p:cNvPicPr/>
          <p:nvPr/>
        </p:nvPicPr>
        <p:blipFill>
          <a:blip r:embed="rId1"/>
          <a:srcRect l="0" t="29848" r="0" b="0"/>
          <a:stretch/>
        </p:blipFill>
        <p:spPr>
          <a:xfrm>
            <a:off x="2617920" y="3143160"/>
            <a:ext cx="6526080" cy="30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52480" y="5734080"/>
            <a:ext cx="829152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Constantia"/>
              </a:rPr>
              <a:t>I see a butter</a:t>
            </a:r>
            <a:r>
              <a:rPr b="0" lang="en-US" sz="3900" spc="-1" strike="noStrike">
                <a:solidFill>
                  <a:srgbClr val="ff3300"/>
                </a:solidFill>
                <a:latin typeface="Constantia"/>
              </a:rPr>
              <a:t>fly.</a:t>
            </a: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Picture 3" descr="butterfly"/>
          <p:cNvPicPr/>
          <p:nvPr/>
        </p:nvPicPr>
        <p:blipFill>
          <a:blip r:embed="rId1"/>
          <a:stretch/>
        </p:blipFill>
        <p:spPr>
          <a:xfrm>
            <a:off x="1692360" y="1082520"/>
            <a:ext cx="6481800" cy="43642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491040" y="117360"/>
            <a:ext cx="564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What  do you see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rabbit"/>
          <p:cNvPicPr/>
          <p:nvPr/>
        </p:nvPicPr>
        <p:blipFill>
          <a:blip r:embed="rId1"/>
          <a:srcRect l="0" t="0" r="0" b="4872"/>
          <a:stretch/>
        </p:blipFill>
        <p:spPr>
          <a:xfrm>
            <a:off x="1403280" y="981000"/>
            <a:ext cx="6913800" cy="4103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25200" y="5589360"/>
            <a:ext cx="82184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3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I see a r</a:t>
            </a:r>
            <a:r>
              <a:rPr b="0" lang="en-US" sz="5200" spc="-1" strike="noStrike">
                <a:solidFill>
                  <a:srgbClr val="ff3300"/>
                </a:solidFill>
                <a:latin typeface="Constantia"/>
              </a:rPr>
              <a:t>a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bb</a:t>
            </a:r>
            <a:r>
              <a:rPr b="0" lang="en-US" sz="52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t.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91040" y="117360"/>
            <a:ext cx="564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What  do you see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bird"/>
          <p:cNvPicPr/>
          <p:nvPr/>
        </p:nvPicPr>
        <p:blipFill>
          <a:blip r:embed="rId1"/>
          <a:stretch/>
        </p:blipFill>
        <p:spPr>
          <a:xfrm>
            <a:off x="1763640" y="1069920"/>
            <a:ext cx="6408720" cy="43750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8480" y="5661000"/>
            <a:ext cx="807552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3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I see a b</a:t>
            </a:r>
            <a:r>
              <a:rPr b="0" lang="en-US" sz="5200" spc="-1" strike="noStrike">
                <a:solidFill>
                  <a:srgbClr val="ff3300"/>
                </a:solidFill>
                <a:latin typeface="Constantia"/>
              </a:rPr>
              <a:t>ir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d.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91040" y="117360"/>
            <a:ext cx="564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What  do you see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996480" y="558936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3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I see a fr</a:t>
            </a:r>
            <a:r>
              <a:rPr b="0" lang="en-US" sz="5200" spc="-1" strike="noStrike">
                <a:solidFill>
                  <a:srgbClr val="ff3300"/>
                </a:solidFill>
                <a:latin typeface="Constantia"/>
              </a:rPr>
              <a:t>o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g.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9" name="Picture 3" descr="frog"/>
          <p:cNvPicPr/>
          <p:nvPr/>
        </p:nvPicPr>
        <p:blipFill>
          <a:blip r:embed="rId1"/>
          <a:stretch/>
        </p:blipFill>
        <p:spPr>
          <a:xfrm>
            <a:off x="1619280" y="1001880"/>
            <a:ext cx="6480000" cy="4441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491040" y="117360"/>
            <a:ext cx="564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What  do you see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598560" y="566064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I see a b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ee</a:t>
            </a: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 .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Picture 4" descr="bee"/>
          <p:cNvPicPr/>
          <p:nvPr/>
        </p:nvPicPr>
        <p:blipFill>
          <a:blip r:embed="rId1"/>
          <a:srcRect l="0" t="0" r="-548" b="3307"/>
          <a:stretch/>
        </p:blipFill>
        <p:spPr>
          <a:xfrm>
            <a:off x="1547640" y="981000"/>
            <a:ext cx="6048720" cy="45846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491040" y="117360"/>
            <a:ext cx="564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What  do you see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08000" y="262080"/>
            <a:ext cx="9036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What  do you see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你看见什么了？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I  see  a...(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表示物的名词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看见一（只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个、、）。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快快快"/>
          <p:cNvPicPr/>
          <p:nvPr/>
        </p:nvPicPr>
        <p:blipFill>
          <a:blip r:embed="rId1"/>
          <a:stretch/>
        </p:blipFill>
        <p:spPr>
          <a:xfrm>
            <a:off x="250920" y="3476520"/>
            <a:ext cx="3889440" cy="2610000"/>
          </a:xfrm>
          <a:prstGeom prst="rect">
            <a:avLst/>
          </a:prstGeom>
          <a:ln w="0">
            <a:noFill/>
          </a:ln>
        </p:spPr>
      </p:pic>
      <p:pic>
        <p:nvPicPr>
          <p:cNvPr id="246" name="WordArt 6" descr=""/>
          <p:cNvPicPr/>
          <p:nvPr/>
        </p:nvPicPr>
        <p:blipFill>
          <a:blip r:embed="rId2"/>
          <a:stretch/>
        </p:blipFill>
        <p:spPr>
          <a:xfrm>
            <a:off x="2975040" y="974880"/>
            <a:ext cx="4668840" cy="253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6391165_041837039655_2"/>
          <p:cNvPicPr/>
          <p:nvPr/>
        </p:nvPicPr>
        <p:blipFill>
          <a:blip r:embed="rId3"/>
          <a:srcRect l="0" t="0" r="0" b="13502"/>
          <a:stretch/>
        </p:blipFill>
        <p:spPr>
          <a:xfrm>
            <a:off x="3924360" y="4292640"/>
            <a:ext cx="4284720" cy="17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1258187398kj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25200" y="5516280"/>
            <a:ext cx="82184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5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5200" spc="-1" strike="noStrike">
                <a:solidFill>
                  <a:srgbClr val="000000"/>
                </a:solidFill>
                <a:latin typeface="Constantia"/>
              </a:rPr>
              <a:t>bb</a:t>
            </a:r>
            <a:r>
              <a:rPr b="0" lang="en-US" sz="52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0" lang="en-US" sz="52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0" name="Picture 3" descr="rabbit"/>
          <p:cNvPicPr/>
          <p:nvPr/>
        </p:nvPicPr>
        <p:blipFill>
          <a:blip r:embed="rId2"/>
          <a:srcRect l="0" t="0" r="0" b="6585"/>
          <a:stretch/>
        </p:blipFill>
        <p:spPr>
          <a:xfrm>
            <a:off x="611280" y="404640"/>
            <a:ext cx="7705800" cy="459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5968981_175849067012_2"/>
          <p:cNvPicPr/>
          <p:nvPr/>
        </p:nvPicPr>
        <p:blipFill>
          <a:blip r:embed="rId1"/>
          <a:srcRect l="0" t="0" r="0" b="4503"/>
          <a:stretch/>
        </p:blipFill>
        <p:spPr>
          <a:xfrm>
            <a:off x="900000" y="404640"/>
            <a:ext cx="7344000" cy="48816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2124000" y="5589720"/>
            <a:ext cx="821844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four rabbit</a:t>
            </a:r>
            <a:r>
              <a:rPr b="0" lang="en-US" sz="5600" spc="-1" strike="noStrike">
                <a:solidFill>
                  <a:srgbClr val="d60093"/>
                </a:solidFill>
                <a:latin typeface="Comic Sans MS"/>
              </a:rPr>
              <a:t>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24000" y="1483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 see ________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4" name="Picture 3" descr="rabbit"/>
          <p:cNvPicPr/>
          <p:nvPr/>
        </p:nvPicPr>
        <p:blipFill>
          <a:blip r:embed="rId1"/>
          <a:srcRect l="0" t="5743" r="0" b="4817"/>
          <a:stretch/>
        </p:blipFill>
        <p:spPr>
          <a:xfrm>
            <a:off x="2843280" y="1428840"/>
            <a:ext cx="2160360" cy="13572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0" y="32130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 see ________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5" descr="4028702_094132021114_2"/>
          <p:cNvPicPr/>
          <p:nvPr/>
        </p:nvPicPr>
        <p:blipFill>
          <a:blip r:embed="rId2"/>
          <a:srcRect l="0" t="0" r="0" b="7953"/>
          <a:stretch/>
        </p:blipFill>
        <p:spPr>
          <a:xfrm>
            <a:off x="2987640" y="3141720"/>
            <a:ext cx="18734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468720" y="11556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Sing a song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11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One little ,two little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nstantia"/>
              </a:rPr>
              <a:t>thre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little rabbit</a:t>
            </a:r>
            <a:r>
              <a:rPr b="0" lang="en-US" sz="2800" spc="-1" strike="noStrike">
                <a:solidFill>
                  <a:srgbClr val="ff3300"/>
                </a:solidFill>
                <a:latin typeface="Constantia"/>
              </a:rPr>
              <a:t>s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 little ,five little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nstantia"/>
              </a:rPr>
              <a:t>six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little rabbit</a:t>
            </a:r>
            <a:r>
              <a:rPr b="0" lang="en-US" sz="2800" spc="-1" strike="noStrike">
                <a:solidFill>
                  <a:srgbClr val="ff3300"/>
                </a:solidFill>
                <a:latin typeface="Constantia"/>
              </a:rPr>
              <a:t>s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 little, eight little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nstantia"/>
              </a:rPr>
              <a:t>nin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little rabbit</a:t>
            </a: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en little paper rabbit</a:t>
            </a: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9" name="Picture 4" descr="4028702_094132021114_2"/>
          <p:cNvPicPr/>
          <p:nvPr/>
        </p:nvPicPr>
        <p:blipFill>
          <a:blip r:embed="rId1"/>
          <a:srcRect l="0" t="0" r="0" b="6670"/>
          <a:stretch/>
        </p:blipFill>
        <p:spPr>
          <a:xfrm rot="21307800">
            <a:off x="5429160" y="3933720"/>
            <a:ext cx="3097440" cy="227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5968981_175849067012_2"/>
          <p:cNvPicPr/>
          <p:nvPr/>
        </p:nvPicPr>
        <p:blipFill>
          <a:blip r:embed="rId2"/>
          <a:srcRect l="0" t="0" r="0" b="6744"/>
          <a:stretch/>
        </p:blipFill>
        <p:spPr>
          <a:xfrm rot="490200">
            <a:off x="5374800" y="1341000"/>
            <a:ext cx="3168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24480" y="5157360"/>
            <a:ext cx="46195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b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ee</a:t>
            </a: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6" descr="bee"/>
          <p:cNvPicPr/>
          <p:nvPr/>
        </p:nvPicPr>
        <p:blipFill>
          <a:blip r:embed="rId1"/>
          <a:srcRect l="0" t="0" r="-548" b="3307"/>
          <a:stretch/>
        </p:blipFill>
        <p:spPr>
          <a:xfrm>
            <a:off x="1187280" y="333360"/>
            <a:ext cx="5865840" cy="47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531 0.12861 C -0.37986 0.15475 -0.3644 0.18089 -0.34704 0.17557 C -0.32968 0.17025 -0.31319 0.11705 -0.29062 0.09715 C -0.26805 0.07726 -0.22951 0.0502 -0.2118 0.05644 C -0.19409 0.06269 -0.21788 0.14805 -0.18472 0.13486 C -0.15156 0.12167 -0.04374 0.000459999999999999 -0.01302 -0.02198 C 0.01771 -0.04441 0.00886 -0.02221 5.55556E-006 3.38191E-006 E">
                                      <p:cBhvr>
                                        <p:cTn id="6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39640" y="1052640"/>
            <a:ext cx="461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33cc"/>
                </a:solidFill>
                <a:latin typeface="Comic Sans MS"/>
              </a:rPr>
              <a:t>Bee, bee,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I am a bee. 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Picture 7" descr="4401074_103801077386_2"/>
          <p:cNvPicPr/>
          <p:nvPr/>
        </p:nvPicPr>
        <p:blipFill>
          <a:blip r:embed="rId1"/>
          <a:srcRect l="0" t="0" r="0" b="3096"/>
          <a:stretch/>
        </p:blipFill>
        <p:spPr>
          <a:xfrm>
            <a:off x="6321600" y="1700280"/>
            <a:ext cx="2822400" cy="3728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2009218223530401_2"/>
          <p:cNvPicPr/>
          <p:nvPr/>
        </p:nvPicPr>
        <p:blipFill>
          <a:blip r:embed="rId2"/>
          <a:srcRect l="0" t="0" r="0" b="4803"/>
          <a:stretch/>
        </p:blipFill>
        <p:spPr>
          <a:xfrm rot="1353000">
            <a:off x="3233880" y="3579840"/>
            <a:ext cx="237312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165420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dbf5f9"/>
                </a:solidFill>
                <a:latin typeface="Calibri"/>
              </a:rPr>
              <a:t>句子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360" y="1412640"/>
            <a:ext cx="2366640" cy="13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onstantia"/>
              </a:rPr>
              <a:t>I       </a:t>
            </a:r>
            <a:r>
              <a:rPr b="0" lang="zh-CN" sz="3600" spc="-1" strike="noStrike">
                <a:solidFill>
                  <a:srgbClr val="ffffff"/>
                </a:solidFill>
                <a:latin typeface="Constantia"/>
              </a:rPr>
              <a:t>我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onstantia"/>
              </a:rPr>
              <a:t>am    </a:t>
            </a:r>
            <a:r>
              <a:rPr b="0" lang="zh-CN" sz="3600" spc="-1" strike="noStrike">
                <a:solidFill>
                  <a:srgbClr val="ffffff"/>
                </a:solidFill>
                <a:latin typeface="Constantia"/>
              </a:rPr>
              <a:t>是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3068280"/>
            <a:ext cx="7704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nstantia"/>
              </a:rPr>
              <a:t>I   am   a  ..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nstantia"/>
              </a:rPr>
              <a:t>我是一个、、、。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5:43:00Z</dcterms:created>
  <dc:creator/>
  <dc:description/>
  <dc:language>en-US</dc:language>
  <cp:lastModifiedBy>dreamsummit</cp:lastModifiedBy>
  <dcterms:modified xsi:type="dcterms:W3CDTF">2015-06-18T09:46:45Z</dcterms:modified>
  <cp:revision>31</cp:revision>
  <dc:subject/>
  <dc:title>Unit 2 Small animals</dc:title>
</cp:coreProperties>
</file>