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B7A-49B0-44A3-9860-2419279C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D3F-9D70-4C4B-8F59-E8505173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489-D059-4CAC-8A7E-13A3BF3E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239-DEC8-4630-937B-DB16C280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7F36-E6C9-44F7-89FA-3BE6DB67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3747-434D-43FB-B088-16C78A03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60DD-3854-4234-A54E-0A196270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FE58-78BB-4C52-8B19-EE6E04CA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FA67-FAC7-4C3B-B3F4-68550E8D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C6B6-B072-4077-A25E-2424256D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5EB3-3B8D-45DA-89CE-9CB2064B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DC0-81DD-487A-8F29-53E352BB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A221-E2E4-4F07-B3E8-D97518E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EFB0-4733-4127-8718-AC43342F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E107-DABF-4B1B-BEE7-B1BADAAE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D065-A216-4FB8-AAD8-9B1369C1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42EE-6B31-43E1-B6CB-4B079AFB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30F-105E-4229-937A-1DFBD86B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1B3-8BFC-4DCD-8381-713E4D6E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D97-595C-4C09-BD4E-A0A8E6BB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344-093F-453C-82CA-BEA0DD9B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DE4-859D-4BE7-B51D-57CB035E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10E-DB72-45E8-98B8-4F43CB7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68A-7F85-4E29-8C82-40798A2B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15C6-8FFA-45A8-94FA-31394996B16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5972-F672-4BEA-8A1C-A32870CABA7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90360" y="2503440"/>
            <a:ext cx="4770360" cy="107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a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相遇问题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640" y="773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北师大版五年级数学上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816280" y="72864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"/>
          <p:cNvSpPr/>
          <p:nvPr/>
        </p:nvSpPr>
        <p:spPr>
          <a:xfrm>
            <a:off x="1241280" y="2303640"/>
            <a:ext cx="62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节课我们主要学习了相遇问题，你掌握相遇问题的解题技巧了吗？和同桌讨论一下吧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67000" y="63828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教学目标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1467000" y="261936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本节课我们来学习相遇问题，同学们要通过图示理解相遇问题的题意，能够解决相关的实际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58640"/>
            <a:ext cx="1521000" cy="1606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27360" y="819000"/>
            <a:ext cx="69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张叔叔要给王阿姨送一份材料，他们约定两人同时坐车出发。遗址公园到天桥的路程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千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000" y="2259000"/>
            <a:ext cx="8575560" cy="3790080"/>
            <a:chOff x="297000" y="2259000"/>
            <a:chExt cx="8575560" cy="3790080"/>
          </a:xfrm>
        </p:grpSpPr>
        <p:grpSp>
          <p:nvGrpSpPr>
            <p:cNvPr id="89" name=""/>
            <p:cNvGrpSpPr/>
            <p:nvPr/>
          </p:nvGrpSpPr>
          <p:grpSpPr>
            <a:xfrm>
              <a:off x="297000" y="2259000"/>
              <a:ext cx="8460360" cy="3790080"/>
              <a:chOff x="297000" y="2259000"/>
              <a:chExt cx="8460360" cy="379008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612720" y="2979720"/>
                <a:ext cx="8144640" cy="2371680"/>
                <a:chOff x="612720" y="2979720"/>
                <a:chExt cx="8144640" cy="23716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903800" y="3340080"/>
                  <a:ext cx="90000" cy="88920"/>
                </a:xfrm>
                <a:prstGeom prst="ellipse">
                  <a:avLst/>
                </a:prstGeom>
                <a:solidFill>
                  <a:srgbClr val="0099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1377720" y="3340080"/>
                  <a:ext cx="6571440" cy="2011320"/>
                  <a:chOff x="1377720" y="3340080"/>
                  <a:chExt cx="6571440" cy="2011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1421640" y="4600440"/>
                    <a:ext cx="121572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6" h="156">
                        <a:moveTo>
                          <a:pt x="0" y="0"/>
                        </a:moveTo>
                        <a:cubicBezTo>
                          <a:pt x="92" y="64"/>
                          <a:pt x="184" y="128"/>
                          <a:pt x="312" y="142"/>
                        </a:cubicBezTo>
                        <a:cubicBezTo>
                          <a:pt x="440" y="156"/>
                          <a:pt x="603" y="120"/>
                          <a:pt x="766" y="85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2682000" y="4645080"/>
                    <a:ext cx="2009520" cy="70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6" h="445">
                        <a:moveTo>
                          <a:pt x="0" y="57"/>
                        </a:moveTo>
                        <a:cubicBezTo>
                          <a:pt x="92" y="97"/>
                          <a:pt x="185" y="137"/>
                          <a:pt x="284" y="199"/>
                        </a:cubicBezTo>
                        <a:cubicBezTo>
                          <a:pt x="383" y="261"/>
                          <a:pt x="449" y="445"/>
                          <a:pt x="595" y="426"/>
                        </a:cubicBezTo>
                        <a:cubicBezTo>
                          <a:pt x="741" y="407"/>
                          <a:pt x="1058" y="156"/>
                          <a:pt x="1162" y="85"/>
                        </a:cubicBezTo>
                        <a:cubicBezTo>
                          <a:pt x="1266" y="14"/>
                          <a:pt x="1242" y="7"/>
                          <a:pt x="121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4752360" y="3430440"/>
                    <a:ext cx="3195000" cy="12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13" h="765">
                        <a:moveTo>
                          <a:pt x="0" y="765"/>
                        </a:moveTo>
                        <a:cubicBezTo>
                          <a:pt x="189" y="734"/>
                          <a:pt x="378" y="704"/>
                          <a:pt x="539" y="652"/>
                        </a:cubicBezTo>
                        <a:cubicBezTo>
                          <a:pt x="700" y="600"/>
                          <a:pt x="780" y="514"/>
                          <a:pt x="964" y="453"/>
                        </a:cubicBezTo>
                        <a:cubicBezTo>
                          <a:pt x="1148" y="392"/>
                          <a:pt x="1469" y="358"/>
                          <a:pt x="1644" y="283"/>
                        </a:cubicBezTo>
                        <a:cubicBezTo>
                          <a:pt x="1819" y="208"/>
                          <a:pt x="1916" y="104"/>
                          <a:pt x="2013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377720" y="4600440"/>
                    <a:ext cx="90000" cy="8892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591640" y="4645080"/>
                    <a:ext cx="90000" cy="8892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4661640" y="4600440"/>
                    <a:ext cx="90360" cy="8892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858800" y="3340080"/>
                    <a:ext cx="90360" cy="8892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612720" y="4149720"/>
                  <a:ext cx="15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隶书"/>
                    </a:rPr>
                    <a:t>遗址公园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277720" y="4240080"/>
                  <a:ext cx="85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隶书"/>
                    </a:rPr>
                    <a:t>郭庄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303440" y="4060800"/>
                  <a:ext cx="853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隶书"/>
                    </a:rPr>
                    <a:t>李村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992720" y="2979720"/>
                  <a:ext cx="764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隶书"/>
                    </a:rPr>
                    <a:t>天桥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97000" y="2259000"/>
                <a:ext cx="7649640" cy="3790080"/>
                <a:chOff x="297000" y="2259000"/>
                <a:chExt cx="7649640" cy="3790080"/>
              </a:xfrm>
            </p:grpSpPr>
            <p:pic>
              <p:nvPicPr>
                <p:cNvPr id="1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2360" y="4824360"/>
                  <a:ext cx="526680" cy="595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002360" y="2933640"/>
                  <a:ext cx="809280" cy="41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327720" y="2259000"/>
                  <a:ext cx="1618920" cy="45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60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千米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/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时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31640" y="5589360"/>
                  <a:ext cx="1618920" cy="45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40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千米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/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时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97000" y="4599000"/>
                  <a:ext cx="1150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楷体_GB2312"/>
                    </a:rPr>
                    <a:t>王阿姨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7721640" y="365436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张叔叔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57360" y="4103640"/>
            <a:ext cx="76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１）估计两人在哪个地方相遇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7360" y="5184720"/>
            <a:ext cx="823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想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：小轿车的速度比面包车快一些，估计他们的相遇地点在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李村附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68440" y="0"/>
            <a:ext cx="8575560" cy="3790080"/>
            <a:chOff x="568440" y="0"/>
            <a:chExt cx="8575560" cy="3790080"/>
          </a:xfrm>
        </p:grpSpPr>
        <p:grpSp>
          <p:nvGrpSpPr>
            <p:cNvPr id="114" name=""/>
            <p:cNvGrpSpPr/>
            <p:nvPr/>
          </p:nvGrpSpPr>
          <p:grpSpPr>
            <a:xfrm>
              <a:off x="568440" y="0"/>
              <a:ext cx="8460360" cy="3790080"/>
              <a:chOff x="568440" y="0"/>
              <a:chExt cx="8460360" cy="37900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884160" y="720720"/>
                <a:ext cx="8144640" cy="2371680"/>
                <a:chOff x="884160" y="720720"/>
                <a:chExt cx="8144640" cy="2371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75240" y="1081080"/>
                  <a:ext cx="90000" cy="88920"/>
                </a:xfrm>
                <a:prstGeom prst="ellipse">
                  <a:avLst/>
                </a:prstGeom>
                <a:solidFill>
                  <a:srgbClr val="0099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1649160" y="1081080"/>
                  <a:ext cx="6571440" cy="2011320"/>
                  <a:chOff x="1649160" y="1081080"/>
                  <a:chExt cx="6571440" cy="2011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1693080" y="2341440"/>
                    <a:ext cx="121572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6" h="156">
                        <a:moveTo>
                          <a:pt x="0" y="0"/>
                        </a:moveTo>
                        <a:cubicBezTo>
                          <a:pt x="92" y="64"/>
                          <a:pt x="184" y="128"/>
                          <a:pt x="312" y="142"/>
                        </a:cubicBezTo>
                        <a:cubicBezTo>
                          <a:pt x="440" y="156"/>
                          <a:pt x="603" y="120"/>
                          <a:pt x="766" y="85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953440" y="2386080"/>
                    <a:ext cx="2009520" cy="70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6" h="445">
                        <a:moveTo>
                          <a:pt x="0" y="57"/>
                        </a:moveTo>
                        <a:cubicBezTo>
                          <a:pt x="92" y="97"/>
                          <a:pt x="185" y="137"/>
                          <a:pt x="284" y="199"/>
                        </a:cubicBezTo>
                        <a:cubicBezTo>
                          <a:pt x="383" y="261"/>
                          <a:pt x="449" y="445"/>
                          <a:pt x="595" y="426"/>
                        </a:cubicBezTo>
                        <a:cubicBezTo>
                          <a:pt x="741" y="407"/>
                          <a:pt x="1058" y="156"/>
                          <a:pt x="1162" y="85"/>
                        </a:cubicBezTo>
                        <a:cubicBezTo>
                          <a:pt x="1266" y="14"/>
                          <a:pt x="1242" y="7"/>
                          <a:pt x="121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23800" y="1171440"/>
                    <a:ext cx="3195000" cy="12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13" h="765">
                        <a:moveTo>
                          <a:pt x="0" y="765"/>
                        </a:moveTo>
                        <a:cubicBezTo>
                          <a:pt x="189" y="734"/>
                          <a:pt x="378" y="704"/>
                          <a:pt x="539" y="652"/>
                        </a:cubicBezTo>
                        <a:cubicBezTo>
                          <a:pt x="700" y="600"/>
                          <a:pt x="780" y="514"/>
                          <a:pt x="964" y="453"/>
                        </a:cubicBezTo>
                        <a:cubicBezTo>
                          <a:pt x="1148" y="392"/>
                          <a:pt x="1469" y="358"/>
                          <a:pt x="1644" y="283"/>
                        </a:cubicBezTo>
                        <a:cubicBezTo>
                          <a:pt x="1819" y="208"/>
                          <a:pt x="1916" y="104"/>
                          <a:pt x="2013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649160" y="2341440"/>
                    <a:ext cx="90000" cy="8892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863080" y="2386080"/>
                    <a:ext cx="90000" cy="8892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933080" y="2341440"/>
                    <a:ext cx="90360" cy="8892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130240" y="1081080"/>
                    <a:ext cx="90360" cy="8892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" name=""/>
                <p:cNvSpPr/>
                <p:nvPr/>
              </p:nvSpPr>
              <p:spPr>
                <a:xfrm>
                  <a:off x="884160" y="1890720"/>
                  <a:ext cx="15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隶书"/>
                    </a:rPr>
                    <a:t>遗址公园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49160" y="1981080"/>
                  <a:ext cx="85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隶书"/>
                    </a:rPr>
                    <a:t>郭庄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574880" y="1801800"/>
                  <a:ext cx="853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隶书"/>
                    </a:rPr>
                    <a:t>李村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64160" y="720720"/>
                  <a:ext cx="764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隶书"/>
                    </a:rPr>
                    <a:t>天桥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68440" y="0"/>
                <a:ext cx="7649640" cy="3790080"/>
                <a:chOff x="568440" y="0"/>
                <a:chExt cx="7649640" cy="3790080"/>
              </a:xfrm>
            </p:grpSpPr>
            <p:pic>
              <p:nvPicPr>
                <p:cNvPr id="1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3800" y="2565360"/>
                  <a:ext cx="526680" cy="595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73800" y="674640"/>
                  <a:ext cx="809280" cy="41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"/>
                <p:cNvSpPr/>
                <p:nvPr/>
              </p:nvSpPr>
              <p:spPr>
                <a:xfrm>
                  <a:off x="6599160" y="0"/>
                  <a:ext cx="1618920" cy="45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60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千米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/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时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03080" y="3330360"/>
                  <a:ext cx="1618920" cy="45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40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千米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/</a:t>
                  </a:r>
                  <a:r>
                    <a:rPr b="0" lang="zh-CN" sz="2400" spc="-1" strike="noStrike">
                      <a:solidFill>
                        <a:srgbClr val="0000a4"/>
                      </a:solidFill>
                      <a:latin typeface="Times New Roman"/>
                    </a:rPr>
                    <a:t>时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68440" y="2340000"/>
                  <a:ext cx="1150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楷体_GB2312"/>
                    </a:rPr>
                    <a:t>王阿姨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7993080" y="139536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张叔叔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302000" y="2664000"/>
            <a:ext cx="270000" cy="27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760" y="638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6280" y="503280"/>
            <a:ext cx="81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出发后几时相遇？相遇地点到遗址公园的路程是多少千米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41280" y="1763640"/>
            <a:ext cx="8802720" cy="1810800"/>
            <a:chOff x="341280" y="1763640"/>
            <a:chExt cx="8802720" cy="1810800"/>
          </a:xfrm>
        </p:grpSpPr>
        <p:sp>
          <p:nvSpPr>
            <p:cNvPr id="140" name=""/>
            <p:cNvSpPr/>
            <p:nvPr/>
          </p:nvSpPr>
          <p:spPr>
            <a:xfrm>
              <a:off x="341280" y="2798640"/>
              <a:ext cx="12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遗址公园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1640" y="2843280"/>
              <a:ext cx="607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1640" y="2843280"/>
              <a:ext cx="0" cy="674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78800" y="2843280"/>
              <a:ext cx="0" cy="674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601280" y="3338640"/>
              <a:ext cx="207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53080" y="3338640"/>
              <a:ext cx="19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2360" y="3114720"/>
              <a:ext cx="16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50</a:t>
              </a:r>
              <a:r>
                <a:rPr b="0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　千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2569320" y="1516680"/>
              <a:ext cx="225360" cy="216072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56160 h 2160720"/>
                <a:gd name="textAreaBottom" fmla="*/ 210456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1"/>
                  </a:lnTo>
                  <a:cubicBezTo>
                    <a:pt x="10800" y="9441"/>
                    <a:pt x="5400" y="10341"/>
                    <a:pt x="0" y="10341"/>
                  </a:cubicBezTo>
                  <a:cubicBezTo>
                    <a:pt x="5400" y="10341"/>
                    <a:pt x="10800" y="11241"/>
                    <a:pt x="10800" y="1214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5561280" y="684720"/>
              <a:ext cx="225360" cy="382428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99720 h 3824280"/>
                <a:gd name="textAreaBottom" fmla="*/ 3724560 h 38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1"/>
                  </a:lnTo>
                  <a:cubicBezTo>
                    <a:pt x="10800" y="9441"/>
                    <a:pt x="5400" y="10341"/>
                    <a:pt x="0" y="10341"/>
                  </a:cubicBezTo>
                  <a:cubicBezTo>
                    <a:pt x="5400" y="10341"/>
                    <a:pt x="10800" y="11241"/>
                    <a:pt x="10800" y="1214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93080" y="279864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天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71640" y="176364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面包车行驶的路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2360" y="176364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小轿车行驶的路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836640" y="3789360"/>
            <a:ext cx="80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想：面包车行驶的路程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小轿车行驶的路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千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6280" y="4599000"/>
            <a:ext cx="841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设经过</a:t>
            </a:r>
            <a:r>
              <a:rPr b="0" lang="zh-CN" sz="2400" spc="-1" strike="noStrike">
                <a:solidFill>
                  <a:srgbClr val="ffffff"/>
                </a:solidFill>
                <a:latin typeface="Basemic Times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两车相遇，那么，面包车行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 </a:t>
            </a:r>
            <a:r>
              <a:rPr b="0" lang="zh-CN" sz="2400" spc="-1" strike="noStrike">
                <a:solidFill>
                  <a:srgbClr val="ffffff"/>
                </a:solidFill>
                <a:latin typeface="Basemic Times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千米，小轿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车行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 </a:t>
            </a:r>
            <a:r>
              <a:rPr b="0" lang="zh-CN" sz="2400" spc="-1" strike="noStrike">
                <a:solidFill>
                  <a:srgbClr val="ffffff"/>
                </a:solidFill>
                <a:latin typeface="Basemic Times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01640" y="1179360"/>
            <a:ext cx="58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0 x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＋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0 x = 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1640" y="189864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0 x = 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86280" y="2708280"/>
            <a:ext cx="26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x = 0.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11280" y="3564000"/>
            <a:ext cx="58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0 x = 40×0.5=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000" y="4599000"/>
            <a:ext cx="769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答：两车经过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.5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相遇，相遇地点到遗址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园的路程是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17120" y="608472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80920" y="998640"/>
            <a:ext cx="729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挖一条长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65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米的隧道，由甲、乙两个工程队从两端同时施工。甲队每天向前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米，乙队每天向前挖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米，挖通这条隧道需要多少天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0920" y="3024360"/>
            <a:ext cx="7112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：设挖通这条隧道需要Ｘ天，那么，甲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Ｘ米，乙队挖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1640" y="4194000"/>
            <a:ext cx="497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Ｘ＋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Ｘ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Ｘ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Ｘ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6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÷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Ｘ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82920" y="608472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答：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挖通这条隧道需要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5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 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41280" y="0"/>
            <a:ext cx="22957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27720" y="368280"/>
            <a:ext cx="1473480" cy="154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41280" y="279360"/>
            <a:ext cx="1498680" cy="596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7193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解方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x+4x=20        6m-3m=27       2y+4y=15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9x-4x=6.5       8n-n=14        2y+y=10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316640" y="0"/>
            <a:ext cx="1473480" cy="1549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41280" y="279360"/>
            <a:ext cx="1498680" cy="59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71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甲乙二人合作生产一批零件，甲每天生产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70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个零件，乙每天生产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80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个。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</a:rPr>
              <a:t>天之后完成，这些零件共有多少个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3:15:10Z</dcterms:created>
  <dc:creator> </dc:creator>
  <dc:description> </dc:description>
  <cp:keywords/>
  <dc:language>en-US</dc:language>
  <cp:lastModifiedBy>gaocan</cp:lastModifiedBy>
  <dcterms:modified xsi:type="dcterms:W3CDTF">2013-10-14T12:40:15Z</dcterms:modified>
  <cp:revision>1</cp:revision>
  <dc:subject> </dc:subject>
  <dc:title> </dc:title>
</cp:coreProperties>
</file>