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46.png" ContentType="image/png"/>
  <Override PartName="/ppt/media/arrow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chimes.wav" ContentType="audio/x-wav"/>
  <Override PartName="/ppt/media/image29.png" ContentType="image/png"/>
  <Override PartName="/ppt/media/image16.png" ContentType="image/png"/>
  <Override PartName="/ppt/media/image23.gif" ContentType="image/gif"/>
  <Override PartName="/ppt/media/Windows%20XP%20%E6%83%8A%E5%8F%B9%E5%8F%B7.wav" ContentType="audio/x-wav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22.gif" ContentType="image/gif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whoosh.wav" ContentType="audio/x-wav"/>
  <Override PartName="/ppt/media/image8.jpeg" ContentType="image/jpeg"/>
  <Override PartName="/ppt/media/image38.png" ContentType="image/png"/>
  <Override PartName="/ppt/media/image28.png" ContentType="image/png"/>
  <Override PartName="/ppt/media/image30.png" ContentType="image/png"/>
  <Override PartName="/ppt/media/click.wav" ContentType="audio/x-wav"/>
  <Override PartName="/ppt/media/image39.gif" ContentType="image/gif"/>
  <Override PartName="/ppt/media/image44.png" ContentType="image/png"/>
  <Override PartName="/ppt/media/wind.wav" ContentType="audio/x-wav"/>
  <Override PartName="/ppt/media/image41.png" ContentType="image/png"/>
  <Override PartName="/ppt/media/image37.gif" ContentType="image/gif"/>
  <Override PartName="/ppt/media/image42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47.gif" ContentType="image/gif"/>
  <Override PartName="/ppt/media/image27.png" ContentType="image/png"/>
  <Override PartName="/ppt/media/S%E6%B0%B4.WAV" ContentType="audio/x-wav"/>
  <Override PartName="/ppt/media/image26.png" ContentType="image/png"/>
  <Override PartName="/ppt/media/image25.png" ContentType="image/png"/>
  <Override PartName="/ppt/media/image24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applause.wav" ContentType="audio/x-wav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2F2-338D-4C80-9DD8-B78CB206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F0B-7DD0-44B2-BEBF-6F67480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47D-C28A-45BD-9D32-E9710423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B1C-A93F-4D3A-BE0F-31C7E8C6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315-CFD1-4B4D-9DFE-4C9CFA8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AD2-AE9B-4C11-9F02-90A705C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9E8-00ED-4FD5-9BDA-446403FA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FD1-2C77-43EB-933A-2237A0A8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309-F3AC-4B81-B2CB-505A796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6C3-3856-477B-A653-07B2D83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897-1F90-4712-A3CB-F6505A38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E92-2D74-464A-827A-462B50F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02CF-6481-4EE6-ABAD-62E80280CD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png"/><Relationship Id="rId11" Type="http://schemas.openxmlformats.org/officeDocument/2006/relationships/audio" Target="../media/chimes.wav"/><Relationship Id="rId12" Type="http://schemas.openxmlformats.org/officeDocument/2006/relationships/audio" Target="../media/Windows%20XP%20&#24778;&#21497;&#21495;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png"/><Relationship Id="rId11" Type="http://schemas.openxmlformats.org/officeDocument/2006/relationships/audio" Target="../media/Windows%20XP%20&#24778;&#21497;&#21495;.wav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whoosh.wav"/><Relationship Id="rId15" Type="http://schemas.openxmlformats.org/officeDocument/2006/relationships/audio" Target="../media/arrow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ows%20XP%20&#24778;&#21497;&#21495;.wav"/><Relationship Id="rId2" Type="http://schemas.openxmlformats.org/officeDocument/2006/relationships/audio" Target="../media/Windows%20XP%20&#24778;&#21497;&#21495;.wav"/><Relationship Id="rId3" Type="http://schemas.openxmlformats.org/officeDocument/2006/relationships/audio" Target="../media/Windows%20XP%20&#24778;&#21497;&#21495;.wav"/><Relationship Id="rId4" Type="http://schemas.openxmlformats.org/officeDocument/2006/relationships/audio" Target="../media/Windows%20XP%20&#24778;&#21497;&#21495;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audio" Target="../media/Windows%20XP%20&#24778;&#21497;&#21495;.wav"/><Relationship Id="rId4" Type="http://schemas.openxmlformats.org/officeDocument/2006/relationships/audio" Target="../media/S&#27700;.WAV"/><Relationship Id="rId5" Type="http://schemas.openxmlformats.org/officeDocument/2006/relationships/audio" Target="../media/Windows%20XP%20&#24778;&#21497;&#21495;.wav"/><Relationship Id="rId6" Type="http://schemas.openxmlformats.org/officeDocument/2006/relationships/audio" Target="../media/Windows%20XP%20&#24778;&#21497;&#21495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23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audio" Target="../media/click.wav"/><Relationship Id="rId6" Type="http://schemas.openxmlformats.org/officeDocument/2006/relationships/audio" Target="../media/applause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slide" Target="slide6.xml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413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北师大版五年级数学上册数学与交通课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58920" y="328464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相    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6084720" y="620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叔叔要给王阿姨送一份材料。他们约定同时坐车出发。遗址公园到天桥的路程是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761080" cy="3402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03640" y="333360"/>
            <a:ext cx="1800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米∕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3500280"/>
            <a:ext cx="1800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米∕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50920" y="53578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计两人在哪个地方相遇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50920" y="4294080"/>
            <a:ext cx="525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图中你发现了哪些信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5076720" y="3500280"/>
            <a:ext cx="4067280" cy="2808360"/>
          </a:xfrm>
          <a:prstGeom prst="cloudCallout">
            <a:avLst>
              <a:gd name="adj1" fmla="val -60851"/>
              <a:gd name="adj2" fmla="val 16310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轿车的速度比面包车快些，估计他们的相遇地点在李村附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5" descr="ds情境创设"/>
          <p:cNvPicPr/>
          <p:nvPr/>
        </p:nvPicPr>
        <p:blipFill>
          <a:blip r:embed="rId2"/>
          <a:stretch/>
        </p:blipFill>
        <p:spPr>
          <a:xfrm>
            <a:off x="755640" y="765000"/>
            <a:ext cx="1771560" cy="536760"/>
          </a:xfrm>
          <a:prstGeom prst="rect">
            <a:avLst/>
          </a:prstGeom>
          <a:ln w="0">
            <a:noFill/>
          </a:ln>
        </p:spPr>
      </p:pic>
      <p:sp>
        <p:nvSpPr>
          <p:cNvPr id="182" name="Oval 20"/>
          <p:cNvSpPr/>
          <p:nvPr/>
        </p:nvSpPr>
        <p:spPr>
          <a:xfrm>
            <a:off x="2916360" y="2349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1332000" y="3068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52360" y="2060640"/>
            <a:ext cx="8908200" cy="2162880"/>
            <a:chOff x="252360" y="2060640"/>
            <a:chExt cx="8908200" cy="2162880"/>
          </a:xfrm>
        </p:grpSpPr>
        <p:grpSp>
          <p:nvGrpSpPr>
            <p:cNvPr id="185" name="Group 4"/>
            <p:cNvGrpSpPr/>
            <p:nvPr/>
          </p:nvGrpSpPr>
          <p:grpSpPr>
            <a:xfrm>
              <a:off x="252360" y="2276280"/>
              <a:ext cx="1582560" cy="1800000"/>
              <a:chOff x="252360" y="2276280"/>
              <a:chExt cx="1582560" cy="1800000"/>
            </a:xfrm>
          </p:grpSpPr>
          <p:pic>
            <p:nvPicPr>
              <p:cNvPr id="186" name="Picture 5" descr=""/>
              <p:cNvPicPr/>
              <p:nvPr/>
            </p:nvPicPr>
            <p:blipFill>
              <a:blip r:embed="rId1"/>
              <a:srcRect l="0" t="0" r="0" b="15004"/>
              <a:stretch/>
            </p:blipFill>
            <p:spPr>
              <a:xfrm>
                <a:off x="252360" y="2276280"/>
                <a:ext cx="100800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6" descr="车"/>
              <p:cNvPicPr/>
              <p:nvPr/>
            </p:nvPicPr>
            <p:blipFill>
              <a:blip r:embed="rId2"/>
              <a:stretch/>
            </p:blipFill>
            <p:spPr>
              <a:xfrm>
                <a:off x="394920" y="2636640"/>
                <a:ext cx="1440000" cy="143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Text Box 7"/>
            <p:cNvSpPr/>
            <p:nvPr/>
          </p:nvSpPr>
          <p:spPr>
            <a:xfrm>
              <a:off x="7451640" y="2060640"/>
              <a:ext cx="111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救护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682560" y="37638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探险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Group 9"/>
            <p:cNvGrpSpPr/>
            <p:nvPr/>
          </p:nvGrpSpPr>
          <p:grpSpPr>
            <a:xfrm>
              <a:off x="7274160" y="2676960"/>
              <a:ext cx="1886400" cy="1135440"/>
              <a:chOff x="7274160" y="2676960"/>
              <a:chExt cx="1886400" cy="1135440"/>
            </a:xfrm>
          </p:grpSpPr>
          <p:pic>
            <p:nvPicPr>
              <p:cNvPr id="191" name="Picture 10" descr="救护车"/>
              <p:cNvPicPr/>
              <p:nvPr/>
            </p:nvPicPr>
            <p:blipFill>
              <a:blip r:embed="rId3"/>
              <a:srcRect l="0" t="30418" r="-1565" b="0"/>
              <a:stretch/>
            </p:blipFill>
            <p:spPr>
              <a:xfrm flipH="1" rot="21457800">
                <a:off x="7504560" y="2916360"/>
                <a:ext cx="1638720" cy="86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11" descr=""/>
              <p:cNvPicPr/>
              <p:nvPr/>
            </p:nvPicPr>
            <p:blipFill>
              <a:blip r:embed="rId4"/>
              <a:srcRect l="0" t="0" r="6768" b="21138"/>
              <a:stretch/>
            </p:blipFill>
            <p:spPr>
              <a:xfrm rot="21258600">
                <a:off x="7306920" y="2709360"/>
                <a:ext cx="694800" cy="70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Freeform 12"/>
            <p:cNvSpPr/>
            <p:nvPr/>
          </p:nvSpPr>
          <p:spPr>
            <a:xfrm>
              <a:off x="1403280" y="2527200"/>
              <a:ext cx="6481800" cy="1439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3"/>
            <p:cNvSpPr/>
            <p:nvPr/>
          </p:nvSpPr>
          <p:spPr>
            <a:xfrm>
              <a:off x="7812000" y="2420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14"/>
            <p:cNvSpPr/>
            <p:nvPr/>
          </p:nvSpPr>
          <p:spPr>
            <a:xfrm>
              <a:off x="2411280" y="364464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15"/>
            <p:cNvSpPr/>
            <p:nvPr/>
          </p:nvSpPr>
          <p:spPr>
            <a:xfrm>
              <a:off x="3635280" y="335736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2124000" y="3213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郭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3132000" y="29257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李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8"/>
          <p:cNvGrpSpPr/>
          <p:nvPr/>
        </p:nvGrpSpPr>
        <p:grpSpPr>
          <a:xfrm>
            <a:off x="1684800" y="2356920"/>
            <a:ext cx="3039480" cy="555480"/>
            <a:chOff x="1684800" y="2356920"/>
            <a:chExt cx="3039480" cy="555480"/>
          </a:xfrm>
        </p:grpSpPr>
        <p:sp>
          <p:nvSpPr>
            <p:cNvPr id="200" name="AutoShape 19"/>
            <p:cNvSpPr/>
            <p:nvPr/>
          </p:nvSpPr>
          <p:spPr>
            <a:xfrm rot="21452400">
              <a:off x="1692360" y="2421720"/>
              <a:ext cx="3024000" cy="425880"/>
            </a:xfrm>
            <a:prstGeom prst="cloudCallout">
              <a:avLst>
                <a:gd name="adj1" fmla="val -60694"/>
                <a:gd name="adj2" fmla="val 549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WordArt 20" descr=""/>
            <p:cNvPicPr/>
            <p:nvPr/>
          </p:nvPicPr>
          <p:blipFill>
            <a:blip r:embed="rId5"/>
            <a:stretch/>
          </p:blipFill>
          <p:spPr>
            <a:xfrm>
              <a:off x="2048760" y="2421000"/>
              <a:ext cx="232164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21"/>
          <p:cNvGrpSpPr/>
          <p:nvPr/>
        </p:nvGrpSpPr>
        <p:grpSpPr>
          <a:xfrm>
            <a:off x="5651640" y="3860640"/>
            <a:ext cx="2734920" cy="505080"/>
            <a:chOff x="5651640" y="3860640"/>
            <a:chExt cx="2734920" cy="505080"/>
          </a:xfrm>
        </p:grpSpPr>
        <p:sp>
          <p:nvSpPr>
            <p:cNvPr id="203" name="AutoShape 22"/>
            <p:cNvSpPr/>
            <p:nvPr/>
          </p:nvSpPr>
          <p:spPr>
            <a:xfrm>
              <a:off x="5651640" y="3860640"/>
              <a:ext cx="2734920" cy="505080"/>
            </a:xfrm>
            <a:prstGeom prst="cloudCallout">
              <a:avLst>
                <a:gd name="adj1" fmla="val 47189"/>
                <a:gd name="adj2" fmla="val 215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WordArt 23" descr=""/>
            <p:cNvPicPr/>
            <p:nvPr/>
          </p:nvPicPr>
          <p:blipFill>
            <a:blip r:embed="rId6"/>
            <a:stretch/>
          </p:blipFill>
          <p:spPr>
            <a:xfrm>
              <a:off x="5907600" y="3949560"/>
              <a:ext cx="2262240" cy="34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AutoShape 24"/>
          <p:cNvSpPr/>
          <p:nvPr/>
        </p:nvSpPr>
        <p:spPr>
          <a:xfrm rot="10800000">
            <a:off x="1907640" y="691560"/>
            <a:ext cx="5688360" cy="1152360"/>
          </a:xfrm>
          <a:prstGeom prst="cloudCallout">
            <a:avLst>
              <a:gd name="adj1" fmla="val -65074"/>
              <a:gd name="adj2" fmla="val -48486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张叔叔要给王阿姨送一份材料。他们约定同时坐车出发。遗址公园到天桥的路程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25"/>
          <p:cNvSpPr/>
          <p:nvPr/>
        </p:nvSpPr>
        <p:spPr>
          <a:xfrm rot="10800000">
            <a:off x="2627280" y="4292280"/>
            <a:ext cx="3888000" cy="865080"/>
          </a:xfrm>
          <a:prstGeom prst="cloudCallout">
            <a:avLst>
              <a:gd name="adj1" fmla="val 40444"/>
              <a:gd name="adj2" fmla="val -226148"/>
            </a:avLst>
          </a:prstGeom>
          <a:solidFill>
            <a:srgbClr val="1f497d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两人同时出发，几</a:t>
            </a:r>
            <a:r>
              <a:rPr b="1" lang="zh-CN" sz="1800" spc="-1" strike="noStrike">
                <a:solidFill>
                  <a:srgbClr val="ffff00"/>
                </a:solidFill>
                <a:latin typeface="Calibri"/>
              </a:rPr>
              <a:t>时</a:t>
            </a: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相遇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26"/>
          <p:cNvGraphicFramePr/>
          <p:nvPr/>
        </p:nvGraphicFramePr>
        <p:xfrm>
          <a:off x="250920" y="2997360"/>
          <a:ext cx="165708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997360"/>
                    <a:ext cx="16570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7"/>
          <p:cNvGraphicFramePr/>
          <p:nvPr/>
        </p:nvGraphicFramePr>
        <p:xfrm>
          <a:off x="7165800" y="2637000"/>
          <a:ext cx="1727280" cy="117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5800" y="2637000"/>
                    <a:ext cx="17272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28"/>
          <p:cNvSpPr/>
          <p:nvPr/>
        </p:nvSpPr>
        <p:spPr>
          <a:xfrm>
            <a:off x="7451640" y="1989000"/>
            <a:ext cx="100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天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684360" y="3860640"/>
            <a:ext cx="100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华文中宋"/>
              </a:rPr>
              <a:t>遗址公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  <p:sndAc>
      <p:stSnd>
        <p:snd r:embed="rId11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5148360" y="54936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天桥与遗址公园相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米。 两车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同时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出发。     经过</a:t>
            </a:r>
            <a:r>
              <a:rPr b="1" lang="zh-CN" sz="2400" spc="-1" strike="noStrike">
                <a:solidFill>
                  <a:srgbClr val="6600ff"/>
                </a:solidFill>
                <a:latin typeface="Calibri"/>
              </a:rPr>
              <a:t>几时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相遇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562680" y="3789360"/>
            <a:ext cx="8977680" cy="734400"/>
            <a:chOff x="562680" y="3789360"/>
            <a:chExt cx="8977680" cy="734400"/>
          </a:xfrm>
        </p:grpSpPr>
        <p:grpSp>
          <p:nvGrpSpPr>
            <p:cNvPr id="215" name="Group 4"/>
            <p:cNvGrpSpPr/>
            <p:nvPr/>
          </p:nvGrpSpPr>
          <p:grpSpPr>
            <a:xfrm>
              <a:off x="1344240" y="3909600"/>
              <a:ext cx="6862680" cy="614160"/>
              <a:chOff x="1344240" y="3909600"/>
              <a:chExt cx="6862680" cy="614160"/>
            </a:xfrm>
          </p:grpSpPr>
          <p:sp>
            <p:nvSpPr>
              <p:cNvPr id="216" name="AutoShape 5"/>
              <p:cNvSpPr/>
              <p:nvPr/>
            </p:nvSpPr>
            <p:spPr>
              <a:xfrm flipV="1" rot="16200000">
                <a:off x="4659120" y="594360"/>
                <a:ext cx="232920" cy="6862680"/>
              </a:xfrm>
              <a:custGeom>
                <a:avLst/>
                <a:gdLst>
                  <a:gd name="textAreaLeft" fmla="*/ 149040 w 232920"/>
                  <a:gd name="textAreaRight" fmla="*/ 233280 w 232920"/>
                  <a:gd name="textAreaTop" fmla="*/ 178920 h 6862680"/>
                  <a:gd name="textAreaBottom" fmla="*/ 6683760 h 686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Text Box 6"/>
              <p:cNvSpPr/>
              <p:nvPr/>
            </p:nvSpPr>
            <p:spPr>
              <a:xfrm>
                <a:off x="4407480" y="4064040"/>
                <a:ext cx="96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Text Box 7"/>
            <p:cNvSpPr/>
            <p:nvPr/>
          </p:nvSpPr>
          <p:spPr>
            <a:xfrm>
              <a:off x="562680" y="37893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遗址公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8208000" y="3838680"/>
              <a:ext cx="13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天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4775760" y="3279240"/>
            <a:ext cx="212400" cy="579960"/>
            <a:chOff x="4775760" y="3279240"/>
            <a:chExt cx="212400" cy="579960"/>
          </a:xfrm>
        </p:grpSpPr>
        <p:sp>
          <p:nvSpPr>
            <p:cNvPr id="221" name="AutoShape 10"/>
            <p:cNvSpPr/>
            <p:nvPr/>
          </p:nvSpPr>
          <p:spPr>
            <a:xfrm rot="5182200">
              <a:off x="4689720" y="3382560"/>
              <a:ext cx="384120" cy="1882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788000" y="3284640"/>
              <a:ext cx="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 Box 12"/>
          <p:cNvSpPr/>
          <p:nvPr/>
        </p:nvSpPr>
        <p:spPr>
          <a:xfrm>
            <a:off x="6156360" y="685332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1306440" y="3789360"/>
            <a:ext cx="7010280" cy="71280"/>
            <a:chOff x="1306440" y="3789360"/>
            <a:chExt cx="7010280" cy="71280"/>
          </a:xfrm>
        </p:grpSpPr>
        <p:sp>
          <p:nvSpPr>
            <p:cNvPr id="225" name="Line 14"/>
            <p:cNvSpPr/>
            <p:nvPr/>
          </p:nvSpPr>
          <p:spPr>
            <a:xfrm>
              <a:off x="1382400" y="3840120"/>
              <a:ext cx="68252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15"/>
            <p:cNvSpPr/>
            <p:nvPr/>
          </p:nvSpPr>
          <p:spPr>
            <a:xfrm>
              <a:off x="1306440" y="3789360"/>
              <a:ext cx="92520" cy="712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16"/>
            <p:cNvSpPr/>
            <p:nvPr/>
          </p:nvSpPr>
          <p:spPr>
            <a:xfrm>
              <a:off x="8224200" y="3789360"/>
              <a:ext cx="92520" cy="712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Line 17"/>
          <p:cNvSpPr/>
          <p:nvPr/>
        </p:nvSpPr>
        <p:spPr>
          <a:xfrm>
            <a:off x="1332000" y="3789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7596360" y="3789360"/>
            <a:ext cx="647640" cy="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835280" y="3789360"/>
            <a:ext cx="4330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877080" y="3789360"/>
            <a:ext cx="647640" cy="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3851280" y="1773360"/>
            <a:ext cx="35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284720" y="2852640"/>
            <a:ext cx="3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340000" y="3789360"/>
            <a:ext cx="1727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4067280" y="3789360"/>
            <a:ext cx="2736720" cy="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6"/>
          <p:cNvSpPr/>
          <p:nvPr/>
        </p:nvSpPr>
        <p:spPr>
          <a:xfrm rot="5400000">
            <a:off x="2590920" y="2240640"/>
            <a:ext cx="144720" cy="2663640"/>
          </a:xfrm>
          <a:custGeom>
            <a:avLst/>
            <a:gdLst>
              <a:gd name="textAreaLeft" fmla="*/ 92520 w 144720"/>
              <a:gd name="textAreaRight" fmla="*/ 145080 w 144720"/>
              <a:gd name="textAreaTop" fmla="*/ 88200 h 2663640"/>
              <a:gd name="textAreaBottom" fmla="*/ 257544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7"/>
                  <a:pt x="10800" y="2293"/>
                </a:cubicBezTo>
                <a:lnTo>
                  <a:pt x="10800" y="8054"/>
                </a:lnTo>
                <a:cubicBezTo>
                  <a:pt x="10800" y="9201"/>
                  <a:pt x="5400" y="10347"/>
                  <a:pt x="0" y="10347"/>
                </a:cubicBezTo>
                <a:cubicBezTo>
                  <a:pt x="5400" y="10347"/>
                  <a:pt x="10800" y="11494"/>
                  <a:pt x="10800" y="12640"/>
                </a:cubicBezTo>
                <a:lnTo>
                  <a:pt x="10800" y="19307"/>
                </a:lnTo>
                <a:cubicBezTo>
                  <a:pt x="10800" y="204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7"/>
          <p:cNvSpPr/>
          <p:nvPr/>
        </p:nvSpPr>
        <p:spPr>
          <a:xfrm rot="5400000">
            <a:off x="6074640" y="1494360"/>
            <a:ext cx="217440" cy="4086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135720 h 4086000"/>
              <a:gd name="textAreaBottom" fmla="*/ 3950280 h 40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7"/>
                  <a:pt x="10800" y="2293"/>
                </a:cubicBezTo>
                <a:lnTo>
                  <a:pt x="10800" y="8054"/>
                </a:lnTo>
                <a:cubicBezTo>
                  <a:pt x="10800" y="9201"/>
                  <a:pt x="5400" y="10347"/>
                  <a:pt x="0" y="10347"/>
                </a:cubicBezTo>
                <a:cubicBezTo>
                  <a:pt x="5400" y="10347"/>
                  <a:pt x="10800" y="11494"/>
                  <a:pt x="10800" y="12640"/>
                </a:cubicBezTo>
                <a:lnTo>
                  <a:pt x="10800" y="19307"/>
                </a:lnTo>
                <a:cubicBezTo>
                  <a:pt x="10800" y="204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1763640" y="306864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Calibri"/>
              </a:rPr>
              <a:t>面包车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5100480" y="3032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Calibri"/>
              </a:rPr>
              <a:t>小轿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900000" y="5229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面包车所行路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小轿车所行路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1042920" y="31035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        ）所行路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2641320" y="4508640"/>
            <a:ext cx="4234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你能用等式表示各部分路程之间的关系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4788000" y="2997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         ）所行路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34"/>
          <p:cNvSpPr/>
          <p:nvPr/>
        </p:nvSpPr>
        <p:spPr>
          <a:xfrm>
            <a:off x="1382760" y="2873520"/>
            <a:ext cx="6481800" cy="14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35"/>
          <p:cNvGrpSpPr/>
          <p:nvPr/>
        </p:nvGrpSpPr>
        <p:grpSpPr>
          <a:xfrm>
            <a:off x="250920" y="2421000"/>
            <a:ext cx="8909640" cy="2102400"/>
            <a:chOff x="250920" y="2421000"/>
            <a:chExt cx="8909640" cy="2102400"/>
          </a:xfrm>
        </p:grpSpPr>
        <p:grpSp>
          <p:nvGrpSpPr>
            <p:cNvPr id="247" name="Group 36"/>
            <p:cNvGrpSpPr/>
            <p:nvPr/>
          </p:nvGrpSpPr>
          <p:grpSpPr>
            <a:xfrm>
              <a:off x="252360" y="2421000"/>
              <a:ext cx="8908200" cy="2102400"/>
              <a:chOff x="252360" y="2421000"/>
              <a:chExt cx="8908200" cy="2102400"/>
            </a:xfrm>
          </p:grpSpPr>
          <p:grpSp>
            <p:nvGrpSpPr>
              <p:cNvPr id="248" name="Group 37"/>
              <p:cNvGrpSpPr/>
              <p:nvPr/>
            </p:nvGrpSpPr>
            <p:grpSpPr>
              <a:xfrm>
                <a:off x="252360" y="2421000"/>
                <a:ext cx="8908200" cy="2102400"/>
                <a:chOff x="252360" y="2421000"/>
                <a:chExt cx="8908200" cy="2102400"/>
              </a:xfrm>
            </p:grpSpPr>
            <p:grpSp>
              <p:nvGrpSpPr>
                <p:cNvPr id="249" name="Group 38"/>
                <p:cNvGrpSpPr/>
                <p:nvPr/>
              </p:nvGrpSpPr>
              <p:grpSpPr>
                <a:xfrm>
                  <a:off x="252360" y="2637000"/>
                  <a:ext cx="1582560" cy="1800000"/>
                  <a:chOff x="252360" y="2637000"/>
                  <a:chExt cx="1582560" cy="1800000"/>
                </a:xfrm>
              </p:grpSpPr>
              <p:pic>
                <p:nvPicPr>
                  <p:cNvPr id="250" name="Picture 39" descr=""/>
                  <p:cNvPicPr/>
                  <p:nvPr/>
                </p:nvPicPr>
                <p:blipFill>
                  <a:blip r:embed="rId1"/>
                  <a:srcRect l="0" t="0" r="0" b="15004"/>
                  <a:stretch/>
                </p:blipFill>
                <p:spPr>
                  <a:xfrm>
                    <a:off x="252360" y="2637000"/>
                    <a:ext cx="1008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1" name="Picture 40" descr="车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920" y="2997360"/>
                    <a:ext cx="14400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52" name="Text Box 41"/>
                <p:cNvSpPr/>
                <p:nvPr/>
              </p:nvSpPr>
              <p:spPr>
                <a:xfrm>
                  <a:off x="7451640" y="2421000"/>
                  <a:ext cx="1117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天桥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Text Box 42"/>
                <p:cNvSpPr/>
                <p:nvPr/>
              </p:nvSpPr>
              <p:spPr>
                <a:xfrm>
                  <a:off x="682560" y="4124520"/>
                  <a:ext cx="129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遗址公园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4" name="Group 43"/>
                <p:cNvGrpSpPr/>
                <p:nvPr/>
              </p:nvGrpSpPr>
              <p:grpSpPr>
                <a:xfrm>
                  <a:off x="7274160" y="3037680"/>
                  <a:ext cx="1886400" cy="1135800"/>
                  <a:chOff x="7274160" y="3037680"/>
                  <a:chExt cx="1886400" cy="1135800"/>
                </a:xfrm>
              </p:grpSpPr>
              <p:pic>
                <p:nvPicPr>
                  <p:cNvPr id="255" name="Picture 44" descr="救护车"/>
                  <p:cNvPicPr/>
                  <p:nvPr/>
                </p:nvPicPr>
                <p:blipFill>
                  <a:blip r:embed="rId3"/>
                  <a:srcRect l="0" t="30418" r="-1565" b="0"/>
                  <a:stretch/>
                </p:blipFill>
                <p:spPr>
                  <a:xfrm flipH="1" rot="21457800">
                    <a:off x="7504560" y="3277080"/>
                    <a:ext cx="1638720" cy="8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6" name="Picture 45" descr=""/>
                  <p:cNvPicPr/>
                  <p:nvPr/>
                </p:nvPicPr>
                <p:blipFill>
                  <a:blip r:embed="rId4"/>
                  <a:srcRect l="0" t="0" r="6768" b="21138"/>
                  <a:stretch/>
                </p:blipFill>
                <p:spPr>
                  <a:xfrm rot="21258600">
                    <a:off x="7306920" y="3070080"/>
                    <a:ext cx="694800" cy="70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57" name="Freeform 46"/>
                <p:cNvSpPr/>
                <p:nvPr/>
              </p:nvSpPr>
              <p:spPr>
                <a:xfrm>
                  <a:off x="1403280" y="2887920"/>
                  <a:ext cx="6481800" cy="143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Oval 47"/>
                <p:cNvSpPr/>
                <p:nvPr/>
              </p:nvSpPr>
              <p:spPr>
                <a:xfrm>
                  <a:off x="7812000" y="2781360"/>
                  <a:ext cx="144720" cy="144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Oval 48"/>
                <p:cNvSpPr/>
                <p:nvPr/>
              </p:nvSpPr>
              <p:spPr>
                <a:xfrm>
                  <a:off x="2411280" y="4005360"/>
                  <a:ext cx="14472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Oval 49"/>
                <p:cNvSpPr/>
                <p:nvPr/>
              </p:nvSpPr>
              <p:spPr>
                <a:xfrm>
                  <a:off x="3635280" y="3718080"/>
                  <a:ext cx="14472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Text Box 50"/>
                <p:cNvSpPr/>
                <p:nvPr/>
              </p:nvSpPr>
              <p:spPr>
                <a:xfrm>
                  <a:off x="2124000" y="357372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郭村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Text Box 51"/>
                <p:cNvSpPr/>
                <p:nvPr/>
              </p:nvSpPr>
              <p:spPr>
                <a:xfrm>
                  <a:off x="3132000" y="328644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李村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3" name="Group 52"/>
              <p:cNvGrpSpPr/>
              <p:nvPr/>
            </p:nvGrpSpPr>
            <p:grpSpPr>
              <a:xfrm>
                <a:off x="5364000" y="3573720"/>
                <a:ext cx="2087640" cy="504720"/>
                <a:chOff x="5364000" y="3573720"/>
                <a:chExt cx="2087640" cy="504720"/>
              </a:xfrm>
            </p:grpSpPr>
            <p:sp>
              <p:nvSpPr>
                <p:cNvPr id="264" name="AutoShape 53"/>
                <p:cNvSpPr/>
                <p:nvPr/>
              </p:nvSpPr>
              <p:spPr>
                <a:xfrm>
                  <a:off x="5364000" y="3573720"/>
                  <a:ext cx="2087640" cy="504720"/>
                </a:xfrm>
                <a:prstGeom prst="cloudCallout">
                  <a:avLst>
                    <a:gd name="adj1" fmla="val 47189"/>
                    <a:gd name="adj2" fmla="val 2158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265" name="WordArt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559120" y="3663720"/>
                  <a:ext cx="1725120" cy="34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6" name="Group 55"/>
              <p:cNvGrpSpPr/>
              <p:nvPr/>
            </p:nvGrpSpPr>
            <p:grpSpPr>
              <a:xfrm>
                <a:off x="1187280" y="2781360"/>
                <a:ext cx="2087640" cy="505080"/>
                <a:chOff x="1187280" y="2781360"/>
                <a:chExt cx="2087640" cy="505080"/>
              </a:xfrm>
            </p:grpSpPr>
            <p:sp>
              <p:nvSpPr>
                <p:cNvPr id="267" name="AutoShape 56"/>
                <p:cNvSpPr/>
                <p:nvPr/>
              </p:nvSpPr>
              <p:spPr>
                <a:xfrm>
                  <a:off x="1187280" y="2781360"/>
                  <a:ext cx="2087640" cy="505080"/>
                </a:xfrm>
                <a:prstGeom prst="cloudCallout">
                  <a:avLst>
                    <a:gd name="adj1" fmla="val 47189"/>
                    <a:gd name="adj2" fmla="val 2158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268" name="WordArt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2871360"/>
                  <a:ext cx="173124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269" name="Object 58"/>
            <p:cNvGraphicFramePr/>
            <p:nvPr/>
          </p:nvGraphicFramePr>
          <p:xfrm>
            <a:off x="250920" y="3321360"/>
            <a:ext cx="1657080" cy="75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0" name="Object 5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3321360"/>
                      <a:ext cx="165708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59"/>
            <p:cNvGraphicFramePr/>
            <p:nvPr/>
          </p:nvGraphicFramePr>
          <p:xfrm>
            <a:off x="7524720" y="3148200"/>
            <a:ext cx="1368360" cy="93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2" name="Object 5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24720" y="3148200"/>
                      <a:ext cx="136836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21387E-006 L -0.21841 -0.33549 E">
                                      <p:cBhvr>
                                        <p:cTn id="37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38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023 L -0.07865 0.00047 E">
                                      <p:cBhvr>
                                        <p:cTn id="403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out">
                                      <p:cBhvr additive="repl">
                                        <p:cTn id="4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wipe(left)" transition="out">
                                      <p:cBhvr additive="repl">
                                        <p:cTn id="5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692360" y="692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 rot="10800000">
            <a:off x="323640" y="5082120"/>
            <a:ext cx="45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还可以这么解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出发后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60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076720" y="51577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或这么解：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÷(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11600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设经过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11280" y="371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人经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后相遇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相遇地点到遗址公园的路程是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076720" y="1557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0" i="1" lang="zh-CN" sz="2400" spc="-1" strike="noStrike">
                <a:solidFill>
                  <a:srgbClr val="000000"/>
                </a:solidFill>
                <a:latin typeface="Calibri"/>
              </a:rPr>
              <a:t>表示面包车所行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700360" y="24922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50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692360" y="162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484360" y="1628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  60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076720" y="22050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0" i="1" lang="zh-CN" sz="2400" spc="-1" strike="noStrike">
                <a:solidFill>
                  <a:srgbClr val="000000"/>
                </a:solidFill>
                <a:latin typeface="Calibri"/>
              </a:rPr>
              <a:t>表示小轿车所行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692360" y="321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40×0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2195640" y="1989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40+60)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χ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763640" y="4653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c0000"/>
                </a:solidFill>
                <a:latin typeface="Calibri"/>
                <a:ea typeface="黑体"/>
              </a:rPr>
              <a:t>想想还有其它的解法吗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250920" y="404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张叔叔要给王阿姨送一份材料。他们约定同时坐车出发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遗址公园到天桥的路程是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千米。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估计两人几小时相遇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5651640" y="69228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9933ff"/>
                </a:solidFill>
                <a:latin typeface="黑体"/>
                <a:ea typeface="黑体"/>
              </a:rPr>
              <a:t>相遇时离遗址公园是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611280" y="620640"/>
            <a:ext cx="165708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39640" y="1341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京到呼和浩特的铁路线长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。一列火车从呼和浩特开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时行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另一列火车从北京开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小时行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。两列火车同时开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向而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过几时相遇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340000" y="3068640"/>
            <a:ext cx="37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设经过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Χ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987640" y="4883040"/>
            <a:ext cx="2952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48</a:t>
            </a:r>
            <a:r>
              <a:rPr b="1" lang="en-US" sz="2800" spc="-1" strike="noStrike">
                <a:solidFill>
                  <a:srgbClr val="0000ff"/>
                </a:solidFill>
                <a:latin typeface="gzy"/>
                <a:ea typeface="楷体_GB2312"/>
              </a:rPr>
              <a:t>x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+ 72</a:t>
            </a:r>
            <a:r>
              <a:rPr b="1" lang="en-US" sz="2800" spc="-1" strike="noStrike">
                <a:solidFill>
                  <a:srgbClr val="0000ff"/>
                </a:solidFill>
                <a:latin typeface="gzy"/>
                <a:ea typeface="楷体_GB2312"/>
              </a:rPr>
              <a:t>x </a:t>
            </a:r>
            <a:r>
              <a:rPr b="1" lang="zh-CN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6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3780000" y="5388120"/>
            <a:ext cx="2016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120</a:t>
            </a:r>
            <a:r>
              <a:rPr b="1" lang="en-US" sz="2800" spc="-1" strike="noStrike">
                <a:solidFill>
                  <a:srgbClr val="0000ff"/>
                </a:solidFill>
                <a:latin typeface="gzy"/>
                <a:ea typeface="楷体_GB2312"/>
              </a:rPr>
              <a:t>x </a:t>
            </a:r>
            <a:r>
              <a:rPr b="1" lang="zh-CN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6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354560" y="5819760"/>
            <a:ext cx="129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zy"/>
                <a:ea typeface="楷体_GB2312"/>
              </a:rPr>
              <a:t>x </a:t>
            </a:r>
            <a:r>
              <a:rPr b="1" lang="zh-CN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2916360" y="6245280"/>
            <a:ext cx="2809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答：经过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Calibri"/>
                <a:ea typeface="楷体_GB2312"/>
              </a:rPr>
              <a:t>时相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0" y="4221000"/>
            <a:ext cx="89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列火车行使的路程＋另一列火车行使的路程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250920" y="3645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么一列火车行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Χ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，另一列火车行驶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2Χ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468360" y="981000"/>
            <a:ext cx="187164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知识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755640" y="1916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用方程解应用题的一般步骤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55640" y="2924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读懂题意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找出未知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755640" y="3716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找等量关系列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755640" y="443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解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55640" y="5157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写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68360" y="1700280"/>
            <a:ext cx="77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挖一条长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的隧道，由甲、乙两个工程队从两端同时施工。甲队每天向前挖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，乙队每天向前挖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，挖通这条隧道要用多少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68436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c0000"/>
                </a:solidFill>
                <a:latin typeface="Calibri"/>
                <a:ea typeface="黑体"/>
              </a:rPr>
              <a:t>用方程解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755640" y="386064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挖通这条隧道要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χ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χ+5 χ=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692360" y="450864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2124000" y="465300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χ=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χ=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471636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c0000"/>
                </a:solidFill>
                <a:latin typeface="Calibri"/>
              </a:rPr>
              <a:t>算术方法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4643280" y="3860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65÷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+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15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635280" y="55897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答：挖通这条隧道要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RX_009"/>
          <p:cNvPicPr/>
          <p:nvPr/>
        </p:nvPicPr>
        <p:blipFill>
          <a:blip r:embed="rId1"/>
          <a:stretch/>
        </p:blipFill>
        <p:spPr>
          <a:xfrm>
            <a:off x="7812000" y="2565360"/>
            <a:ext cx="500040" cy="874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RX_008"/>
          <p:cNvPicPr/>
          <p:nvPr/>
        </p:nvPicPr>
        <p:blipFill>
          <a:blip r:embed="rId2"/>
          <a:stretch/>
        </p:blipFill>
        <p:spPr>
          <a:xfrm>
            <a:off x="917640" y="2955960"/>
            <a:ext cx="284040" cy="662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1258920" y="4797360"/>
            <a:ext cx="33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 Unicode MS"/>
              </a:rPr>
              <a:t>54×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χ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  <a:ea typeface="Arial Unicode MS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 Unicode MS"/>
              </a:rPr>
              <a:t>52×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χ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=5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332000" y="5084640"/>
            <a:ext cx="29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6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5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50920" y="5445000"/>
            <a:ext cx="19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Χ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411280" y="59500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他俩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分钟后见面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3"/>
          <a:stretch/>
        </p:blipFill>
        <p:spPr>
          <a:xfrm>
            <a:off x="3708360" y="130320"/>
            <a:ext cx="3816360" cy="1066680"/>
          </a:xfrm>
          <a:prstGeom prst="rect">
            <a:avLst/>
          </a:prstGeom>
          <a:ln w="0">
            <a:noFill/>
          </a:ln>
        </p:spPr>
      </p:pic>
      <p:sp>
        <p:nvSpPr>
          <p:cNvPr id="318" name="WordArt 9"/>
          <p:cNvSpPr txBox="1"/>
          <p:nvPr/>
        </p:nvSpPr>
        <p:spPr>
          <a:xfrm>
            <a:off x="900000" y="189000"/>
            <a:ext cx="23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0" y="1341360"/>
            <a:ext cx="8640360" cy="581400"/>
            <a:chOff x="0" y="1341360"/>
            <a:chExt cx="8640360" cy="581400"/>
          </a:xfrm>
        </p:grpSpPr>
        <p:sp>
          <p:nvSpPr>
            <p:cNvPr id="320" name="Text Box 11"/>
            <p:cNvSpPr/>
            <p:nvPr/>
          </p:nvSpPr>
          <p:spPr>
            <a:xfrm>
              <a:off x="549000" y="1341360"/>
              <a:ext cx="809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2d1d"/>
                  </a:solidFill>
                  <a:latin typeface="宋体"/>
                </a:rPr>
                <a:t>  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志明和小花家相距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530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米，俩人约定见面后一起去书城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见面方式如图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。他俩几分钟后相遇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0" y="1412640"/>
              <a:ext cx="86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971640" y="2997000"/>
            <a:ext cx="7632360" cy="1099440"/>
            <a:chOff x="971640" y="2997000"/>
            <a:chExt cx="7632360" cy="1099440"/>
          </a:xfrm>
        </p:grpSpPr>
        <p:grpSp>
          <p:nvGrpSpPr>
            <p:cNvPr id="323" name="Group 14"/>
            <p:cNvGrpSpPr/>
            <p:nvPr/>
          </p:nvGrpSpPr>
          <p:grpSpPr>
            <a:xfrm>
              <a:off x="1257840" y="2997000"/>
              <a:ext cx="6868080" cy="522360"/>
              <a:chOff x="1257840" y="2997000"/>
              <a:chExt cx="6868080" cy="522360"/>
            </a:xfrm>
          </p:grpSpPr>
          <p:grpSp>
            <p:nvGrpSpPr>
              <p:cNvPr id="324" name="Group 15"/>
              <p:cNvGrpSpPr/>
              <p:nvPr/>
            </p:nvGrpSpPr>
            <p:grpSpPr>
              <a:xfrm>
                <a:off x="1257840" y="3414600"/>
                <a:ext cx="6868080" cy="104760"/>
                <a:chOff x="1257840" y="3414600"/>
                <a:chExt cx="6868080" cy="104760"/>
              </a:xfrm>
            </p:grpSpPr>
            <p:sp>
              <p:nvSpPr>
                <p:cNvPr id="325" name="Line 16"/>
                <p:cNvSpPr/>
                <p:nvPr/>
              </p:nvSpPr>
              <p:spPr>
                <a:xfrm>
                  <a:off x="1257840" y="3467880"/>
                  <a:ext cx="686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Line 17"/>
                <p:cNvSpPr/>
                <p:nvPr/>
              </p:nvSpPr>
              <p:spPr>
                <a:xfrm flipV="1">
                  <a:off x="1257840" y="3414600"/>
                  <a:ext cx="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Line 18"/>
                <p:cNvSpPr/>
                <p:nvPr/>
              </p:nvSpPr>
              <p:spPr>
                <a:xfrm flipV="1">
                  <a:off x="8125920" y="3414600"/>
                  <a:ext cx="0" cy="1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28" name="Line 19"/>
              <p:cNvSpPr/>
              <p:nvPr/>
            </p:nvSpPr>
            <p:spPr>
              <a:xfrm flipV="1">
                <a:off x="4982040" y="299700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Line 20"/>
              <p:cNvSpPr/>
              <p:nvPr/>
            </p:nvSpPr>
            <p:spPr>
              <a:xfrm>
                <a:off x="4982040" y="3153600"/>
                <a:ext cx="34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Line 21"/>
              <p:cNvSpPr/>
              <p:nvPr/>
            </p:nvSpPr>
            <p:spPr>
              <a:xfrm>
                <a:off x="4982040" y="2997360"/>
                <a:ext cx="34848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1" name="Text Box 22"/>
            <p:cNvSpPr/>
            <p:nvPr/>
          </p:nvSpPr>
          <p:spPr>
            <a:xfrm>
              <a:off x="971640" y="3636720"/>
              <a:ext cx="295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志明每分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54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5646240" y="3636720"/>
              <a:ext cx="295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小花每分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5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>
              <a:off x="1257840" y="3577680"/>
              <a:ext cx="104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 flipH="1">
              <a:off x="6981840" y="3577680"/>
              <a:ext cx="114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 Box 26"/>
          <p:cNvSpPr/>
          <p:nvPr/>
        </p:nvSpPr>
        <p:spPr>
          <a:xfrm>
            <a:off x="1403280" y="443700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</a:t>
            </a:r>
            <a:r>
              <a:rPr b="1" lang="zh-CN" sz="1800" spc="-1" strike="noStrike">
                <a:solidFill>
                  <a:srgbClr val="1f2d1d"/>
                </a:solidFill>
                <a:latin typeface="Calibri"/>
              </a:rPr>
              <a:t>他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Χ</a:t>
            </a:r>
            <a:r>
              <a:rPr b="1" lang="zh-CN" sz="1800" spc="-1" strike="noStrike">
                <a:solidFill>
                  <a:srgbClr val="1f2d1d"/>
                </a:solidFill>
                <a:latin typeface="Calibri"/>
              </a:rPr>
              <a:t>分钟后见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395280" y="189000"/>
            <a:ext cx="8351640" cy="6092280"/>
            <a:chOff x="395280" y="189000"/>
            <a:chExt cx="8351640" cy="6092280"/>
          </a:xfrm>
        </p:grpSpPr>
        <p:pic>
          <p:nvPicPr>
            <p:cNvPr id="337" name="WordArt 3" descr=""/>
            <p:cNvPicPr/>
            <p:nvPr/>
          </p:nvPicPr>
          <p:blipFill>
            <a:blip r:embed="rId1"/>
            <a:stretch/>
          </p:blipFill>
          <p:spPr>
            <a:xfrm>
              <a:off x="3620880" y="5601600"/>
              <a:ext cx="1395360" cy="6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" descr=""/>
            <p:cNvPicPr/>
            <p:nvPr/>
          </p:nvPicPr>
          <p:blipFill>
            <a:blip r:embed="rId2"/>
            <a:stretch/>
          </p:blipFill>
          <p:spPr>
            <a:xfrm>
              <a:off x="542520" y="3680280"/>
              <a:ext cx="115200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" descr="狮"/>
            <p:cNvPicPr/>
            <p:nvPr/>
          </p:nvPicPr>
          <p:blipFill>
            <a:blip r:embed="rId3"/>
            <a:stretch/>
          </p:blipFill>
          <p:spPr>
            <a:xfrm>
              <a:off x="4958280" y="2047680"/>
              <a:ext cx="12459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6" descr="虎1"/>
            <p:cNvPicPr/>
            <p:nvPr/>
          </p:nvPicPr>
          <p:blipFill>
            <a:blip r:embed="rId4"/>
            <a:stretch/>
          </p:blipFill>
          <p:spPr>
            <a:xfrm>
              <a:off x="6872760" y="5328000"/>
              <a:ext cx="681480" cy="95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马1"/>
            <p:cNvPicPr/>
            <p:nvPr/>
          </p:nvPicPr>
          <p:blipFill>
            <a:blip r:embed="rId5"/>
            <a:stretch/>
          </p:blipFill>
          <p:spPr>
            <a:xfrm>
              <a:off x="7608240" y="3384000"/>
              <a:ext cx="1138680" cy="137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WordArt 8" descr=""/>
            <p:cNvPicPr/>
            <p:nvPr/>
          </p:nvPicPr>
          <p:blipFill>
            <a:blip r:embed="rId6"/>
            <a:stretch/>
          </p:blipFill>
          <p:spPr>
            <a:xfrm>
              <a:off x="3163680" y="3005640"/>
              <a:ext cx="143892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WordArt 9" descr=""/>
            <p:cNvPicPr/>
            <p:nvPr/>
          </p:nvPicPr>
          <p:blipFill>
            <a:blip r:embed="rId7"/>
            <a:stretch/>
          </p:blipFill>
          <p:spPr>
            <a:xfrm>
              <a:off x="7066080" y="2705760"/>
              <a:ext cx="153000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WordArt 10" descr=""/>
            <p:cNvPicPr/>
            <p:nvPr/>
          </p:nvPicPr>
          <p:blipFill>
            <a:blip r:embed="rId8"/>
            <a:stretch/>
          </p:blipFill>
          <p:spPr>
            <a:xfrm>
              <a:off x="7565760" y="5364000"/>
              <a:ext cx="11210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WordArt 11" descr=""/>
            <p:cNvPicPr/>
            <p:nvPr/>
          </p:nvPicPr>
          <p:blipFill>
            <a:blip r:embed="rId9"/>
            <a:stretch/>
          </p:blipFill>
          <p:spPr>
            <a:xfrm>
              <a:off x="5858640" y="2347560"/>
              <a:ext cx="1218600" cy="8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WordArt 12" descr="白色大理石"/>
            <p:cNvPicPr/>
            <p:nvPr/>
          </p:nvPicPr>
          <p:blipFill>
            <a:blip r:embed="rId10"/>
            <a:stretch/>
          </p:blipFill>
          <p:spPr>
            <a:xfrm>
              <a:off x="597960" y="5070960"/>
              <a:ext cx="1182600" cy="5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13"/>
            <p:cNvSpPr/>
            <p:nvPr/>
          </p:nvSpPr>
          <p:spPr>
            <a:xfrm>
              <a:off x="1902240" y="3087720"/>
              <a:ext cx="3238920" cy="11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866600" y="5018760"/>
              <a:ext cx="4858560" cy="111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866600" y="4339080"/>
              <a:ext cx="5741280" cy="356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WordArt 16" descr=""/>
            <p:cNvPicPr/>
            <p:nvPr/>
          </p:nvPicPr>
          <p:blipFill>
            <a:blip r:embed="rId11"/>
            <a:stretch/>
          </p:blipFill>
          <p:spPr>
            <a:xfrm>
              <a:off x="5241960" y="3968640"/>
              <a:ext cx="1395720" cy="6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AutoShape 17"/>
            <p:cNvSpPr/>
            <p:nvPr/>
          </p:nvSpPr>
          <p:spPr>
            <a:xfrm>
              <a:off x="395280" y="189000"/>
              <a:ext cx="4966920" cy="2377800"/>
            </a:xfrm>
            <a:prstGeom prst="cloudCallout">
              <a:avLst>
                <a:gd name="adj1" fmla="val -29449"/>
                <a:gd name="adj2" fmla="val 8980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503640" y="486720"/>
              <a:ext cx="4658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Calibri"/>
                </a:rPr>
                <a:t>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Calibri"/>
                </a:rPr>
                <a:t>我该选择和哪只动物从跑道两端同时相对出发</a:t>
              </a:r>
              <a:r>
                <a:rPr b="1" lang="zh-CN" sz="2400" spc="-1" strike="noStrike">
                  <a:solidFill>
                    <a:srgbClr val="0000cc"/>
                  </a:solidFill>
                  <a:latin typeface="Calibri"/>
                </a:rPr>
                <a:t>，</a:t>
              </a:r>
              <a:r>
                <a:rPr b="1" lang="zh-CN" sz="2400" spc="-1" strike="noStrike">
                  <a:solidFill>
                    <a:srgbClr val="ff0101"/>
                  </a:solidFill>
                  <a:latin typeface="Calibri"/>
                </a:rPr>
                <a:t>相遇时间最短</a:t>
              </a:r>
              <a:r>
                <a:rPr b="1" lang="zh-CN" sz="2400" spc="-1" strike="noStrike">
                  <a:solidFill>
                    <a:srgbClr val="0000ff"/>
                  </a:solidFill>
                  <a:latin typeface="Calibri"/>
                </a:rPr>
                <a:t>呢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?</a:t>
              </a:r>
              <a:r>
                <a:rPr b="1" lang="zh-CN" sz="2400" spc="-1" strike="noStrike">
                  <a:solidFill>
                    <a:srgbClr val="0000ff"/>
                  </a:solidFill>
                  <a:latin typeface="Calibri"/>
                </a:rPr>
                <a:t>入场券可在它身上呀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  <p:sndAc>
      <p:stSnd>
        <p:snd r:embed="rId12" name="chimes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700360" y="105264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2639520" y="2437560"/>
            <a:ext cx="1058040" cy="1004760"/>
            <a:chOff x="2639520" y="2437560"/>
            <a:chExt cx="1058040" cy="1004760"/>
          </a:xfrm>
        </p:grpSpPr>
        <p:sp>
          <p:nvSpPr>
            <p:cNvPr id="355" name="Freeform 4"/>
            <p:cNvSpPr/>
            <p:nvPr/>
          </p:nvSpPr>
          <p:spPr>
            <a:xfrm flipH="1" rot="20964000">
              <a:off x="2706840" y="2526840"/>
              <a:ext cx="922320" cy="82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 flipH="1" rot="20964000">
              <a:off x="2748240" y="3007440"/>
              <a:ext cx="184320" cy="27612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 flipH="1" rot="20964000">
              <a:off x="2858760" y="3069000"/>
              <a:ext cx="283680" cy="29412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 flipH="1" rot="20964000">
              <a:off x="3364200" y="2592000"/>
              <a:ext cx="192960" cy="21924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 flipH="1" rot="20964000">
              <a:off x="2854800" y="2967120"/>
              <a:ext cx="203760" cy="1602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 flipH="1" rot="20964000">
              <a:off x="2918880" y="3165480"/>
              <a:ext cx="54000" cy="64440"/>
            </a:xfrm>
            <a:prstGeom prst="pie">
              <a:avLst/>
            </a:pr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 flipH="1" rot="20964000">
              <a:off x="2785680" y="3099600"/>
              <a:ext cx="39960" cy="55440"/>
            </a:xfrm>
            <a:prstGeom prst="pie">
              <a:avLst/>
            </a:pr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 flipH="1" rot="20964000">
              <a:off x="3093120" y="2689560"/>
              <a:ext cx="417240" cy="32364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 flipH="1" rot="20964000">
              <a:off x="3311640" y="2474280"/>
              <a:ext cx="222120" cy="137520"/>
            </a:xfrm>
            <a:prstGeom prst="pie">
              <a:avLst/>
            </a:pr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 flipH="1" rot="20964000">
              <a:off x="3319920" y="2614320"/>
              <a:ext cx="57240" cy="79920"/>
            </a:xfrm>
            <a:prstGeom prst="pie">
              <a:avLst/>
            </a:pr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 flipH="1" rot="20964000">
              <a:off x="3110760" y="2940840"/>
              <a:ext cx="226440" cy="261360"/>
            </a:xfrm>
            <a:prstGeom prst="pie">
              <a:avLst/>
            </a:prstGeom>
            <a:solidFill>
              <a:srgbClr val="8a9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 flipH="1" rot="20964000">
              <a:off x="3526920" y="2600640"/>
              <a:ext cx="54000" cy="601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 flipH="1" rot="20964000">
              <a:off x="3445920" y="2609640"/>
              <a:ext cx="54000" cy="644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 flipH="1" rot="20964000">
              <a:off x="3551400" y="2850480"/>
              <a:ext cx="68040" cy="9828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 flipH="1" rot="20964000">
              <a:off x="3496680" y="2940840"/>
              <a:ext cx="127800" cy="7884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 flipH="1" rot="20964000">
              <a:off x="3508920" y="3098160"/>
              <a:ext cx="129960" cy="1738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 flipH="1" rot="20964000">
              <a:off x="2913840" y="2966400"/>
              <a:ext cx="496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 flipH="1" rot="20964000">
              <a:off x="2954160" y="2779920"/>
              <a:ext cx="202320" cy="20772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 flipH="1" rot="20964000">
              <a:off x="3249360" y="3027960"/>
              <a:ext cx="200520" cy="18396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 flipH="1" rot="20964000">
              <a:off x="3150720" y="3192120"/>
              <a:ext cx="127800" cy="7920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 flipH="1" rot="20964000">
              <a:off x="2941560" y="2892240"/>
              <a:ext cx="78840" cy="10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 flipH="1" rot="20964000">
              <a:off x="2982240" y="2741760"/>
              <a:ext cx="180720" cy="14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 flipH="1" rot="20964000">
              <a:off x="3031560" y="2818440"/>
              <a:ext cx="11592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 flipH="1" rot="20964000">
              <a:off x="3039480" y="2963880"/>
              <a:ext cx="302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8"/>
            <p:cNvSpPr/>
            <p:nvPr/>
          </p:nvSpPr>
          <p:spPr>
            <a:xfrm flipH="1" rot="20964000">
              <a:off x="2995560" y="2963520"/>
              <a:ext cx="3456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9"/>
            <p:cNvSpPr/>
            <p:nvPr/>
          </p:nvSpPr>
          <p:spPr>
            <a:xfrm flipH="1" rot="20964000">
              <a:off x="2975400" y="2963880"/>
              <a:ext cx="2052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 flipH="1" rot="20964000">
              <a:off x="3027240" y="2995560"/>
              <a:ext cx="1836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 flipH="1" rot="20964000">
              <a:off x="2904480" y="2960640"/>
              <a:ext cx="4932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 flipH="1" rot="20964000">
              <a:off x="2932560" y="2984760"/>
              <a:ext cx="3636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 flipH="1" rot="20964000">
              <a:off x="3101040" y="2848320"/>
              <a:ext cx="5616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 flipH="1" rot="20964000">
              <a:off x="3426840" y="2950920"/>
              <a:ext cx="1137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 flipH="1" rot="20964000">
              <a:off x="3158640" y="2955600"/>
              <a:ext cx="190800" cy="21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 flipH="1" rot="20964000">
              <a:off x="3315960" y="3021840"/>
              <a:ext cx="6804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 flipH="1" rot="20964000">
              <a:off x="3369240" y="3074760"/>
              <a:ext cx="9108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 flipH="1" rot="20964000">
              <a:off x="3260880" y="3084840"/>
              <a:ext cx="17568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 flipH="1" rot="20964000">
              <a:off x="3135960" y="3110400"/>
              <a:ext cx="193680" cy="10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 flipH="1" rot="20964000">
              <a:off x="3438000" y="3140280"/>
              <a:ext cx="5184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 flipH="1" rot="20964000">
              <a:off x="3506760" y="3091680"/>
              <a:ext cx="13104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 flipH="1" rot="20964000">
              <a:off x="3549960" y="3142800"/>
              <a:ext cx="529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 flipH="1" rot="20964000">
              <a:off x="3538800" y="3178800"/>
              <a:ext cx="464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 flipH="1" rot="20964000">
              <a:off x="3529800" y="3207960"/>
              <a:ext cx="3780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 flipH="1" rot="20964000">
              <a:off x="3530520" y="3231360"/>
              <a:ext cx="226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 flipH="1" rot="20964000">
              <a:off x="3483000" y="3058200"/>
              <a:ext cx="1375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 flipH="1" rot="20964000">
              <a:off x="3477600" y="3080880"/>
              <a:ext cx="3564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 flipH="1" rot="20964000">
              <a:off x="3462480" y="3198240"/>
              <a:ext cx="2052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 flipH="1" rot="20964000">
              <a:off x="3474360" y="3143520"/>
              <a:ext cx="17208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 flipH="1" rot="20964000">
              <a:off x="3154320" y="3195000"/>
              <a:ext cx="16272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 flipH="1" rot="20964000">
              <a:off x="3133800" y="3177000"/>
              <a:ext cx="88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 flipH="1" rot="20964000">
              <a:off x="3141000" y="3181680"/>
              <a:ext cx="51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 flipH="1" rot="20964000">
              <a:off x="3059280" y="3183120"/>
              <a:ext cx="103680" cy="11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54"/>
            <p:cNvSpPr/>
            <p:nvPr/>
          </p:nvSpPr>
          <p:spPr>
            <a:xfrm flipH="1" rot="20964000">
              <a:off x="3518280" y="2863440"/>
              <a:ext cx="291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 flipH="1" rot="20964000">
              <a:off x="3540960" y="2831400"/>
              <a:ext cx="9648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56"/>
            <p:cNvSpPr/>
            <p:nvPr/>
          </p:nvSpPr>
          <p:spPr>
            <a:xfrm flipH="1" rot="20964000">
              <a:off x="3544560" y="2863440"/>
              <a:ext cx="5616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57"/>
            <p:cNvSpPr/>
            <p:nvPr/>
          </p:nvSpPr>
          <p:spPr>
            <a:xfrm flipH="1" rot="20964000">
              <a:off x="3474360" y="2949120"/>
              <a:ext cx="17568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58"/>
            <p:cNvSpPr/>
            <p:nvPr/>
          </p:nvSpPr>
          <p:spPr>
            <a:xfrm flipH="1" rot="20964000">
              <a:off x="3565800" y="2955600"/>
              <a:ext cx="223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9"/>
            <p:cNvSpPr/>
            <p:nvPr/>
          </p:nvSpPr>
          <p:spPr>
            <a:xfrm flipH="1" rot="20964000">
              <a:off x="2729160" y="2951280"/>
              <a:ext cx="38808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0"/>
            <p:cNvSpPr/>
            <p:nvPr/>
          </p:nvSpPr>
          <p:spPr>
            <a:xfrm flipH="1" rot="20964000">
              <a:off x="2774160" y="3095280"/>
              <a:ext cx="3837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61"/>
            <p:cNvSpPr/>
            <p:nvPr/>
          </p:nvSpPr>
          <p:spPr>
            <a:xfrm flipH="1" rot="20964000">
              <a:off x="2915640" y="3161160"/>
              <a:ext cx="637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2"/>
            <p:cNvSpPr/>
            <p:nvPr/>
          </p:nvSpPr>
          <p:spPr>
            <a:xfrm flipH="1" rot="20964000">
              <a:off x="2846520" y="3071160"/>
              <a:ext cx="128880" cy="32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63"/>
            <p:cNvSpPr/>
            <p:nvPr/>
          </p:nvSpPr>
          <p:spPr>
            <a:xfrm flipH="1" rot="20964000">
              <a:off x="2740680" y="3070440"/>
              <a:ext cx="2023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64"/>
            <p:cNvSpPr/>
            <p:nvPr/>
          </p:nvSpPr>
          <p:spPr>
            <a:xfrm flipH="1" rot="20964000">
              <a:off x="2783520" y="3095640"/>
              <a:ext cx="5076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65"/>
            <p:cNvSpPr/>
            <p:nvPr/>
          </p:nvSpPr>
          <p:spPr>
            <a:xfrm flipH="1" rot="20964000">
              <a:off x="3461760" y="2451960"/>
              <a:ext cx="85320" cy="14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66"/>
            <p:cNvSpPr/>
            <p:nvPr/>
          </p:nvSpPr>
          <p:spPr>
            <a:xfrm flipH="1" rot="20964000">
              <a:off x="3424320" y="2478600"/>
              <a:ext cx="457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67"/>
            <p:cNvSpPr/>
            <p:nvPr/>
          </p:nvSpPr>
          <p:spPr>
            <a:xfrm flipH="1" rot="20964000">
              <a:off x="3312720" y="2504520"/>
              <a:ext cx="108360" cy="6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68"/>
            <p:cNvSpPr/>
            <p:nvPr/>
          </p:nvSpPr>
          <p:spPr>
            <a:xfrm flipH="1" rot="20964000">
              <a:off x="3399840" y="2527560"/>
              <a:ext cx="5184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69"/>
            <p:cNvSpPr/>
            <p:nvPr/>
          </p:nvSpPr>
          <p:spPr>
            <a:xfrm flipH="1" rot="20964000">
              <a:off x="3321360" y="2565360"/>
              <a:ext cx="117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70"/>
            <p:cNvSpPr/>
            <p:nvPr/>
          </p:nvSpPr>
          <p:spPr>
            <a:xfrm flipH="1" rot="20964000">
              <a:off x="3309120" y="2604600"/>
              <a:ext cx="388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71"/>
            <p:cNvSpPr/>
            <p:nvPr/>
          </p:nvSpPr>
          <p:spPr>
            <a:xfrm flipH="1" rot="20964000">
              <a:off x="3535560" y="2660040"/>
              <a:ext cx="367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72"/>
            <p:cNvSpPr/>
            <p:nvPr/>
          </p:nvSpPr>
          <p:spPr>
            <a:xfrm flipH="1" rot="20964000">
              <a:off x="3344400" y="2652480"/>
              <a:ext cx="23400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73"/>
            <p:cNvSpPr/>
            <p:nvPr/>
          </p:nvSpPr>
          <p:spPr>
            <a:xfrm flipH="1" rot="20964000">
              <a:off x="3463200" y="2692080"/>
              <a:ext cx="9756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74"/>
            <p:cNvSpPr/>
            <p:nvPr/>
          </p:nvSpPr>
          <p:spPr>
            <a:xfrm flipH="1" rot="20964000">
              <a:off x="3495600" y="2738880"/>
              <a:ext cx="4752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5"/>
            <p:cNvSpPr/>
            <p:nvPr/>
          </p:nvSpPr>
          <p:spPr>
            <a:xfrm flipH="1" rot="20964000">
              <a:off x="3486240" y="2753280"/>
              <a:ext cx="464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76"/>
            <p:cNvSpPr/>
            <p:nvPr/>
          </p:nvSpPr>
          <p:spPr>
            <a:xfrm flipH="1" rot="20964000">
              <a:off x="3501360" y="2626200"/>
              <a:ext cx="2916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77"/>
            <p:cNvSpPr/>
            <p:nvPr/>
          </p:nvSpPr>
          <p:spPr>
            <a:xfrm flipH="1" rot="20964000">
              <a:off x="3314880" y="2624040"/>
              <a:ext cx="12888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78"/>
            <p:cNvSpPr/>
            <p:nvPr/>
          </p:nvSpPr>
          <p:spPr>
            <a:xfrm flipH="1" rot="20964000">
              <a:off x="3403440" y="2783160"/>
              <a:ext cx="547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79"/>
            <p:cNvSpPr/>
            <p:nvPr/>
          </p:nvSpPr>
          <p:spPr>
            <a:xfrm flipH="1" rot="20964000">
              <a:off x="3521520" y="2593440"/>
              <a:ext cx="637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80"/>
            <p:cNvSpPr/>
            <p:nvPr/>
          </p:nvSpPr>
          <p:spPr>
            <a:xfrm flipH="1" rot="20964000">
              <a:off x="3532320" y="2641320"/>
              <a:ext cx="1080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81"/>
            <p:cNvSpPr/>
            <p:nvPr/>
          </p:nvSpPr>
          <p:spPr>
            <a:xfrm flipH="1" rot="20964000">
              <a:off x="3441240" y="2605680"/>
              <a:ext cx="6516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82"/>
            <p:cNvSpPr/>
            <p:nvPr/>
          </p:nvSpPr>
          <p:spPr>
            <a:xfrm flipH="1" rot="20964000">
              <a:off x="3451320" y="2653560"/>
              <a:ext cx="129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83"/>
            <p:cNvSpPr/>
            <p:nvPr/>
          </p:nvSpPr>
          <p:spPr>
            <a:xfrm flipH="1" rot="20964000">
              <a:off x="3540600" y="2628720"/>
              <a:ext cx="1620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4"/>
            <p:cNvSpPr/>
            <p:nvPr/>
          </p:nvSpPr>
          <p:spPr>
            <a:xfrm flipH="1" rot="20964000">
              <a:off x="3461400" y="2642760"/>
              <a:ext cx="1728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85"/>
            <p:cNvSpPr/>
            <p:nvPr/>
          </p:nvSpPr>
          <p:spPr>
            <a:xfrm flipH="1" rot="20964000">
              <a:off x="3140640" y="2463480"/>
              <a:ext cx="2851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86"/>
            <p:cNvSpPr/>
            <p:nvPr/>
          </p:nvSpPr>
          <p:spPr>
            <a:xfrm flipH="1" rot="20964000">
              <a:off x="3230280" y="2644560"/>
              <a:ext cx="6264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87"/>
            <p:cNvSpPr/>
            <p:nvPr/>
          </p:nvSpPr>
          <p:spPr>
            <a:xfrm flipH="1" rot="20964000">
              <a:off x="3155400" y="2617200"/>
              <a:ext cx="1353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88"/>
            <p:cNvSpPr/>
            <p:nvPr/>
          </p:nvSpPr>
          <p:spPr>
            <a:xfrm flipH="1" rot="20964000">
              <a:off x="3265560" y="2879640"/>
              <a:ext cx="145080" cy="9000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89"/>
            <p:cNvSpPr/>
            <p:nvPr/>
          </p:nvSpPr>
          <p:spPr>
            <a:xfrm flipH="1" rot="20964000">
              <a:off x="3227760" y="2873160"/>
              <a:ext cx="132120" cy="8712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90"/>
            <p:cNvSpPr/>
            <p:nvPr/>
          </p:nvSpPr>
          <p:spPr>
            <a:xfrm flipH="1" rot="20964000">
              <a:off x="3187800" y="2853720"/>
              <a:ext cx="117000" cy="8172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1"/>
            <p:cNvSpPr/>
            <p:nvPr/>
          </p:nvSpPr>
          <p:spPr>
            <a:xfrm flipH="1" rot="20964000">
              <a:off x="3157920" y="2877480"/>
              <a:ext cx="59400" cy="4788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92"/>
            <p:cNvSpPr/>
            <p:nvPr/>
          </p:nvSpPr>
          <p:spPr>
            <a:xfrm flipH="1" rot="20964000">
              <a:off x="3159360" y="2869560"/>
              <a:ext cx="182160" cy="14112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93"/>
            <p:cNvSpPr/>
            <p:nvPr/>
          </p:nvSpPr>
          <p:spPr>
            <a:xfrm flipH="1" rot="20964000">
              <a:off x="3236760" y="2853360"/>
              <a:ext cx="153720" cy="12564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94"/>
            <p:cNvSpPr/>
            <p:nvPr/>
          </p:nvSpPr>
          <p:spPr>
            <a:xfrm flipH="1" rot="20964000">
              <a:off x="3461400" y="2861640"/>
              <a:ext cx="34560" cy="9000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95"/>
            <p:cNvSpPr/>
            <p:nvPr/>
          </p:nvSpPr>
          <p:spPr>
            <a:xfrm flipH="1" rot="20964000">
              <a:off x="3435120" y="2869560"/>
              <a:ext cx="24840" cy="8712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96"/>
            <p:cNvSpPr/>
            <p:nvPr/>
          </p:nvSpPr>
          <p:spPr>
            <a:xfrm flipH="1" rot="20964000">
              <a:off x="3420000" y="2892240"/>
              <a:ext cx="95400" cy="2988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97"/>
            <p:cNvSpPr/>
            <p:nvPr/>
          </p:nvSpPr>
          <p:spPr>
            <a:xfrm flipH="1" rot="20964000">
              <a:off x="3166200" y="2729160"/>
              <a:ext cx="117000" cy="7668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98"/>
            <p:cNvSpPr/>
            <p:nvPr/>
          </p:nvSpPr>
          <p:spPr>
            <a:xfrm flipH="1" rot="20964000">
              <a:off x="3168360" y="2772720"/>
              <a:ext cx="95400" cy="6732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9"/>
            <p:cNvSpPr/>
            <p:nvPr/>
          </p:nvSpPr>
          <p:spPr>
            <a:xfrm flipH="1" rot="20964000">
              <a:off x="3213000" y="2723040"/>
              <a:ext cx="57240" cy="11556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0"/>
            <p:cNvSpPr/>
            <p:nvPr/>
          </p:nvSpPr>
          <p:spPr>
            <a:xfrm flipH="1" rot="20964000">
              <a:off x="3179520" y="2721240"/>
              <a:ext cx="41040" cy="12348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01"/>
            <p:cNvSpPr/>
            <p:nvPr/>
          </p:nvSpPr>
          <p:spPr>
            <a:xfrm flipH="1" rot="20964000">
              <a:off x="3179880" y="2696040"/>
              <a:ext cx="1267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02"/>
            <p:cNvSpPr/>
            <p:nvPr/>
          </p:nvSpPr>
          <p:spPr>
            <a:xfrm flipH="1" rot="20964000">
              <a:off x="3300480" y="2730960"/>
              <a:ext cx="6480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03"/>
            <p:cNvSpPr/>
            <p:nvPr/>
          </p:nvSpPr>
          <p:spPr>
            <a:xfrm flipH="1" rot="20964000">
              <a:off x="3080160" y="2931120"/>
              <a:ext cx="128880" cy="12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04"/>
            <p:cNvSpPr/>
            <p:nvPr/>
          </p:nvSpPr>
          <p:spPr>
            <a:xfrm flipH="1" rot="20964000">
              <a:off x="3351600" y="2723040"/>
              <a:ext cx="561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05"/>
            <p:cNvSpPr/>
            <p:nvPr/>
          </p:nvSpPr>
          <p:spPr>
            <a:xfrm flipH="1" rot="20964000">
              <a:off x="3389040" y="2814480"/>
              <a:ext cx="874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06"/>
            <p:cNvSpPr/>
            <p:nvPr/>
          </p:nvSpPr>
          <p:spPr>
            <a:xfrm flipH="1" rot="20964000">
              <a:off x="2967840" y="3048840"/>
              <a:ext cx="9216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07"/>
            <p:cNvSpPr/>
            <p:nvPr/>
          </p:nvSpPr>
          <p:spPr>
            <a:xfrm flipH="1" rot="20964000">
              <a:off x="2931120" y="3039120"/>
              <a:ext cx="2376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08"/>
            <p:cNvSpPr/>
            <p:nvPr/>
          </p:nvSpPr>
          <p:spPr>
            <a:xfrm flipH="1" rot="20964000">
              <a:off x="2898360" y="3022920"/>
              <a:ext cx="2268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09"/>
            <p:cNvSpPr/>
            <p:nvPr/>
          </p:nvSpPr>
          <p:spPr>
            <a:xfrm flipH="1" rot="20964000">
              <a:off x="2869560" y="3008520"/>
              <a:ext cx="201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10"/>
            <p:cNvSpPr/>
            <p:nvPr/>
          </p:nvSpPr>
          <p:spPr>
            <a:xfrm flipH="1" rot="20964000">
              <a:off x="2842560" y="2995200"/>
              <a:ext cx="19080" cy="1908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11"/>
            <p:cNvSpPr/>
            <p:nvPr/>
          </p:nvSpPr>
          <p:spPr>
            <a:xfrm flipH="1" rot="20964000">
              <a:off x="3319560" y="2901240"/>
              <a:ext cx="108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2"/>
            <p:cNvSpPr/>
            <p:nvPr/>
          </p:nvSpPr>
          <p:spPr>
            <a:xfrm flipH="1" rot="20964000">
              <a:off x="3396240" y="2929680"/>
              <a:ext cx="1105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13"/>
            <p:cNvSpPr/>
            <p:nvPr/>
          </p:nvSpPr>
          <p:spPr>
            <a:xfrm flipH="1" rot="20964000">
              <a:off x="3471840" y="2842560"/>
              <a:ext cx="475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14"/>
            <p:cNvSpPr/>
            <p:nvPr/>
          </p:nvSpPr>
          <p:spPr>
            <a:xfrm flipH="1" rot="20964000">
              <a:off x="3138840" y="2704680"/>
              <a:ext cx="13212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6" name="Picture 115" descr=""/>
          <p:cNvPicPr/>
          <p:nvPr/>
        </p:nvPicPr>
        <p:blipFill>
          <a:blip r:embed="rId1"/>
          <a:stretch/>
        </p:blipFill>
        <p:spPr>
          <a:xfrm rot="21354600">
            <a:off x="1886040" y="2346480"/>
            <a:ext cx="772920" cy="113184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116"/>
          <p:cNvSpPr/>
          <p:nvPr/>
        </p:nvSpPr>
        <p:spPr>
          <a:xfrm>
            <a:off x="900000" y="3500280"/>
            <a:ext cx="3600720" cy="1008360"/>
          </a:xfrm>
          <a:prstGeom prst="pie">
            <a:avLst/>
          </a:prstGeom>
          <a:solidFill>
            <a:srgbClr val="66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117"/>
          <p:cNvSpPr/>
          <p:nvPr/>
        </p:nvSpPr>
        <p:spPr>
          <a:xfrm>
            <a:off x="1332000" y="404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环行跑道上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和小刚同时从同一地点相背而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平均每分跑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刚平均每分跑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过几分他们会相遇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WordArt 118"/>
          <p:cNvSpPr txBox="1"/>
          <p:nvPr/>
        </p:nvSpPr>
        <p:spPr>
          <a:xfrm rot="6175200">
            <a:off x="-326520" y="940680"/>
            <a:ext cx="215892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生活数学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0" name="Oval 119"/>
          <p:cNvSpPr/>
          <p:nvPr/>
        </p:nvSpPr>
        <p:spPr>
          <a:xfrm>
            <a:off x="2556000" y="3429000"/>
            <a:ext cx="21564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20"/>
          <p:cNvSpPr/>
          <p:nvPr/>
        </p:nvSpPr>
        <p:spPr>
          <a:xfrm>
            <a:off x="2556000" y="3429000"/>
            <a:ext cx="21564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21"/>
          <p:cNvSpPr/>
          <p:nvPr/>
        </p:nvSpPr>
        <p:spPr>
          <a:xfrm>
            <a:off x="4067280" y="2492280"/>
            <a:ext cx="410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解：设经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χ +250χ=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+25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χ=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50χ=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χ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答：再经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后两人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122"/>
          <p:cNvGrpSpPr/>
          <p:nvPr/>
        </p:nvGrpSpPr>
        <p:grpSpPr>
          <a:xfrm>
            <a:off x="1774440" y="3760200"/>
            <a:ext cx="307800" cy="513360"/>
            <a:chOff x="1774440" y="3760200"/>
            <a:chExt cx="307800" cy="513360"/>
          </a:xfrm>
        </p:grpSpPr>
        <p:sp>
          <p:nvSpPr>
            <p:cNvPr id="474" name="AutoShape 123"/>
            <p:cNvSpPr/>
            <p:nvPr/>
          </p:nvSpPr>
          <p:spPr>
            <a:xfrm rot="5182200">
              <a:off x="1759680" y="3793320"/>
              <a:ext cx="336600" cy="2872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124"/>
            <p:cNvSpPr/>
            <p:nvPr/>
          </p:nvSpPr>
          <p:spPr>
            <a:xfrm>
              <a:off x="1784520" y="3768840"/>
              <a:ext cx="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Oval 125"/>
          <p:cNvSpPr/>
          <p:nvPr/>
        </p:nvSpPr>
        <p:spPr>
          <a:xfrm>
            <a:off x="2556000" y="34290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126" descr="蝴蝶4"/>
          <p:cNvPicPr/>
          <p:nvPr/>
        </p:nvPicPr>
        <p:blipFill>
          <a:blip r:embed="rId2"/>
          <a:stretch/>
        </p:blipFill>
        <p:spPr>
          <a:xfrm>
            <a:off x="8459640" y="6237360"/>
            <a:ext cx="289080" cy="207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3%8A%E5%8F%B9%E5%8F%B7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%E6%B0%B4.WAV"/>
                                        </p:tgtEl>
                                      </p:cMediaNode>
                                    </p:audio>
                                    <p:animMotion origin="layout" path="M -0.00208 0.00092 C -0.01042 1.26214000000001E-006 -0.06389 0.00763 -0.08333 0.01063 C -0.10278 0.01364 -0.10816 0.01433 -0.11875 0.01895 C -0.13333 0.02311 -0.13455 0.03629 -0.14688 0.03768 C -0.15573 0.04438 -0.15347 0.07605 -0.16458 0.07605 C -0.16111 0.08923 -0.13629 0.10841 -0.12604 0.11627 C -0.1191 0.12228 -0.11059 0.11974 -0.10278 0.12321 C -0.10052 0.13153 -0.10278 0.12899 -0.09531 0.12899 E">
                                      <p:cBhvr>
                                        <p:cTn id="778" dur="3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77 C 0.01771 0.00347 0.0309 1.26214000000001E-006 0.04514 0.00115 C 0.05486 0.00208 0.06528 0.00416 0.07431 0.00809 C 0.08524 0.01294 0.09844 0.01248 0.10972 0.01364 C 0.12118 0.0171 0.13924 0.02635 0.14306 0.02889 C 0.15121 0.03329 0.1533 0.03352 0.15868 0.04022 C 0.15885 0.04091 0.17535 0.06842 0.17535 0.06935 C 0.17361 0.08021 0.15764 0.09732 0.14809 0.10564 C 0.14132 0.10864 0.12344 0.1172 0.11788 0.11951 C 0.11233 0.12182 0.12656 0.11697 0.11476 0.11951 C 0.10191 0.12159 0.08212 0.13477 0.04653 0.13523 C 0.01094 0.13569 -0.07569 0.13245 -0.09844 0.12228 E">
                                      <p:cBhvr>
                                        <p:cTn id="780" dur="3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4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%E6%83%8A%E5%8F%B9%E5%8F%B7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796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Next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9" dur="1" fill="hold"/>
                                  <p:tgtEl>
                                    <p:spTgt spid="4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332000" y="112536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2349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本节课我们主要来学习相遇，同学们要结合日常生活中的实际例子理解相遇的含义，能够用列方程的方法或者用算术方法解决相遇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1187280" y="54936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下图是一块草坪。小林和小梅同时从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地向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B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地走去，小林从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→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→B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方向走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每分走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米，小红从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→B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方向走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每分走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米。经过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分钟在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B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地相遇。三角形的周长是多少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684360" y="2637000"/>
            <a:ext cx="7200360" cy="2886120"/>
            <a:chOff x="684360" y="2637000"/>
            <a:chExt cx="7200360" cy="2886120"/>
          </a:xfrm>
        </p:grpSpPr>
        <p:grpSp>
          <p:nvGrpSpPr>
            <p:cNvPr id="480" name="Group 4"/>
            <p:cNvGrpSpPr/>
            <p:nvPr/>
          </p:nvGrpSpPr>
          <p:grpSpPr>
            <a:xfrm>
              <a:off x="1073160" y="3141360"/>
              <a:ext cx="6424200" cy="2231640"/>
              <a:chOff x="1073160" y="3141360"/>
              <a:chExt cx="6424200" cy="2231640"/>
            </a:xfrm>
          </p:grpSpPr>
          <p:sp>
            <p:nvSpPr>
              <p:cNvPr id="481" name="Line 5"/>
              <p:cNvSpPr/>
              <p:nvPr/>
            </p:nvSpPr>
            <p:spPr>
              <a:xfrm>
                <a:off x="1073160" y="5068800"/>
                <a:ext cx="6424200" cy="304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Line 6"/>
              <p:cNvSpPr/>
              <p:nvPr/>
            </p:nvSpPr>
            <p:spPr>
              <a:xfrm flipV="1">
                <a:off x="1073160" y="3141360"/>
                <a:ext cx="1242360" cy="192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7"/>
              <p:cNvSpPr/>
              <p:nvPr/>
            </p:nvSpPr>
            <p:spPr>
              <a:xfrm>
                <a:off x="2315520" y="3141720"/>
                <a:ext cx="5181480" cy="22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4" name="Text Box 8"/>
            <p:cNvSpPr/>
            <p:nvPr/>
          </p:nvSpPr>
          <p:spPr>
            <a:xfrm>
              <a:off x="684360" y="4726080"/>
              <a:ext cx="45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431480" y="4941720"/>
              <a:ext cx="45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2175840" y="2637000"/>
              <a:ext cx="45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Picture 11" descr="RX_003"/>
          <p:cNvPicPr/>
          <p:nvPr/>
        </p:nvPicPr>
        <p:blipFill>
          <a:blip r:embed="rId1"/>
          <a:stretch/>
        </p:blipFill>
        <p:spPr>
          <a:xfrm flipH="1">
            <a:off x="178920" y="4292640"/>
            <a:ext cx="652680" cy="1004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" descr="RX_008"/>
          <p:cNvPicPr/>
          <p:nvPr/>
        </p:nvPicPr>
        <p:blipFill>
          <a:blip r:embed="rId2"/>
          <a:stretch/>
        </p:blipFill>
        <p:spPr>
          <a:xfrm>
            <a:off x="685800" y="3668760"/>
            <a:ext cx="571680" cy="13161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3"/>
          <p:cNvSpPr/>
          <p:nvPr/>
        </p:nvSpPr>
        <p:spPr>
          <a:xfrm>
            <a:off x="2987640" y="2421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综合算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5580000" y="2708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0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0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  <a:ea typeface="Arial Unicode MS"/>
              </a:rPr>
              <a:t>×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5651640" y="328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10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  <a:ea typeface="Arial Unicode MS"/>
              </a:rPr>
              <a:t>×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16"/>
          <p:cNvSpPr/>
          <p:nvPr/>
        </p:nvSpPr>
        <p:spPr>
          <a:xfrm>
            <a:off x="5651640" y="386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60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2700360" y="57340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答：三角形的周长是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660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18"/>
          <p:cNvGrpSpPr/>
          <p:nvPr/>
        </p:nvGrpSpPr>
        <p:grpSpPr>
          <a:xfrm>
            <a:off x="250920" y="333360"/>
            <a:ext cx="739800" cy="1490400"/>
            <a:chOff x="250920" y="333360"/>
            <a:chExt cx="739800" cy="1490400"/>
          </a:xfrm>
        </p:grpSpPr>
        <p:pic>
          <p:nvPicPr>
            <p:cNvPr id="495" name="Picture 19" descr=""/>
            <p:cNvPicPr/>
            <p:nvPr/>
          </p:nvPicPr>
          <p:blipFill>
            <a:blip r:embed="rId3"/>
            <a:stretch/>
          </p:blipFill>
          <p:spPr>
            <a:xfrm>
              <a:off x="447840" y="1135440"/>
              <a:ext cx="255240" cy="4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0" descr="WY_083"/>
            <p:cNvPicPr/>
            <p:nvPr/>
          </p:nvPicPr>
          <p:blipFill>
            <a:blip r:embed="rId4"/>
            <a:stretch/>
          </p:blipFill>
          <p:spPr>
            <a:xfrm>
              <a:off x="258840" y="333360"/>
              <a:ext cx="73152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21"/>
            <p:cNvSpPr/>
            <p:nvPr/>
          </p:nvSpPr>
          <p:spPr>
            <a:xfrm>
              <a:off x="250920" y="518040"/>
              <a:ext cx="7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隶书"/>
                </a:rPr>
                <a:t>练练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2"/>
          <p:cNvSpPr/>
          <p:nvPr/>
        </p:nvSpPr>
        <p:spPr>
          <a:xfrm>
            <a:off x="755640" y="1052640"/>
            <a:ext cx="7994520" cy="3671640"/>
          </a:xfrm>
          <a:prstGeom prst="cloudCallout">
            <a:avLst>
              <a:gd name="adj1" fmla="val -1129"/>
              <a:gd name="adj2" fmla="val 88953"/>
            </a:avLst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WordArt 3"/>
          <p:cNvSpPr txBox="1"/>
          <p:nvPr/>
        </p:nvSpPr>
        <p:spPr>
          <a:xfrm rot="20928600">
            <a:off x="250560" y="321840"/>
            <a:ext cx="316872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3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智力陷阱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3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187280" y="141300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乌龟每分约爬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米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兔子每分约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93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米。乌龟和兔子决定从家里同时出发，它们经过多长时间相遇呢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5"/>
          <p:cNvSpPr/>
          <p:nvPr/>
        </p:nvSpPr>
        <p:spPr>
          <a:xfrm>
            <a:off x="4140360" y="5516640"/>
            <a:ext cx="1152360" cy="50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6"/>
          <p:cNvSpPr/>
          <p:nvPr/>
        </p:nvSpPr>
        <p:spPr>
          <a:xfrm>
            <a:off x="4427640" y="6021360"/>
            <a:ext cx="649080" cy="2872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WordArt 7"/>
          <p:cNvSpPr txBox="1"/>
          <p:nvPr/>
        </p:nvSpPr>
        <p:spPr>
          <a:xfrm rot="5400000">
            <a:off x="1621800" y="5227200"/>
            <a:ext cx="1866960" cy="57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路程未知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4" name="WordArt 8"/>
          <p:cNvSpPr txBox="1"/>
          <p:nvPr/>
        </p:nvSpPr>
        <p:spPr>
          <a:xfrm rot="5400000">
            <a:off x="5726160" y="5154480"/>
            <a:ext cx="186660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相向而行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5" name="Oval 9"/>
          <p:cNvSpPr/>
          <p:nvPr/>
        </p:nvSpPr>
        <p:spPr>
          <a:xfrm>
            <a:off x="3995640" y="4797360"/>
            <a:ext cx="136836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611280" y="620640"/>
            <a:ext cx="165708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395280" y="1557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甲、乙两工程队修一条长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公路，他们从两端同时开工，甲队每天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乙队每天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多少天后能够修完这条公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395280" y="37846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份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7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的文件，由于时间紧急，安排甲、乙两名打字员同时开始录入。甲每分录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字，乙每分录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字，录完这份文件需用多长时间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654"/>
          <p:cNvPicPr/>
          <p:nvPr/>
        </p:nvPicPr>
        <p:blipFill>
          <a:blip r:embed="rId1"/>
          <a:stretch/>
        </p:blipFill>
        <p:spPr>
          <a:xfrm>
            <a:off x="7316640" y="0"/>
            <a:ext cx="1473480" cy="1549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，美女美女"/>
          <p:cNvPicPr/>
          <p:nvPr/>
        </p:nvPicPr>
        <p:blipFill>
          <a:blip r:embed="rId2"/>
          <a:stretch/>
        </p:blipFill>
        <p:spPr>
          <a:xfrm>
            <a:off x="341280" y="279360"/>
            <a:ext cx="1498680" cy="596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0" y="171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甲乙二人合作生产一批零件，甲每天生产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个零件，乙每天生产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个。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天之后完成，这些零件共有多少个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990720" y="533520"/>
            <a:ext cx="708660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甲乙两船同时从相距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0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千米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两港出发，相对开出，甲船每小时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千米，乙船每小时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千米。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时后两船又相距多少千米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960720" cy="51116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1403280" y="1844640"/>
            <a:ext cx="208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c0000"/>
                </a:solidFill>
                <a:latin typeface="Times New Roman"/>
                <a:ea typeface="华文行楷"/>
              </a:rPr>
              <a:t>这节课你有什么收获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c0000"/>
                </a:solidFill>
                <a:latin typeface="Times New Roman"/>
                <a:ea typeface="华文行楷"/>
              </a:rPr>
              <a:t>学到了什么知识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493236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相遇四要素：两个对象、两地、同时、相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4427640" y="1628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bc0000"/>
                </a:solidFill>
                <a:latin typeface="黑体"/>
                <a:ea typeface="黑体"/>
              </a:rPr>
              <a:t>学习相遇知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4859280" y="4149720"/>
            <a:ext cx="3672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速度</a:t>
            </a:r>
            <a:r>
              <a:rPr b="1" lang="zh-CN" sz="2400" spc="-1" strike="noStrike">
                <a:solidFill>
                  <a:srgbClr val="bc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遇时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距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速度</a:t>
            </a:r>
            <a:r>
              <a:rPr b="1" lang="zh-CN" sz="2400" spc="-1" strike="noStrike">
                <a:solidFill>
                  <a:srgbClr val="bc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遇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859280" y="3429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解题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4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3" name="Picture 5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门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8"/>
          <a:stretch/>
        </p:blipFill>
        <p:spPr>
          <a:xfrm>
            <a:off x="468360" y="692280"/>
            <a:ext cx="8064360" cy="57020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"/>
          <p:cNvSpPr/>
          <p:nvPr/>
        </p:nvSpPr>
        <p:spPr>
          <a:xfrm>
            <a:off x="3348000" y="1700280"/>
            <a:ext cx="43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合本节课我们学习的知识帮助淘淘和笑笑解决他们遇到的问题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WordArt 9"/>
          <p:cNvSpPr txBox="1"/>
          <p:nvPr/>
        </p:nvSpPr>
        <p:spPr>
          <a:xfrm>
            <a:off x="3348000" y="765000"/>
            <a:ext cx="367344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任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763640" y="1523880"/>
            <a:ext cx="662472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勇往直前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0" i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愿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行楷"/>
              </a:rPr>
              <a:t>同学们在</a:t>
            </a:r>
            <a:r>
              <a:rPr b="1" lang="zh-CN" sz="4800" spc="-1" strike="noStrike">
                <a:solidFill>
                  <a:srgbClr val="cc0000"/>
                </a:solidFill>
                <a:latin typeface="Calibri"/>
              </a:rPr>
              <a:t>知识的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海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行楷"/>
              </a:rPr>
              <a:t>里</a:t>
            </a:r>
            <a:r>
              <a:rPr b="1" lang="zh-CN" sz="4800" spc="-1" strike="noStrike">
                <a:solidFill>
                  <a:srgbClr val="008000"/>
                </a:solidFill>
                <a:latin typeface="Calibri"/>
              </a:rPr>
              <a:t>乘风破浪！</a:t>
            </a:r>
            <a:br>
              <a:rPr sz="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Calibri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04.mp3" descr=""/>
          <p:cNvPicPr/>
          <p:nvPr/>
        </p:nvPicPr>
        <p:blipFill>
          <a:blip r:embed="rId1"/>
          <a:stretch/>
        </p:blipFill>
        <p:spPr>
          <a:xfrm>
            <a:off x="9180360" y="7029360"/>
            <a:ext cx="28764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268876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8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2.22222E-006 7.53583E-007 L 0.00017 -0.08645 E">
                                      <p:cBhvr>
                                        <p:cTn id="9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129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华文行楷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一辆小汽车每小时行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80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千米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,4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小时能行多少千米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080" cy="943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68360" y="256536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一辆小汽车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小时行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320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千米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每小时能行多少千米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9640" y="357336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一辆小汽车每小时行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80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千米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行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320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千米要多少小时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185840" y="1628640"/>
            <a:ext cx="6986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用算式表示路程、时间、速度之间的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985680" y="5229360"/>
            <a:ext cx="2506680" cy="792000"/>
            <a:chOff x="985680" y="5229360"/>
            <a:chExt cx="2506680" cy="792000"/>
          </a:xfrm>
        </p:grpSpPr>
        <p:pic>
          <p:nvPicPr>
            <p:cNvPr id="52" name="Picture 5" descr="bs"/>
            <p:cNvPicPr/>
            <p:nvPr/>
          </p:nvPicPr>
          <p:blipFill>
            <a:blip r:embed="rId1"/>
            <a:srcRect l="7332" t="36792" r="3332" b="39622"/>
            <a:stretch/>
          </p:blipFill>
          <p:spPr>
            <a:xfrm>
              <a:off x="985680" y="5229360"/>
              <a:ext cx="25066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1434960" y="5577840"/>
              <a:ext cx="18331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1739880" y="5475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913120" y="2570040"/>
            <a:ext cx="30272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路程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13120" y="3427560"/>
            <a:ext cx="30272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速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913120" y="4292640"/>
            <a:ext cx="309888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79720" y="25938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速度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851280" y="34146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路程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851280" y="429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路程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84360" y="1700280"/>
            <a:ext cx="763272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7524720" y="4365720"/>
          <a:ext cx="122724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365720"/>
                    <a:ext cx="12272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1042920" y="1484280"/>
            <a:ext cx="7058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淘气放学回家，打开书包正准备做作业。发现没在意将同桌笑笑的作业本带回了家，她赶紧给笑笑打电话通知他，两人在电话中商量了一会，如果步行的话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几种办法可以让淘气把作业本还给笑笑呢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你能帮助他们想出几种办法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5"/>
          <p:cNvSpPr/>
          <p:nvPr/>
        </p:nvSpPr>
        <p:spPr>
          <a:xfrm rot="10800000">
            <a:off x="250920" y="259920"/>
            <a:ext cx="3959280" cy="1152720"/>
          </a:xfrm>
          <a:prstGeom prst="cloudCallout">
            <a:avLst>
              <a:gd name="adj1" fmla="val -61550"/>
              <a:gd name="adj2" fmla="val 26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0000"/>
                </a:solidFill>
                <a:latin typeface="Calibri"/>
                <a:ea typeface="黑体"/>
              </a:rPr>
              <a:t>阅读下面一段话，回答提出的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684360" y="2276640"/>
            <a:ext cx="7561080" cy="309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68360" y="1484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同学之间讨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一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971640" y="2637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c0000"/>
                </a:solidFill>
                <a:latin typeface="宋体"/>
              </a:rPr>
              <a:t>方法一</a:t>
            </a:r>
            <a:r>
              <a:rPr b="1" lang="en-US" sz="2800" spc="-1" strike="noStrike">
                <a:solidFill>
                  <a:srgbClr val="bc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送到笑笑家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335772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方法二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笑笑来淘气家取走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26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方法三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两人同时从家出发，向对方走去，     在途中相遇，淘气把作业本交给笑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484360" y="333360"/>
            <a:ext cx="36576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能帮助他们吗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81520" y="868320"/>
            <a:ext cx="733320" cy="104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6840" y="2781360"/>
            <a:ext cx="552240" cy="10382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138960" y="1413000"/>
            <a:ext cx="4387680" cy="1801800"/>
            <a:chOff x="138960" y="1413000"/>
            <a:chExt cx="4387680" cy="1801800"/>
          </a:xfrm>
        </p:grpSpPr>
        <p:pic>
          <p:nvPicPr>
            <p:cNvPr id="75" name="Picture 5" descr=""/>
            <p:cNvPicPr/>
            <p:nvPr/>
          </p:nvPicPr>
          <p:blipFill>
            <a:blip r:embed="rId3"/>
            <a:stretch/>
          </p:blipFill>
          <p:spPr>
            <a:xfrm>
              <a:off x="2016360" y="1484280"/>
              <a:ext cx="390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"/>
            <p:cNvPicPr/>
            <p:nvPr/>
          </p:nvPicPr>
          <p:blipFill>
            <a:blip r:embed="rId4"/>
            <a:stretch/>
          </p:blipFill>
          <p:spPr>
            <a:xfrm>
              <a:off x="2159280" y="2558880"/>
              <a:ext cx="32364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/>
            <p:cNvSpPr/>
            <p:nvPr/>
          </p:nvSpPr>
          <p:spPr>
            <a:xfrm>
              <a:off x="2036160" y="2846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商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1609200" y="1413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邮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76360" y="2852640"/>
              <a:ext cx="165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505080" y="2565360"/>
              <a:ext cx="1511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2016360" y="1699920"/>
              <a:ext cx="0" cy="865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V="1">
              <a:off x="2305080" y="1916280"/>
              <a:ext cx="0" cy="720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2376720" y="1628640"/>
              <a:ext cx="1511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2305080" y="1916280"/>
              <a:ext cx="1511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3934440" y="17780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笑笑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38960" y="2492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淘气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AutoShape 17"/>
          <p:cNvSpPr/>
          <p:nvPr/>
        </p:nvSpPr>
        <p:spPr>
          <a:xfrm>
            <a:off x="2095560" y="620640"/>
            <a:ext cx="2016000" cy="432000"/>
          </a:xfrm>
          <a:prstGeom prst="cloudCallout">
            <a:avLst>
              <a:gd name="adj1" fmla="val 43305"/>
              <a:gd name="adj2" fmla="val 5293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步行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50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727200" y="3141720"/>
            <a:ext cx="2016000" cy="431640"/>
          </a:xfrm>
          <a:prstGeom prst="cloudCallout">
            <a:avLst>
              <a:gd name="adj1" fmla="val -44171"/>
              <a:gd name="adj2" fmla="val 49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步行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5388120" y="11001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笑笑家与淘气家的路程是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280480" y="16286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50</a:t>
            </a:r>
            <a:r>
              <a:rPr b="1" lang="en-US" sz="1800" spc="-1" strike="noStrike">
                <a:solidFill>
                  <a:srgbClr val="a50021"/>
                </a:solidFill>
                <a:latin typeface="Calibri"/>
              </a:rPr>
              <a:t>×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194880" y="162864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=600(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5466960" y="620640"/>
            <a:ext cx="27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笑笑到淘气家要用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4354920" y="2421000"/>
            <a:ext cx="34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笑笑家与淘气家的路程是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00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607392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淘气和笑笑一分钟共行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25"/>
          <p:cNvSpPr/>
          <p:nvPr/>
        </p:nvSpPr>
        <p:spPr>
          <a:xfrm>
            <a:off x="8467560" y="6418440"/>
            <a:ext cx="17964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6"/>
          <p:cNvSpPr/>
          <p:nvPr/>
        </p:nvSpPr>
        <p:spPr>
          <a:xfrm>
            <a:off x="8215200" y="6418440"/>
            <a:ext cx="17964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7964640" y="6418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7711920" y="6418440"/>
            <a:ext cx="17964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554080" y="34765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+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893480" y="39798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淘气每分钟比笑笑多行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5538240" y="4437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1519200" y="54198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00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÷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1089360" y="4987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淘气到笑笑家需要多少分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5388120" y="4987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淘气所用时间比笑笑少多少分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5773680" y="5373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2-600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÷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662040" y="5013360"/>
            <a:ext cx="7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733320" cy="104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46040" y="2781360"/>
            <a:ext cx="5526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5"/>
          <p:cNvGrpSpPr/>
          <p:nvPr/>
        </p:nvGrpSpPr>
        <p:grpSpPr>
          <a:xfrm>
            <a:off x="167400" y="1413000"/>
            <a:ext cx="4387680" cy="1801800"/>
            <a:chOff x="167400" y="1413000"/>
            <a:chExt cx="4387680" cy="1801800"/>
          </a:xfrm>
        </p:grpSpPr>
        <p:pic>
          <p:nvPicPr>
            <p:cNvPr id="110" name="Picture 6" descr=""/>
            <p:cNvPicPr/>
            <p:nvPr/>
          </p:nvPicPr>
          <p:blipFill>
            <a:blip r:embed="rId3"/>
            <a:stretch/>
          </p:blipFill>
          <p:spPr>
            <a:xfrm>
              <a:off x="2030400" y="1484280"/>
              <a:ext cx="389880" cy="304920"/>
            </a:xfrm>
            <a:prstGeom prst="rect">
              <a:avLst/>
            </a:prstGeom>
            <a:ln w="28440">
              <a:solidFill>
                <a:srgbClr val="ff00ff"/>
              </a:solidFill>
              <a:miter/>
            </a:ln>
          </p:spPr>
        </p:pic>
        <p:pic>
          <p:nvPicPr>
            <p:cNvPr id="111" name="Picture 7" descr=""/>
            <p:cNvPicPr/>
            <p:nvPr/>
          </p:nvPicPr>
          <p:blipFill>
            <a:blip r:embed="rId4"/>
            <a:stretch/>
          </p:blipFill>
          <p:spPr>
            <a:xfrm>
              <a:off x="2173320" y="2558880"/>
              <a:ext cx="323280" cy="343080"/>
            </a:xfrm>
            <a:prstGeom prst="rect">
              <a:avLst/>
            </a:prstGeom>
            <a:ln w="28440">
              <a:solidFill>
                <a:srgbClr val="ff00ff"/>
              </a:solidFill>
              <a:miter/>
            </a:ln>
          </p:spPr>
        </p:pic>
        <p:sp>
          <p:nvSpPr>
            <p:cNvPr id="112" name="Text Box 8"/>
            <p:cNvSpPr/>
            <p:nvPr/>
          </p:nvSpPr>
          <p:spPr>
            <a:xfrm>
              <a:off x="2064600" y="2846520"/>
              <a:ext cx="455040" cy="36828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商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1637280" y="1413000"/>
              <a:ext cx="455040" cy="36828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邮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590400" y="2852640"/>
              <a:ext cx="16552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519120" y="2565360"/>
              <a:ext cx="15109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V="1">
              <a:off x="2030400" y="1699920"/>
              <a:ext cx="0" cy="8650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2319120" y="1916280"/>
              <a:ext cx="0" cy="720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2390760" y="1628640"/>
              <a:ext cx="15109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2319120" y="1916280"/>
              <a:ext cx="15109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962880" y="1778040"/>
              <a:ext cx="592200" cy="36828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笑笑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7400" y="2492280"/>
              <a:ext cx="592200" cy="36828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淘气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AutoShape 18"/>
          <p:cNvSpPr/>
          <p:nvPr/>
        </p:nvSpPr>
        <p:spPr>
          <a:xfrm>
            <a:off x="2174760" y="620640"/>
            <a:ext cx="2016360" cy="432000"/>
          </a:xfrm>
          <a:prstGeom prst="cloudCallout">
            <a:avLst>
              <a:gd name="adj1" fmla="val 43305"/>
              <a:gd name="adj2" fmla="val 5293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步行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50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806400" y="3141720"/>
            <a:ext cx="2016000" cy="431640"/>
          </a:xfrm>
          <a:prstGeom prst="cloudCallout">
            <a:avLst>
              <a:gd name="adj1" fmla="val -44171"/>
              <a:gd name="adj2" fmla="val 49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步行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</a:t>
            </a:r>
            <a:r>
              <a:rPr b="1" lang="en-US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20"/>
          <p:cNvGrpSpPr/>
          <p:nvPr/>
        </p:nvGrpSpPr>
        <p:grpSpPr>
          <a:xfrm>
            <a:off x="4970880" y="692280"/>
            <a:ext cx="3502800" cy="891360"/>
            <a:chOff x="4970880" y="692280"/>
            <a:chExt cx="3502800" cy="891360"/>
          </a:xfrm>
        </p:grpSpPr>
        <p:sp>
          <p:nvSpPr>
            <p:cNvPr id="125" name="Text Box 21"/>
            <p:cNvSpPr/>
            <p:nvPr/>
          </p:nvSpPr>
          <p:spPr>
            <a:xfrm>
              <a:off x="5095800" y="692280"/>
              <a:ext cx="33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笑笑家与淘气家的路程是</a:t>
              </a:r>
              <a:r>
                <a:rPr b="1" lang="en-US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600</a:t>
              </a:r>
              <a:r>
                <a:rPr b="1" lang="zh-CN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米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4970880" y="1123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Calibri"/>
                  <a:ea typeface="楷体_GB2312"/>
                </a:rPr>
                <a:t>两人同时出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8547120" y="6418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8294760" y="6418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8043840" y="6418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7812000" y="6453360"/>
            <a:ext cx="17964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5045040" y="16286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经过几分钟相遇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5258160" y="210816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相遇时距笑笑家有多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329800" y="261144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a50021"/>
                </a:solidFill>
                <a:latin typeface="Calibri"/>
                <a:ea typeface="楷体_GB2312"/>
              </a:rPr>
              <a:t>相遇时距淘气家有多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0" descr=""/>
          <p:cNvPicPr/>
          <p:nvPr/>
        </p:nvPicPr>
        <p:blipFill>
          <a:blip r:embed="rId5"/>
          <a:stretch/>
        </p:blipFill>
        <p:spPr>
          <a:xfrm>
            <a:off x="468360" y="620640"/>
            <a:ext cx="1436760" cy="673200"/>
          </a:xfrm>
          <a:prstGeom prst="rect">
            <a:avLst/>
          </a:prstGeom>
          <a:ln w="0">
            <a:noFill/>
          </a:ln>
        </p:spPr>
      </p:pic>
      <p:sp>
        <p:nvSpPr>
          <p:cNvPr id="135" name="Oval 31"/>
          <p:cNvSpPr/>
          <p:nvPr/>
        </p:nvSpPr>
        <p:spPr>
          <a:xfrm>
            <a:off x="590400" y="2708280"/>
            <a:ext cx="90720" cy="9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1454040" y="5013360"/>
            <a:ext cx="7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2246400" y="5013360"/>
            <a:ext cx="7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3038400" y="5013360"/>
            <a:ext cx="7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3830760" y="5013360"/>
            <a:ext cx="7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4622760" y="5013360"/>
            <a:ext cx="53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37"/>
          <p:cNvSpPr/>
          <p:nvPr/>
        </p:nvSpPr>
        <p:spPr>
          <a:xfrm>
            <a:off x="5199120" y="5013360"/>
            <a:ext cx="53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38"/>
          <p:cNvSpPr/>
          <p:nvPr/>
        </p:nvSpPr>
        <p:spPr>
          <a:xfrm>
            <a:off x="5775480" y="5013360"/>
            <a:ext cx="53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39"/>
          <p:cNvSpPr/>
          <p:nvPr/>
        </p:nvSpPr>
        <p:spPr>
          <a:xfrm>
            <a:off x="6351480" y="5013360"/>
            <a:ext cx="540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6927840" y="5013360"/>
            <a:ext cx="53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41"/>
          <p:cNvSpPr/>
          <p:nvPr/>
        </p:nvSpPr>
        <p:spPr>
          <a:xfrm>
            <a:off x="4191120" y="1700280"/>
            <a:ext cx="90360" cy="9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42"/>
          <p:cNvGrpSpPr/>
          <p:nvPr/>
        </p:nvGrpSpPr>
        <p:grpSpPr>
          <a:xfrm>
            <a:off x="661680" y="5157720"/>
            <a:ext cx="6769080" cy="602640"/>
            <a:chOff x="661680" y="5157720"/>
            <a:chExt cx="6769080" cy="602640"/>
          </a:xfrm>
        </p:grpSpPr>
        <p:sp>
          <p:nvSpPr>
            <p:cNvPr id="147" name="AutoShape 43"/>
            <p:cNvSpPr/>
            <p:nvPr/>
          </p:nvSpPr>
          <p:spPr>
            <a:xfrm flipV="1" rot="16200000">
              <a:off x="3938040" y="1881000"/>
              <a:ext cx="216000" cy="6769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76400 h 6769080"/>
                <a:gd name="textAreaBottom" fmla="*/ 6592680 h 676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44"/>
            <p:cNvSpPr/>
            <p:nvPr/>
          </p:nvSpPr>
          <p:spPr>
            <a:xfrm>
              <a:off x="3609000" y="53006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600</a:t>
              </a:r>
              <a:r>
                <a:rPr b="1" lang="zh-CN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 Box 45"/>
          <p:cNvSpPr/>
          <p:nvPr/>
        </p:nvSpPr>
        <p:spPr>
          <a:xfrm>
            <a:off x="31413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2760480" y="3860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2760480" y="3860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2760480" y="3860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4606560" y="4206960"/>
            <a:ext cx="489600" cy="806040"/>
            <a:chOff x="4606560" y="4206960"/>
            <a:chExt cx="489600" cy="806040"/>
          </a:xfrm>
        </p:grpSpPr>
        <p:sp>
          <p:nvSpPr>
            <p:cNvPr id="154" name="AutoShape 50"/>
            <p:cNvSpPr/>
            <p:nvPr/>
          </p:nvSpPr>
          <p:spPr>
            <a:xfrm rot="5182200">
              <a:off x="4586760" y="4256280"/>
              <a:ext cx="52848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51"/>
            <p:cNvSpPr/>
            <p:nvPr/>
          </p:nvSpPr>
          <p:spPr>
            <a:xfrm>
              <a:off x="4622760" y="4221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00648 L 0.00295 0.32685 E">
                                      <p:cBhvr>
                                        <p:cTn id="30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4948 0.47662 E">
                                      <p:cBhvr>
                                        <p:cTn id="30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504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黑体"/>
              </a:rPr>
              <a:t>辅助材料一：</a:t>
            </a: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观察运动的结果</a:t>
            </a:r>
            <a:br>
              <a:rPr sz="2800"/>
            </a:b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整条线段表示笑笑家与淘气家之间的路程，请把图填写完整</a:t>
            </a:r>
            <a:r>
              <a:rPr b="0" lang="zh-CN" sz="40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98520" y="595440"/>
            <a:ext cx="1436760" cy="6728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58920" y="2349360"/>
            <a:ext cx="6480000" cy="1668240"/>
            <a:chOff x="1258920" y="2349360"/>
            <a:chExt cx="6480000" cy="1668240"/>
          </a:xfrm>
        </p:grpSpPr>
        <p:sp>
          <p:nvSpPr>
            <p:cNvPr id="159" name="Line 5"/>
            <p:cNvSpPr/>
            <p:nvPr/>
          </p:nvSpPr>
          <p:spPr>
            <a:xfrm>
              <a:off x="1258920" y="3214440"/>
              <a:ext cx="6478560" cy="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 rot="5400000">
              <a:off x="3038040" y="1104480"/>
              <a:ext cx="295200" cy="3778200"/>
            </a:xfrm>
            <a:custGeom>
              <a:avLst/>
              <a:gdLst>
                <a:gd name="textAreaLeft" fmla="*/ 188640 w 295200"/>
                <a:gd name="textAreaRight" fmla="*/ 295200 w 295200"/>
                <a:gd name="textAreaTop" fmla="*/ 98280 h 3778200"/>
                <a:gd name="textAreaBottom" fmla="*/ 3679920 h 37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 rot="5400000">
              <a:off x="6242040" y="1652040"/>
              <a:ext cx="295200" cy="2698560"/>
            </a:xfrm>
            <a:custGeom>
              <a:avLst/>
              <a:gdLst>
                <a:gd name="textAreaLeft" fmla="*/ 188640 w 295200"/>
                <a:gd name="textAreaRight" fmla="*/ 295200 w 295200"/>
                <a:gd name="textAreaTop" fmla="*/ 70200 h 2698560"/>
                <a:gd name="textAreaBottom" fmla="*/ 262836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 flipV="1" rot="16200000">
              <a:off x="4350600" y="194400"/>
              <a:ext cx="295200" cy="6478560"/>
            </a:xfrm>
            <a:custGeom>
              <a:avLst/>
              <a:gdLst>
                <a:gd name="textAreaLeft" fmla="*/ 188640 w 295200"/>
                <a:gd name="textAreaRight" fmla="*/ 295200 w 295200"/>
                <a:gd name="textAreaTop" fmla="*/ 168840 h 6478560"/>
                <a:gd name="textAreaBottom" fmla="*/ 6309720 h 64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4120200" y="3497040"/>
              <a:ext cx="1087560" cy="52056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600</a:t>
              </a:r>
              <a:r>
                <a:rPr b="1" lang="zh-CN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2424600" y="2349360"/>
              <a:ext cx="1611720" cy="52056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(     )</a:t>
              </a:r>
              <a:r>
                <a:rPr b="1" lang="zh-CN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的路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5458320" y="2349360"/>
              <a:ext cx="1611720" cy="52056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(     )</a:t>
              </a:r>
              <a:r>
                <a:rPr b="1" lang="zh-CN" sz="28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的路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12"/>
          <p:cNvSpPr/>
          <p:nvPr/>
        </p:nvSpPr>
        <p:spPr>
          <a:xfrm>
            <a:off x="468360" y="4431240"/>
            <a:ext cx="8556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______________    ______________ 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3">
            <a:hlinkClick r:id="" action="ppaction://hlinkshowjump?jump=nextslide"/>
          </p:cNvPr>
          <p:cNvSpPr/>
          <p:nvPr/>
        </p:nvSpPr>
        <p:spPr>
          <a:xfrm>
            <a:off x="8028000" y="64533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7740720" y="64533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412360" y="23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淘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3672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笑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443680" y="4581360"/>
            <a:ext cx="39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0021"/>
                </a:solidFill>
                <a:uFillTx/>
                <a:latin typeface="楷体_GB2312"/>
                <a:ea typeface="楷体_GB2312"/>
              </a:rPr>
              <a:t>淘气路程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楷体_GB2312"/>
                <a:ea typeface="楷体_GB2312"/>
              </a:rPr>
              <a:t>笑笑路程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1963800" y="3703680"/>
            <a:ext cx="444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Calibri"/>
                <a:ea typeface="楷体_GB2312"/>
              </a:rPr>
              <a:t>你能用等式表示线段图各部分之间的关系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611280" y="5214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3:07:46Z</dcterms:created>
  <dc:creator>User</dc:creator>
  <dc:description/>
  <dc:language>en-US</dc:language>
  <cp:lastModifiedBy>User</cp:lastModifiedBy>
  <dcterms:modified xsi:type="dcterms:W3CDTF">2017-08-24T23:07:59Z</dcterms:modified>
  <cp:revision>1</cp:revision>
  <dc:subject/>
  <dc:title>幻灯片 1</dc:title>
</cp:coreProperties>
</file>