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18F9-72A6-46D8-8433-DB909363E99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22BB-4C1F-4A41-85EC-5DDCE768969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D2CD-5612-4775-943C-C71BBDA82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82F8-3285-49D1-8141-48911D0A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01A9-9555-459B-A764-2E72615C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9727-CF14-4572-84A7-2D4E8C4B6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246E-5F60-4B83-AF0A-965C4411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2F5C-25ED-4B47-BFC1-9A9766C0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DF19-69E4-431E-84ED-F03F2CBE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2284-1346-4BA7-82B2-3587610D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01BF-19E2-4F8A-9A62-743948EB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D348-F47D-489E-9734-51C0DC18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F191-2A81-4922-A290-6CDCB90D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D82D-1DD2-4077-B665-EBBE73EB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DEE3-CCBC-41AA-BA83-D70C98289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20001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cc00"/>
                </a:solidFill>
                <a:latin typeface="Arial"/>
                <a:ea typeface="黑体"/>
              </a:rPr>
              <a:t>数学与交通</a:t>
            </a:r>
            <a:br>
              <a:rPr sz="3600"/>
            </a:b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华文行楷"/>
              </a:rPr>
              <a:t>相遇问题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258920" y="54936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北师大版五年级数学上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5"/>
          <p:cNvSpPr/>
          <p:nvPr/>
        </p:nvSpPr>
        <p:spPr>
          <a:xfrm>
            <a:off x="684360" y="189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结</a:t>
            </a: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2556000" y="692280"/>
            <a:ext cx="5545080" cy="1079280"/>
          </a:xfrm>
          <a:prstGeom prst="cloudCallout">
            <a:avLst>
              <a:gd name="adj1" fmla="val -82037"/>
              <a:gd name="adj2" fmla="val -8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同学们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你们觉得列方程解应用题有哪几个步骤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1763640" y="1989000"/>
            <a:ext cx="5761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弄清题意</a:t>
            </a:r>
            <a:r>
              <a:rPr b="0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找等量关系</a:t>
            </a:r>
            <a:r>
              <a:rPr b="0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设未知数</a:t>
            </a:r>
            <a:r>
              <a:rPr b="0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, 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列方程</a:t>
            </a:r>
            <a:r>
              <a:rPr b="0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解方程</a:t>
            </a:r>
            <a:r>
              <a:rPr b="0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并检验</a:t>
            </a:r>
            <a:r>
              <a:rPr b="0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4.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写答案</a:t>
            </a:r>
            <a:r>
              <a:rPr b="0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5"/>
          <p:cNvSpPr/>
          <p:nvPr/>
        </p:nvSpPr>
        <p:spPr>
          <a:xfrm>
            <a:off x="539640" y="40464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900000" y="110016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+40=100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851280" y="181944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路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速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900000" y="174780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÷100=0.5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826920" y="24670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×0.5=20 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4620960" y="1100160"/>
            <a:ext cx="34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行的路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即两人的速度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755640" y="3573360"/>
            <a:ext cx="73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答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他们出发后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时相遇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相遇地点距遗址公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千米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8" descr=""/>
          <p:cNvPicPr/>
          <p:nvPr/>
        </p:nvPicPr>
        <p:blipFill>
          <a:blip r:embed="rId1"/>
          <a:stretch/>
        </p:blipFill>
        <p:spPr>
          <a:xfrm>
            <a:off x="0" y="4149720"/>
            <a:ext cx="9144000" cy="1608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223200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9"/>
          <p:cNvSpPr/>
          <p:nvPr/>
        </p:nvSpPr>
        <p:spPr>
          <a:xfrm>
            <a:off x="1187280" y="0"/>
            <a:ext cx="4032360" cy="1413000"/>
          </a:xfrm>
          <a:prstGeom prst="cloudCallout">
            <a:avLst>
              <a:gd name="adj1" fmla="val 104879"/>
              <a:gd name="adj2" fmla="val -158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同学们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看谁做得又对又快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!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你一定行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332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拓展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233172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修一条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米的水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由甲乙两个工程队从两端同时开工。甲队每天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米，乙队每天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米。修完这条水渠需要多少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5"/>
          <p:cNvSpPr/>
          <p:nvPr/>
        </p:nvSpPr>
        <p:spPr>
          <a:xfrm>
            <a:off x="324000" y="404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本课小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1008000" y="220500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过本课的学习，我们学会了用方程来解决行程中的相遇问题。解决相遇问题，主要是找准未知数，这是解题的关键，然后按照题意要求列出方程就可以了。你学会了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6020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教学目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1520" y="1699920"/>
            <a:ext cx="821844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会分析简单问题的数量关系，提高用方程解决简单问题的能力，培养方程意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历解决问题的过程，体验数学与日常生活密切相关，提高收集信息、处理信息、建立模型的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99640" y="764640"/>
            <a:ext cx="12970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复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辆小汽车每小时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时能行多少千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列   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关系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8080" cy="9432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446040" y="3040200"/>
            <a:ext cx="8229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辆小汽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时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每小时能行多少千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列   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关系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539640" y="4840200"/>
            <a:ext cx="82296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辆小汽车每小时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千米要多少小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列   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关系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627280" y="220500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速度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时间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路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2627280" y="17002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×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700360" y="346392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2758680" y="521820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0÷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2627280" y="389556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路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时间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速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2698920" y="569592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路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速度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1042920" y="333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关于相遇，你是怎么理解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2124000" y="1341360"/>
            <a:ext cx="32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至少两个人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1906560" y="206064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要面对面运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1"/>
          <p:cNvSpPr/>
          <p:nvPr/>
        </p:nvSpPr>
        <p:spPr>
          <a:xfrm>
            <a:off x="1116000" y="3573360"/>
            <a:ext cx="7345440" cy="936720"/>
          </a:xfrm>
          <a:prstGeom prst="cloudCallout">
            <a:avLst>
              <a:gd name="adj1" fmla="val -61064"/>
              <a:gd name="adj2" fmla="val 954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说两人同时出发直到相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明了什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2340000" y="522936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人所用的时间相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5"/>
          <p:cNvSpPr/>
          <p:nvPr/>
        </p:nvSpPr>
        <p:spPr>
          <a:xfrm>
            <a:off x="971640" y="476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张叔叔要给王阿姨送一份材料。两人约定同时坐车出发。如图，遗址公园距天桥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千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0"/>
          <p:cNvSpPr/>
          <p:nvPr/>
        </p:nvSpPr>
        <p:spPr>
          <a:xfrm>
            <a:off x="1332000" y="3645000"/>
            <a:ext cx="142920" cy="1429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1"/>
          <p:cNvSpPr/>
          <p:nvPr/>
        </p:nvSpPr>
        <p:spPr>
          <a:xfrm>
            <a:off x="7236000" y="2565360"/>
            <a:ext cx="215640" cy="216000"/>
          </a:xfrm>
          <a:prstGeom prst="flowChartExtra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34"/>
          <p:cNvGrpSpPr/>
          <p:nvPr/>
        </p:nvGrpSpPr>
        <p:grpSpPr>
          <a:xfrm>
            <a:off x="826920" y="2349360"/>
            <a:ext cx="7129800" cy="2231640"/>
            <a:chOff x="826920" y="2349360"/>
            <a:chExt cx="7129800" cy="2231640"/>
          </a:xfrm>
        </p:grpSpPr>
        <p:grpSp>
          <p:nvGrpSpPr>
            <p:cNvPr id="72" name="Group 28"/>
            <p:cNvGrpSpPr/>
            <p:nvPr/>
          </p:nvGrpSpPr>
          <p:grpSpPr>
            <a:xfrm>
              <a:off x="1332000" y="2600280"/>
              <a:ext cx="6048360" cy="1980720"/>
              <a:chOff x="1332000" y="2600280"/>
              <a:chExt cx="6048360" cy="1980720"/>
            </a:xfrm>
          </p:grpSpPr>
          <p:sp>
            <p:nvSpPr>
              <p:cNvPr id="73" name="Freeform 6"/>
              <p:cNvSpPr/>
              <p:nvPr/>
            </p:nvSpPr>
            <p:spPr>
              <a:xfrm>
                <a:off x="3924360" y="2601720"/>
                <a:ext cx="3313080" cy="1078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7"/>
              <p:cNvSpPr/>
              <p:nvPr/>
            </p:nvSpPr>
            <p:spPr>
              <a:xfrm>
                <a:off x="1403640" y="3752640"/>
                <a:ext cx="2520720" cy="828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AutoShape 8"/>
              <p:cNvSpPr/>
              <p:nvPr/>
            </p:nvSpPr>
            <p:spPr>
              <a:xfrm>
                <a:off x="7236000" y="2600280"/>
                <a:ext cx="144360" cy="1443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AutoShape 11"/>
              <p:cNvSpPr/>
              <p:nvPr/>
            </p:nvSpPr>
            <p:spPr>
              <a:xfrm>
                <a:off x="3851280" y="3679560"/>
                <a:ext cx="144720" cy="1440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AutoShape 12"/>
              <p:cNvSpPr/>
              <p:nvPr/>
            </p:nvSpPr>
            <p:spPr>
              <a:xfrm>
                <a:off x="2627640" y="3895560"/>
                <a:ext cx="144360" cy="1440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AutoShape 13"/>
              <p:cNvSpPr/>
              <p:nvPr/>
            </p:nvSpPr>
            <p:spPr>
              <a:xfrm>
                <a:off x="1332000" y="3679560"/>
                <a:ext cx="144360" cy="1440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Text Box 29"/>
            <p:cNvSpPr/>
            <p:nvPr/>
          </p:nvSpPr>
          <p:spPr>
            <a:xfrm>
              <a:off x="2556000" y="3284640"/>
              <a:ext cx="43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郭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30"/>
            <p:cNvSpPr/>
            <p:nvPr/>
          </p:nvSpPr>
          <p:spPr>
            <a:xfrm>
              <a:off x="7524720" y="234936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天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31"/>
            <p:cNvSpPr/>
            <p:nvPr/>
          </p:nvSpPr>
          <p:spPr>
            <a:xfrm>
              <a:off x="4067280" y="3573360"/>
              <a:ext cx="43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李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32"/>
            <p:cNvSpPr/>
            <p:nvPr/>
          </p:nvSpPr>
          <p:spPr>
            <a:xfrm>
              <a:off x="826920" y="3141720"/>
              <a:ext cx="43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遗址公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Picture 35" descr=""/>
          <p:cNvPicPr/>
          <p:nvPr/>
        </p:nvPicPr>
        <p:blipFill>
          <a:blip r:embed="rId1"/>
          <a:stretch/>
        </p:blipFill>
        <p:spPr>
          <a:xfrm>
            <a:off x="1116000" y="4005360"/>
            <a:ext cx="581040" cy="31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6" descr=""/>
          <p:cNvPicPr/>
          <p:nvPr/>
        </p:nvPicPr>
        <p:blipFill>
          <a:blip r:embed="rId2"/>
          <a:stretch/>
        </p:blipFill>
        <p:spPr>
          <a:xfrm>
            <a:off x="7380360" y="3141720"/>
            <a:ext cx="619200" cy="323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7" descr=""/>
          <p:cNvPicPr/>
          <p:nvPr/>
        </p:nvPicPr>
        <p:blipFill>
          <a:blip r:embed="rId3"/>
          <a:stretch/>
        </p:blipFill>
        <p:spPr>
          <a:xfrm>
            <a:off x="7020000" y="3500280"/>
            <a:ext cx="1295280" cy="352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8" descr=""/>
          <p:cNvPicPr/>
          <p:nvPr/>
        </p:nvPicPr>
        <p:blipFill>
          <a:blip r:embed="rId4"/>
          <a:stretch/>
        </p:blipFill>
        <p:spPr>
          <a:xfrm>
            <a:off x="826920" y="4365720"/>
            <a:ext cx="129564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8 -0.0067 C -0.03264 -0.00971 -0.06597 -0.0141 -0.09392 -0.00092 C -0.12084 0.00925 -0.12014 0.05158 -0.15973 0.06175 C -0.19914 0.07401 -0.29445 0.05366 -0.33021 0.07193 C -0.36615 0.09112 -0.36858 0.15912 -0.37709 0.17669 E">
                                      <p:cBhvr>
                                        <p:cTn id="126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0.00023 C 0.02084 0.02428 0.04167 0.04879 0.06059 0.05249 C 0.07952 0.05619 0.08733 0.0111 0.11406 0.0215 C 0.1408 0.03191 0.19497 0.11355 0.22101 0.11447 C 0.24688 0.1154 0.26198 0.04209 0.26979 0.02775 E">
                                      <p:cBhvr>
                                        <p:cTn id="128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1116000" y="40464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问题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1366920" y="272736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估计两人在哪个地方相遇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1"/>
          <p:cNvSpPr/>
          <p:nvPr/>
        </p:nvSpPr>
        <p:spPr>
          <a:xfrm>
            <a:off x="1836720" y="1508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出发后几时相遇？相遇地点距遗址公园多远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34920" y="18900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问题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38"/>
          <p:cNvGrpSpPr/>
          <p:nvPr/>
        </p:nvGrpSpPr>
        <p:grpSpPr>
          <a:xfrm>
            <a:off x="1476360" y="4653000"/>
            <a:ext cx="4537080" cy="144360"/>
            <a:chOff x="1476360" y="4653000"/>
            <a:chExt cx="4537080" cy="144360"/>
          </a:xfrm>
        </p:grpSpPr>
        <p:sp>
          <p:nvSpPr>
            <p:cNvPr id="92" name="Line 23"/>
            <p:cNvSpPr/>
            <p:nvPr/>
          </p:nvSpPr>
          <p:spPr>
            <a:xfrm>
              <a:off x="1476360" y="4797360"/>
              <a:ext cx="4537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24"/>
            <p:cNvSpPr/>
            <p:nvPr/>
          </p:nvSpPr>
          <p:spPr>
            <a:xfrm>
              <a:off x="1476360" y="4653000"/>
              <a:ext cx="0" cy="144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5"/>
            <p:cNvSpPr/>
            <p:nvPr/>
          </p:nvSpPr>
          <p:spPr>
            <a:xfrm>
              <a:off x="6013440" y="4653000"/>
              <a:ext cx="0" cy="144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8"/>
            <p:cNvSpPr/>
            <p:nvPr/>
          </p:nvSpPr>
          <p:spPr>
            <a:xfrm>
              <a:off x="3205080" y="46530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9"/>
            <p:cNvSpPr/>
            <p:nvPr/>
          </p:nvSpPr>
          <p:spPr>
            <a:xfrm>
              <a:off x="4213080" y="46530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30"/>
            <p:cNvSpPr/>
            <p:nvPr/>
          </p:nvSpPr>
          <p:spPr>
            <a:xfrm>
              <a:off x="2341440" y="46530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31"/>
            <p:cNvSpPr/>
            <p:nvPr/>
          </p:nvSpPr>
          <p:spPr>
            <a:xfrm>
              <a:off x="5149800" y="46530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AutoShape 32"/>
          <p:cNvSpPr/>
          <p:nvPr/>
        </p:nvSpPr>
        <p:spPr>
          <a:xfrm rot="5400000">
            <a:off x="2053440" y="3429720"/>
            <a:ext cx="574560" cy="1728720"/>
          </a:xfrm>
          <a:custGeom>
            <a:avLst/>
            <a:gdLst>
              <a:gd name="textAreaLeft" fmla="*/ 367200 w 574560"/>
              <a:gd name="textAreaRight" fmla="*/ 574920 w 5745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3"/>
          <p:cNvSpPr/>
          <p:nvPr/>
        </p:nvSpPr>
        <p:spPr>
          <a:xfrm rot="5400000">
            <a:off x="4320000" y="2889720"/>
            <a:ext cx="574560" cy="2808360"/>
          </a:xfrm>
          <a:custGeom>
            <a:avLst/>
            <a:gdLst>
              <a:gd name="textAreaLeft" fmla="*/ 367200 w 574560"/>
              <a:gd name="textAreaRight" fmla="*/ 574920 w 57456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4"/>
          <p:cNvSpPr/>
          <p:nvPr/>
        </p:nvSpPr>
        <p:spPr>
          <a:xfrm>
            <a:off x="826920" y="4076640"/>
            <a:ext cx="3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遗址公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5"/>
          <p:cNvSpPr/>
          <p:nvPr/>
        </p:nvSpPr>
        <p:spPr>
          <a:xfrm>
            <a:off x="6083280" y="43718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天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6"/>
          <p:cNvSpPr/>
          <p:nvPr/>
        </p:nvSpPr>
        <p:spPr>
          <a:xfrm>
            <a:off x="1332000" y="3500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面包车行的路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7"/>
          <p:cNvSpPr/>
          <p:nvPr/>
        </p:nvSpPr>
        <p:spPr>
          <a:xfrm>
            <a:off x="3635280" y="34941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小轿车行的路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49"/>
          <p:cNvGrpSpPr/>
          <p:nvPr/>
        </p:nvGrpSpPr>
        <p:grpSpPr>
          <a:xfrm>
            <a:off x="1476000" y="4795920"/>
            <a:ext cx="4536000" cy="441360"/>
            <a:chOff x="1476000" y="4795920"/>
            <a:chExt cx="4536000" cy="441360"/>
          </a:xfrm>
        </p:grpSpPr>
        <p:sp>
          <p:nvSpPr>
            <p:cNvPr id="106" name="Line 40"/>
            <p:cNvSpPr/>
            <p:nvPr/>
          </p:nvSpPr>
          <p:spPr>
            <a:xfrm>
              <a:off x="6012000" y="47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41"/>
            <p:cNvSpPr/>
            <p:nvPr/>
          </p:nvSpPr>
          <p:spPr>
            <a:xfrm>
              <a:off x="1476360" y="479592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42"/>
            <p:cNvSpPr/>
            <p:nvPr/>
          </p:nvSpPr>
          <p:spPr>
            <a:xfrm>
              <a:off x="4284720" y="508464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43"/>
            <p:cNvSpPr/>
            <p:nvPr/>
          </p:nvSpPr>
          <p:spPr>
            <a:xfrm flipH="1">
              <a:off x="1476000" y="5084640"/>
              <a:ext cx="16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44"/>
            <p:cNvSpPr/>
            <p:nvPr/>
          </p:nvSpPr>
          <p:spPr>
            <a:xfrm>
              <a:off x="3276720" y="486900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千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Picture 45" descr=""/>
          <p:cNvPicPr/>
          <p:nvPr/>
        </p:nvPicPr>
        <p:blipFill>
          <a:blip r:embed="rId1"/>
          <a:stretch/>
        </p:blipFill>
        <p:spPr>
          <a:xfrm>
            <a:off x="1547640" y="4508640"/>
            <a:ext cx="581040" cy="314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6" descr=""/>
          <p:cNvPicPr/>
          <p:nvPr/>
        </p:nvPicPr>
        <p:blipFill>
          <a:blip r:embed="rId2"/>
          <a:stretch/>
        </p:blipFill>
        <p:spPr>
          <a:xfrm>
            <a:off x="5364000" y="4437000"/>
            <a:ext cx="61920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49861E-006 L -0.23855 0.00786 E">
                                      <p:cBhvr>
                                        <p:cTn id="188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7271E-006 L 0.1257 -0.00185 E">
                                      <p:cBhvr>
                                        <p:cTn id="190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6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面包车的路程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zh-CN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小轿车的路程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总路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1332000" y="836640"/>
            <a:ext cx="792000" cy="79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4643280" y="836640"/>
            <a:ext cx="792360" cy="79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7308720" y="836640"/>
            <a:ext cx="792360" cy="79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34920" y="162864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面包车的速度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3564000" y="1628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小轿车的速度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7091280" y="1628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千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3"/>
          <p:cNvSpPr/>
          <p:nvPr/>
        </p:nvSpPr>
        <p:spPr>
          <a:xfrm flipH="1">
            <a:off x="1042560" y="2203560"/>
            <a:ext cx="28908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4"/>
          <p:cNvSpPr/>
          <p:nvPr/>
        </p:nvSpPr>
        <p:spPr>
          <a:xfrm>
            <a:off x="2843280" y="213372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5"/>
          <p:cNvSpPr/>
          <p:nvPr/>
        </p:nvSpPr>
        <p:spPr>
          <a:xfrm flipH="1">
            <a:off x="4643280" y="2203560"/>
            <a:ext cx="14472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6"/>
          <p:cNvSpPr/>
          <p:nvPr/>
        </p:nvSpPr>
        <p:spPr>
          <a:xfrm>
            <a:off x="6084720" y="220356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8" descr=""/>
          <p:cNvPicPr/>
          <p:nvPr/>
        </p:nvPicPr>
        <p:blipFill>
          <a:blip r:embed="rId1"/>
          <a:stretch/>
        </p:blipFill>
        <p:spPr>
          <a:xfrm>
            <a:off x="395280" y="2781360"/>
            <a:ext cx="1295280" cy="342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9" descr=""/>
          <p:cNvPicPr/>
          <p:nvPr/>
        </p:nvPicPr>
        <p:blipFill>
          <a:blip r:embed="rId2"/>
          <a:stretch/>
        </p:blipFill>
        <p:spPr>
          <a:xfrm>
            <a:off x="3924360" y="2789280"/>
            <a:ext cx="1295280" cy="352440"/>
          </a:xfrm>
          <a:prstGeom prst="rect">
            <a:avLst/>
          </a:prstGeom>
          <a:ln w="0">
            <a:noFill/>
          </a:ln>
        </p:spPr>
      </p:pic>
      <p:sp>
        <p:nvSpPr>
          <p:cNvPr id="126" name="WordArt 20"/>
          <p:cNvSpPr txBox="1"/>
          <p:nvPr/>
        </p:nvSpPr>
        <p:spPr>
          <a:xfrm>
            <a:off x="2482920" y="2708280"/>
            <a:ext cx="649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" name="WordArt 22"/>
          <p:cNvSpPr txBox="1"/>
          <p:nvPr/>
        </p:nvSpPr>
        <p:spPr>
          <a:xfrm>
            <a:off x="5794200" y="2827440"/>
            <a:ext cx="649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8" name="AutoShape 23"/>
          <p:cNvSpPr/>
          <p:nvPr/>
        </p:nvSpPr>
        <p:spPr>
          <a:xfrm>
            <a:off x="2916360" y="5373720"/>
            <a:ext cx="5472000" cy="1152360"/>
          </a:xfrm>
          <a:prstGeom prst="cloudCallout">
            <a:avLst>
              <a:gd name="adj1" fmla="val -60879"/>
              <a:gd name="adj2" fmla="val 59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间是个未知数我们可以用什么表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6"/>
          <p:cNvSpPr/>
          <p:nvPr/>
        </p:nvSpPr>
        <p:spPr>
          <a:xfrm>
            <a:off x="2700360" y="5445000"/>
            <a:ext cx="5472000" cy="1008360"/>
          </a:xfrm>
          <a:prstGeom prst="cloudCallout">
            <a:avLst>
              <a:gd name="adj1" fmla="val -78138"/>
              <a:gd name="adj2" fmla="val 106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两人约定同时坐车出发”说明了什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7"/>
          <p:cNvSpPr/>
          <p:nvPr/>
        </p:nvSpPr>
        <p:spPr>
          <a:xfrm>
            <a:off x="971640" y="3789360"/>
            <a:ext cx="66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面包车用的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时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小轿车用的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8"/>
          <p:cNvSpPr/>
          <p:nvPr/>
        </p:nvSpPr>
        <p:spPr>
          <a:xfrm>
            <a:off x="2843280" y="5373720"/>
            <a:ext cx="5545080" cy="1079640"/>
          </a:xfrm>
          <a:prstGeom prst="cloudCallout">
            <a:avLst>
              <a:gd name="adj1" fmla="val -92171"/>
              <a:gd name="adj2" fmla="val -660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同学们你们现在会做了吗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8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5"/>
          <p:cNvSpPr/>
          <p:nvPr/>
        </p:nvSpPr>
        <p:spPr>
          <a:xfrm>
            <a:off x="539640" y="40464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620720" y="107172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Shruti"/>
              </a:rPr>
              <a:t>解</a:t>
            </a:r>
            <a:r>
              <a:rPr b="0" lang="en-US" sz="4000" spc="-1" strike="noStrike">
                <a:solidFill>
                  <a:srgbClr val="000000"/>
                </a:solidFill>
                <a:latin typeface="Shruti"/>
              </a:rPr>
              <a:t>:</a:t>
            </a:r>
            <a:r>
              <a:rPr b="0" lang="zh-CN" sz="4000" spc="-1" strike="noStrike">
                <a:solidFill>
                  <a:srgbClr val="000000"/>
                </a:solidFill>
                <a:latin typeface="Shruti"/>
              </a:rPr>
              <a:t>设</a:t>
            </a:r>
            <a:r>
              <a:rPr b="0" lang="en-US" sz="4000" spc="-1" strike="noStrike">
                <a:solidFill>
                  <a:srgbClr val="ff0066"/>
                </a:solidFill>
                <a:latin typeface="Raavi"/>
              </a:rPr>
              <a:t>x</a:t>
            </a:r>
            <a:r>
              <a:rPr b="0" lang="zh-CN" sz="4000" spc="-1" strike="noStrike">
                <a:solidFill>
                  <a:srgbClr val="000000"/>
                </a:solidFill>
                <a:latin typeface="Raavi"/>
              </a:rPr>
              <a:t>小时相遇</a:t>
            </a:r>
            <a:r>
              <a:rPr b="0" lang="en-US" sz="4000" spc="-1" strike="noStrike">
                <a:solidFill>
                  <a:srgbClr val="000000"/>
                </a:solidFill>
                <a:latin typeface="Raav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2124000" y="1531800"/>
            <a:ext cx="3888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x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2916360" y="20667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780000" y="25002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0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08000" y="321948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0× 0.5=20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1116000" y="4110120"/>
            <a:ext cx="73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答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他们出发后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时相遇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相遇地点距遗址公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千米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04:28:02Z</dcterms:created>
  <dc:creator>2nd</dc:creator>
  <dc:description/>
  <dc:language>en-US</dc:language>
  <cp:lastModifiedBy>微软用户</cp:lastModifiedBy>
  <dcterms:modified xsi:type="dcterms:W3CDTF">2010-10-26T00:01:56Z</dcterms:modified>
  <cp:revision>15</cp:revision>
  <dc:subject/>
  <dc:title>数学与交通 相遇问题</dc:title>
</cp:coreProperties>
</file>