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2C3B-2B50-4D83-B766-C13FA669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786D-8EBD-470F-96AD-8B164612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5C773B-C8E9-45F9-A6F7-D8077066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D8160-FC19-43B3-BDF4-100332D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D1DFDD-F2D2-4B3E-A2E9-D1BB41ED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79D66C-A8E6-4412-9095-2CAD147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35F98-5C02-4177-A2EC-2EDE411DD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67593D-4C07-4356-8EB3-8499937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4345F-BE6D-46DC-B680-3E977F6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FC440-CB0B-4326-9717-4B3A4BC5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AB72B-1237-4555-BD71-1F56BCC86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B9040F-F744-44D4-82FC-372554D7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2242-8691-4224-9F1A-C2571E92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A530D-E833-433D-9AF1-6C88D19C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E2172-0866-43B5-A113-4DF0F90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E6D4-5651-4A9F-A68D-8E426C6F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27922-7FBA-4E87-B96A-4CD98591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68D2F-6E60-4998-B668-CC241080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27BEB-301B-40C8-A71B-185CD43F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60CC61-8F27-4516-8CFF-A73B6E7D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89C77-14F0-4385-830D-73F7E8FA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E7B17D-B155-4389-A876-E86F0F15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53594-BA52-46E2-BFC5-A14C7699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935E-904F-46B0-8CBA-47AE2B28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0D302-F38F-435B-A91D-AB6A2C8A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B355D-6A31-44EC-AC2C-0EA15FC1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35609-49B8-4252-A028-C5955E90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7C1F3-9AA8-4C7D-A35D-AFAAD3AB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099D9-8430-497D-AF2A-76B8FF54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5FCA16-128B-4583-81FC-7394F3EF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3FAE2-6980-494B-BCBE-740AB0B3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51A15-235A-44A5-844F-1FBD5210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057BCD-5216-484A-803C-AAA2488F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042A3-A36C-4A4B-9831-ADB19C45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798-6AF2-4B98-850D-ECE838FC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8AC896-7181-448E-879E-A3258E92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A18E30-92D5-48B6-90CC-6E4C49C29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EBA20-C3AD-41E4-A286-A679686CA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EC78C-79B1-4516-AC10-0E4620157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1B262-FBF6-4976-934D-9B5490EB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12969-0E63-45C5-A89B-8C275181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0D39C4-C45F-4117-8FAE-723944735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D1AD5-389F-4C56-98BF-BCC397D1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328D9-AA9E-4E8D-AF00-5846E883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C26C0-2F73-4CC7-BB9A-59369848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6442-E85E-4BAD-B51E-13DD8FA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B2AE3-06EB-4453-A18E-A9EF65B3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3F76A-2870-43C1-8A99-5AF29681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E59267-CF2D-4357-BD7A-6C136AA2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63114-597C-402A-8768-BF4BEABC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4E57BB-5218-4CC6-890D-C5D85635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DAE6-61F4-4D7E-ACCB-5ED425F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8895-C9EB-4FD9-9FF2-364026A6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D897-B67D-4BD9-9809-7DFC307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8C39-E9DB-4C1C-A116-82F810B9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1D079-727F-4101-B0A1-5814F903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FC8-D191-41A2-8AA6-2FFCFB1E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B8D8-970F-48F9-83BD-1A7399C0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0D74-584C-47DF-B5C6-5457DC28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8413-D3AA-4964-AD26-19CA87E4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98F3B-F0CF-4044-A371-6679C1C85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03BE-7216-410C-8D83-2EB999C7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E897-BE7A-4F00-BE24-299B30362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6CED-7D78-4993-9BE0-528483B7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C1821-A5E4-48B1-AC70-308FCCB2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EC6A6-A96A-4D40-A85B-80619733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9A801-33AF-4157-9C31-229EC2B6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C2D7-5C1A-443A-8CAE-9A00F2D7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8A876-6636-426B-BACC-665A4526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215E8-E4BF-4148-B6F9-2B9EECC3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5110D-180E-468A-8081-BC9B3051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D9E05-1629-48E0-A41A-DADAC01E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AF70-0EAA-430D-96C4-91235F5C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2EEC9-603F-4176-AC5F-F126CBAE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BFD4-372B-4E82-83B3-0159FB187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9C124-A25F-4758-9086-D6415B91D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4679C-35C6-4CF2-BAE3-7DC528E3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F11AC-24B5-42AD-9F77-AACB5075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EEF1-A206-420C-AC98-44E6A36C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4D156-375B-463D-BCC8-B0543D88E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64A5-EDC7-4FC3-B316-FA7BC3E8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ED728-5C77-41AC-B7ED-7D671E20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BBF05-FA37-42B9-AC17-1543184E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27037-99D5-4CEB-B915-391099C8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DCEF0-3D67-42BE-8F68-9D09FF9A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7FA2-67D2-460D-A1E2-6144C8D4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73F1F-218A-4B2B-BBE9-B84F8A474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5BDC9-80A0-44C0-A164-5FA0A9C68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A5B79-0B76-441C-8248-DE7F556B0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6388-E850-455B-8E61-9CA92484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CF3D4-CCA5-4D6C-AD57-A7D1475A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B651-4245-4150-BECE-5B8919CB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035D8-F3D1-457E-87D7-15467E90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396AE-9C8C-4AAB-8198-EE682EF2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48DC0-60F7-4EC1-81AC-4A2C8093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BADF1-1356-48F7-AF79-58CB341E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DC4CA-D9D8-45D7-B6E3-F1A643BF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F49F6-2ED8-45FD-9166-636D565B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C12A9-D6C7-40EF-9B18-5CB2789B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7D6145-20A9-4765-B6BC-72CF2523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31E7-7777-45F8-9475-F9517558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80108-8461-4AB7-A145-6446B3124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8EDFF-01FA-4225-89E5-CC80DEB9E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BF1C4C-A607-4514-B445-BDCEDC46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31FB-75B9-4EE6-A5B4-3196C6D6B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5FBCC-5762-422A-9578-7AA845A0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C2AB9-9CA5-4C8F-887F-A53D35D7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FB93E-8889-4A4F-9912-C23427C9C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418BB5-0E75-484D-A984-3CC8604B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8D11D6-15FB-482C-B8A0-C246918F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269169-8DF9-4161-9A2D-00B5C22D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22B2-642B-4B0B-844B-7DD819C4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48D2D-C095-4636-B1B5-3BA3EEFA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BE3C8-2B6C-4270-8408-B28789AA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CC38-1039-4970-A489-0BDFA919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36F6BB-E143-4943-91F0-EFF152642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F7165-AFB9-4554-B43E-2220D7C4E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63E9D-3C53-447B-8C9C-BD0A4939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12A5-0FFA-46EF-ABB7-25926DCB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3F012-1565-41C8-93A6-22D9725D5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6F1E4-7C84-4151-BB40-ED43EE16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63202-244C-4BC5-80FC-33ACC5B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901-DC31-4CD4-832A-6D59D026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3AE95-1DFE-408E-982C-25BBD05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F80CC-4880-48A2-9F97-6FE9C2D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634D3-0124-4FE5-9942-297A9FE1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8B1FF0-0E5C-4199-99DC-FB4B40C5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96255A-150E-43E6-B376-CE2F7F40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8AEC0-601E-4A3E-AE19-3995C165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B83E5-EC99-42F1-8997-1FDDB4A01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53932B-86A0-4F29-BB64-0FA4B73E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6EE2E-8C74-4458-8DE9-96F59324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B5232-E2B9-4C00-B410-A279F2F4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BD7A-3AA9-44D5-AB9A-490CCE6E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0D9EF-C108-4FA6-8521-A4C45889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BE1F9-4C95-4F83-8741-C034921C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7C82D-CD09-4012-A807-94F432E5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3F787-4AAA-4E22-99B4-55B5F7DA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20979-5133-402B-94CB-7C20D1AB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A38EC-6E56-4B04-A0DE-B55939C1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FE00D-35BF-456A-B947-2341F319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BC095-EF69-4CCE-BFA1-59F775D5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36176-892E-40C9-A718-5679134A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CEC25-C49C-446D-9D0F-76D9EC7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D8DA-B7CC-424E-BE77-4B5BDF9AA8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A42DF-DB8A-43A0-8770-F241348CEA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19E-4362-4944-A842-11DB75F1A8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AC04-05ED-4F4D-B014-736E47ADAB6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8D66-3AE9-48B4-97F0-CA8538FDA0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79536-DDAA-4C61-AAA0-58194B60AA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C71-B43A-423A-B6D7-9FD3BE16D96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ADAE-A5AA-4F63-A9D3-86238D5392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8ACC-B741-4EB3-BB3E-6CCCD429AB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77EB-3C90-4F38-93E0-9DF002A2FA3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B0E1-911E-4FBF-9186-2CF3BD5EBE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易百特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5811-76B7-4E30-B92D-3553F16511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11277"/>
          <p:cNvSpPr txBox="1"/>
          <p:nvPr/>
        </p:nvSpPr>
        <p:spPr>
          <a:xfrm>
            <a:off x="468360" y="2997360"/>
            <a:ext cx="6408720" cy="24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新魏"/>
              </a:rPr>
              <a:t>成长的脚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93" name="矩形 11279"/>
          <p:cNvSpPr txBox="1"/>
          <p:nvPr/>
        </p:nvSpPr>
        <p:spPr>
          <a:xfrm>
            <a:off x="612720" y="907920"/>
            <a:ext cx="6120000" cy="103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北师大版五年级数学上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9" name=""/>
          <p:cNvGraphicFramePr/>
          <p:nvPr/>
        </p:nvGraphicFramePr>
        <p:xfrm>
          <a:off x="611280" y="141120"/>
          <a:ext cx="8064360" cy="6572520"/>
        </p:xfrm>
        <a:graphic>
          <a:graphicData uri="http://schemas.openxmlformats.org/drawingml/2006/table">
            <a:tbl>
              <a:tblPr/>
              <a:tblGrid>
                <a:gridCol w="671400"/>
                <a:gridCol w="673200"/>
                <a:gridCol w="671400"/>
                <a:gridCol w="720720"/>
                <a:gridCol w="623880"/>
                <a:gridCol w="671400"/>
                <a:gridCol w="671760"/>
                <a:gridCol w="672840"/>
                <a:gridCol w="671760"/>
                <a:gridCol w="671400"/>
                <a:gridCol w="673200"/>
                <a:gridCol w="671400"/>
              </a:tblGrid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70" name="图片 12942" descr="u=3724651643,2724791054&amp;gp=2"/>
          <p:cNvPicPr/>
          <p:nvPr/>
        </p:nvPicPr>
        <p:blipFill>
          <a:blip r:embed="rId1"/>
          <a:stretch/>
        </p:blipFill>
        <p:spPr>
          <a:xfrm>
            <a:off x="1116000" y="692280"/>
            <a:ext cx="6335640" cy="5086080"/>
          </a:xfrm>
          <a:prstGeom prst="rect">
            <a:avLst/>
          </a:prstGeom>
          <a:ln w="0">
            <a:noFill/>
          </a:ln>
        </p:spPr>
      </p:pic>
      <p:grpSp>
        <p:nvGrpSpPr>
          <p:cNvPr id="571" name="组合 12943"/>
          <p:cNvGrpSpPr/>
          <p:nvPr/>
        </p:nvGrpSpPr>
        <p:grpSpPr>
          <a:xfrm>
            <a:off x="2627280" y="765000"/>
            <a:ext cx="4032000" cy="4608720"/>
            <a:chOff x="2627280" y="765000"/>
            <a:chExt cx="4032000" cy="4608720"/>
          </a:xfrm>
        </p:grpSpPr>
        <p:sp>
          <p:nvSpPr>
            <p:cNvPr id="572" name="直接连接符 12944"/>
            <p:cNvSpPr/>
            <p:nvPr/>
          </p:nvSpPr>
          <p:spPr>
            <a:xfrm flipV="1">
              <a:off x="6659280" y="765000"/>
              <a:ext cx="0" cy="46087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组合 12945"/>
            <p:cNvGrpSpPr/>
            <p:nvPr/>
          </p:nvGrpSpPr>
          <p:grpSpPr>
            <a:xfrm>
              <a:off x="2627280" y="765000"/>
              <a:ext cx="4031640" cy="4608720"/>
              <a:chOff x="2627280" y="765000"/>
              <a:chExt cx="4031640" cy="4608720"/>
            </a:xfrm>
          </p:grpSpPr>
          <p:sp>
            <p:nvSpPr>
              <p:cNvPr id="574" name="直接连接符 12946"/>
              <p:cNvSpPr/>
              <p:nvPr/>
            </p:nvSpPr>
            <p:spPr>
              <a:xfrm>
                <a:off x="2627280" y="5373720"/>
                <a:ext cx="4031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直接连接符 12947"/>
              <p:cNvSpPr/>
              <p:nvPr/>
            </p:nvSpPr>
            <p:spPr>
              <a:xfrm flipV="1">
                <a:off x="2627280" y="765000"/>
                <a:ext cx="0" cy="460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直接连接符 12948"/>
              <p:cNvSpPr/>
              <p:nvPr/>
            </p:nvSpPr>
            <p:spPr>
              <a:xfrm>
                <a:off x="2627280" y="765000"/>
                <a:ext cx="4031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矩形 12949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组合 12950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579" name="对象 12951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80" name="直接连接符 12952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4099" descr="{BF2D26EA-6CF3-4243-821F-79C25DB3296E}"/>
          <p:cNvPicPr/>
          <p:nvPr/>
        </p:nvPicPr>
        <p:blipFill>
          <a:blip r:embed="rId1"/>
          <a:stretch/>
        </p:blipFill>
        <p:spPr>
          <a:xfrm>
            <a:off x="1547640" y="0"/>
            <a:ext cx="6118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2" name="组合 4100"/>
          <p:cNvGrpSpPr/>
          <p:nvPr/>
        </p:nvGrpSpPr>
        <p:grpSpPr>
          <a:xfrm>
            <a:off x="2700360" y="1341360"/>
            <a:ext cx="3816360" cy="4392360"/>
            <a:chOff x="2700360" y="1341360"/>
            <a:chExt cx="3816360" cy="4392360"/>
          </a:xfrm>
        </p:grpSpPr>
        <p:sp>
          <p:nvSpPr>
            <p:cNvPr id="583" name="直接连接符 4101"/>
            <p:cNvSpPr/>
            <p:nvPr/>
          </p:nvSpPr>
          <p:spPr>
            <a:xfrm>
              <a:off x="2700360" y="5733720"/>
              <a:ext cx="3816360" cy="0"/>
            </a:xfrm>
            <a:prstGeom prst="line">
              <a:avLst/>
            </a:prstGeom>
            <a:ln w="7632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组合 4102"/>
            <p:cNvGrpSpPr/>
            <p:nvPr/>
          </p:nvGrpSpPr>
          <p:grpSpPr>
            <a:xfrm>
              <a:off x="2700360" y="1341360"/>
              <a:ext cx="3816360" cy="4392000"/>
              <a:chOff x="2700360" y="1341360"/>
              <a:chExt cx="3816360" cy="4392000"/>
            </a:xfrm>
          </p:grpSpPr>
          <p:sp>
            <p:nvSpPr>
              <p:cNvPr id="585" name="直接连接符 4103"/>
              <p:cNvSpPr/>
              <p:nvPr/>
            </p:nvSpPr>
            <p:spPr>
              <a:xfrm>
                <a:off x="2700360" y="1341360"/>
                <a:ext cx="0" cy="439200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直接连接符 4104"/>
              <p:cNvSpPr/>
              <p:nvPr/>
            </p:nvSpPr>
            <p:spPr>
              <a:xfrm>
                <a:off x="2700360" y="1341360"/>
                <a:ext cx="381636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直接连接符 4105"/>
              <p:cNvSpPr/>
              <p:nvPr/>
            </p:nvSpPr>
            <p:spPr>
              <a:xfrm>
                <a:off x="6516720" y="1341360"/>
                <a:ext cx="0" cy="439200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8" name="矩形 4106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组合 4107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590" name="对象 4108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91" name="直接连接符 4109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图片 8195" descr="{BF2D26EA-6CF3-4243-821F-79C25DB3296E}"/>
          <p:cNvPicPr/>
          <p:nvPr/>
        </p:nvPicPr>
        <p:blipFill>
          <a:blip r:embed="rId1"/>
          <a:stretch/>
        </p:blipFill>
        <p:spPr>
          <a:xfrm>
            <a:off x="1547640" y="0"/>
            <a:ext cx="6118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3" name="组合 8196"/>
          <p:cNvGrpSpPr/>
          <p:nvPr/>
        </p:nvGrpSpPr>
        <p:grpSpPr>
          <a:xfrm>
            <a:off x="2124000" y="1773360"/>
            <a:ext cx="4392720" cy="3960360"/>
            <a:chOff x="2124000" y="1773360"/>
            <a:chExt cx="4392720" cy="3960360"/>
          </a:xfrm>
        </p:grpSpPr>
        <p:sp>
          <p:nvSpPr>
            <p:cNvPr id="594" name="直接连接符 8197"/>
            <p:cNvSpPr/>
            <p:nvPr/>
          </p:nvSpPr>
          <p:spPr>
            <a:xfrm>
              <a:off x="2124000" y="5733720"/>
              <a:ext cx="4392720" cy="0"/>
            </a:xfrm>
            <a:prstGeom prst="line">
              <a:avLst/>
            </a:prstGeom>
            <a:ln w="7632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组合 8198"/>
            <p:cNvGrpSpPr/>
            <p:nvPr/>
          </p:nvGrpSpPr>
          <p:grpSpPr>
            <a:xfrm>
              <a:off x="2124000" y="1773360"/>
              <a:ext cx="4392720" cy="3960000"/>
              <a:chOff x="2124000" y="1773360"/>
              <a:chExt cx="4392720" cy="3960000"/>
            </a:xfrm>
          </p:grpSpPr>
          <p:sp>
            <p:nvSpPr>
              <p:cNvPr id="596" name="直接连接符 8199"/>
              <p:cNvSpPr/>
              <p:nvPr/>
            </p:nvSpPr>
            <p:spPr>
              <a:xfrm>
                <a:off x="2124000" y="1773360"/>
                <a:ext cx="0" cy="396000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直接连接符 8200"/>
              <p:cNvSpPr/>
              <p:nvPr/>
            </p:nvSpPr>
            <p:spPr>
              <a:xfrm>
                <a:off x="2124000" y="1773360"/>
                <a:ext cx="439272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直接连接符 8201"/>
              <p:cNvSpPr/>
              <p:nvPr/>
            </p:nvSpPr>
            <p:spPr>
              <a:xfrm>
                <a:off x="6516720" y="1773360"/>
                <a:ext cx="0" cy="396000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矩形 8202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组合 8203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601" name="对象 8204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02" name="直接连接符 8205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"/>
          <p:cNvGraphicFramePr/>
          <p:nvPr/>
        </p:nvGraphicFramePr>
        <p:xfrm>
          <a:off x="755640" y="657360"/>
          <a:ext cx="8064360" cy="5651280"/>
        </p:xfrm>
        <a:graphic>
          <a:graphicData uri="http://schemas.openxmlformats.org/drawingml/2006/table">
            <a:tbl>
              <a:tblPr/>
              <a:tblGrid>
                <a:gridCol w="671400"/>
                <a:gridCol w="673200"/>
                <a:gridCol w="671400"/>
                <a:gridCol w="720720"/>
                <a:gridCol w="623880"/>
                <a:gridCol w="671760"/>
                <a:gridCol w="671400"/>
                <a:gridCol w="673200"/>
                <a:gridCol w="671400"/>
                <a:gridCol w="671400"/>
                <a:gridCol w="696960"/>
                <a:gridCol w="647640"/>
              </a:tblGrid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04" name="图片 13462" descr="1016588503"/>
          <p:cNvPicPr/>
          <p:nvPr/>
        </p:nvPicPr>
        <p:blipFill>
          <a:blip r:embed="rId1"/>
          <a:stretch/>
        </p:blipFill>
        <p:spPr>
          <a:xfrm>
            <a:off x="2987640" y="3357720"/>
            <a:ext cx="2808360" cy="2158920"/>
          </a:xfrm>
          <a:prstGeom prst="rect">
            <a:avLst/>
          </a:prstGeom>
          <a:ln w="0">
            <a:noFill/>
          </a:ln>
        </p:spPr>
      </p:pic>
      <p:grpSp>
        <p:nvGrpSpPr>
          <p:cNvPr id="605" name="组合 13463"/>
          <p:cNvGrpSpPr/>
          <p:nvPr/>
        </p:nvGrpSpPr>
        <p:grpSpPr>
          <a:xfrm>
            <a:off x="3492360" y="3860640"/>
            <a:ext cx="2016360" cy="1368720"/>
            <a:chOff x="3492360" y="3860640"/>
            <a:chExt cx="2016360" cy="1368720"/>
          </a:xfrm>
        </p:grpSpPr>
        <p:sp>
          <p:nvSpPr>
            <p:cNvPr id="606" name="直接连接符 13464"/>
            <p:cNvSpPr/>
            <p:nvPr/>
          </p:nvSpPr>
          <p:spPr>
            <a:xfrm flipV="1">
              <a:off x="5508720" y="3860640"/>
              <a:ext cx="0" cy="136872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7" name="组合 13465"/>
            <p:cNvGrpSpPr/>
            <p:nvPr/>
          </p:nvGrpSpPr>
          <p:grpSpPr>
            <a:xfrm>
              <a:off x="3492360" y="3860640"/>
              <a:ext cx="2016360" cy="1368720"/>
              <a:chOff x="3492360" y="3860640"/>
              <a:chExt cx="2016360" cy="1368720"/>
            </a:xfrm>
          </p:grpSpPr>
          <p:sp>
            <p:nvSpPr>
              <p:cNvPr id="608" name="直接连接符 13466"/>
              <p:cNvSpPr/>
              <p:nvPr/>
            </p:nvSpPr>
            <p:spPr>
              <a:xfrm>
                <a:off x="3492360" y="5229360"/>
                <a:ext cx="201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直接连接符 13467"/>
              <p:cNvSpPr/>
              <p:nvPr/>
            </p:nvSpPr>
            <p:spPr>
              <a:xfrm flipV="1">
                <a:off x="3492360" y="3860640"/>
                <a:ext cx="0" cy="13687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直接连接符 13468"/>
              <p:cNvSpPr/>
              <p:nvPr/>
            </p:nvSpPr>
            <p:spPr>
              <a:xfrm>
                <a:off x="3492360" y="3860640"/>
                <a:ext cx="2016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矩形 13472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组合 13473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613" name="对象 13474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14" name="直接连接符 13475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5" name=""/>
          <p:cNvGraphicFramePr/>
          <p:nvPr/>
        </p:nvGraphicFramePr>
        <p:xfrm>
          <a:off x="600120" y="174600"/>
          <a:ext cx="8064360" cy="6594480"/>
        </p:xfrm>
        <a:graphic>
          <a:graphicData uri="http://schemas.openxmlformats.org/drawingml/2006/table">
            <a:tbl>
              <a:tblPr/>
              <a:tblGrid>
                <a:gridCol w="647640"/>
                <a:gridCol w="696960"/>
                <a:gridCol w="671400"/>
                <a:gridCol w="720720"/>
                <a:gridCol w="623880"/>
                <a:gridCol w="671760"/>
                <a:gridCol w="671400"/>
                <a:gridCol w="673200"/>
                <a:gridCol w="671400"/>
                <a:gridCol w="671400"/>
                <a:gridCol w="673200"/>
                <a:gridCol w="6714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6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e16daf"/>
                      </a:solidFill>
                    </a:lnL>
                    <a:lnR w="28080">
                      <a:solidFill>
                        <a:srgbClr val="e16daf"/>
                      </a:solidFill>
                    </a:lnR>
                    <a:lnT w="28080">
                      <a:solidFill>
                        <a:srgbClr val="e16daf"/>
                      </a:solidFill>
                    </a:lnT>
                    <a:lnB w="28080">
                      <a:solidFill>
                        <a:srgbClr val="e16daf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16" name="图片 14493" descr="u=3593707731,2718327140&amp;gp=1"/>
          <p:cNvPicPr/>
          <p:nvPr/>
        </p:nvPicPr>
        <p:blipFill>
          <a:blip r:embed="rId1"/>
          <a:stretch/>
        </p:blipFill>
        <p:spPr>
          <a:xfrm>
            <a:off x="3421080" y="2708280"/>
            <a:ext cx="2663640" cy="2736720"/>
          </a:xfrm>
          <a:prstGeom prst="rect">
            <a:avLst/>
          </a:prstGeom>
          <a:ln w="0">
            <a:noFill/>
          </a:ln>
        </p:spPr>
      </p:pic>
      <p:grpSp>
        <p:nvGrpSpPr>
          <p:cNvPr id="617" name="组合 14486"/>
          <p:cNvGrpSpPr/>
          <p:nvPr/>
        </p:nvGrpSpPr>
        <p:grpSpPr>
          <a:xfrm>
            <a:off x="3924360" y="2781000"/>
            <a:ext cx="1368360" cy="2663640"/>
            <a:chOff x="3924360" y="2781000"/>
            <a:chExt cx="1368360" cy="2663640"/>
          </a:xfrm>
        </p:grpSpPr>
        <p:sp>
          <p:nvSpPr>
            <p:cNvPr id="618" name="直接连接符 14487"/>
            <p:cNvSpPr/>
            <p:nvPr/>
          </p:nvSpPr>
          <p:spPr>
            <a:xfrm flipV="1">
              <a:off x="5292720" y="2781000"/>
              <a:ext cx="0" cy="266364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组合 14488"/>
            <p:cNvGrpSpPr/>
            <p:nvPr/>
          </p:nvGrpSpPr>
          <p:grpSpPr>
            <a:xfrm>
              <a:off x="3924360" y="2781000"/>
              <a:ext cx="1368360" cy="2663640"/>
              <a:chOff x="3924360" y="2781000"/>
              <a:chExt cx="1368360" cy="2663640"/>
            </a:xfrm>
          </p:grpSpPr>
          <p:sp>
            <p:nvSpPr>
              <p:cNvPr id="620" name="直接连接符 14489"/>
              <p:cNvSpPr/>
              <p:nvPr/>
            </p:nvSpPr>
            <p:spPr>
              <a:xfrm>
                <a:off x="3924360" y="5444640"/>
                <a:ext cx="136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直接连接符 14490"/>
              <p:cNvSpPr/>
              <p:nvPr/>
            </p:nvSpPr>
            <p:spPr>
              <a:xfrm flipV="1">
                <a:off x="3924360" y="2781000"/>
                <a:ext cx="0" cy="266364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直接连接符 14491"/>
              <p:cNvSpPr/>
              <p:nvPr/>
            </p:nvSpPr>
            <p:spPr>
              <a:xfrm>
                <a:off x="3924360" y="2781000"/>
                <a:ext cx="136836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矩形 14496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组合 14497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625" name="对象 14498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26" name="直接连接符 14499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本课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499520" cy="35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能用数格子的方法，计算不规则图形的面积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知识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正确估计不规则图形面积的大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能力目标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用数格子的方法，计算不规则图形的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情感目标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培养大家勤于动手动脑的良好习惯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引导大家热爱生活，关注身边的每个事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回忆旧知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割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添补法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讨论“分割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对于“分割法”分割的图形越简洁，其解题的方法也将越简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要考虑分割的图形与所给条件的关系。有些图形分割后找不到相关的条件就是失败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讨论“添补法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为什么要补上一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补上一块后计算的方法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图片 21507" descr="杂志 图片1"/>
          <p:cNvPicPr/>
          <p:nvPr/>
        </p:nvPicPr>
        <p:blipFill>
          <a:blip r:embed="rId1"/>
          <a:stretch/>
        </p:blipFill>
        <p:spPr>
          <a:xfrm>
            <a:off x="539640" y="333360"/>
            <a:ext cx="1524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图片 2051" descr="{D2EC757E-ABE7-4CED-B088-AE5FB09550D1}"/>
          <p:cNvPicPr/>
          <p:nvPr/>
        </p:nvPicPr>
        <p:blipFill>
          <a:blip r:embed="rId1"/>
          <a:stretch/>
        </p:blipFill>
        <p:spPr>
          <a:xfrm>
            <a:off x="0" y="237960"/>
            <a:ext cx="9144000" cy="4381560"/>
          </a:xfrm>
          <a:prstGeom prst="rect">
            <a:avLst/>
          </a:prstGeom>
          <a:ln w="0">
            <a:noFill/>
          </a:ln>
        </p:spPr>
      </p:pic>
      <p:grpSp>
        <p:nvGrpSpPr>
          <p:cNvPr id="500" name="组合 2057"/>
          <p:cNvGrpSpPr/>
          <p:nvPr/>
        </p:nvGrpSpPr>
        <p:grpSpPr>
          <a:xfrm>
            <a:off x="900000" y="2060640"/>
            <a:ext cx="6696000" cy="1633320"/>
            <a:chOff x="900000" y="2060640"/>
            <a:chExt cx="6696000" cy="1633320"/>
          </a:xfrm>
        </p:grpSpPr>
        <p:sp>
          <p:nvSpPr>
            <p:cNvPr id="501" name="直接连接符 2053"/>
            <p:cNvSpPr/>
            <p:nvPr/>
          </p:nvSpPr>
          <p:spPr>
            <a:xfrm>
              <a:off x="900000" y="3693960"/>
              <a:ext cx="669600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组合 2056"/>
            <p:cNvGrpSpPr/>
            <p:nvPr/>
          </p:nvGrpSpPr>
          <p:grpSpPr>
            <a:xfrm>
              <a:off x="900000" y="2060640"/>
              <a:ext cx="6695640" cy="1633320"/>
              <a:chOff x="900000" y="2060640"/>
              <a:chExt cx="6695640" cy="1633320"/>
            </a:xfrm>
          </p:grpSpPr>
          <p:sp>
            <p:nvSpPr>
              <p:cNvPr id="503" name="直接连接符 2052"/>
              <p:cNvSpPr/>
              <p:nvPr/>
            </p:nvSpPr>
            <p:spPr>
              <a:xfrm>
                <a:off x="900000" y="2060640"/>
                <a:ext cx="0" cy="1633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直接连接符 2054"/>
              <p:cNvSpPr/>
              <p:nvPr/>
            </p:nvSpPr>
            <p:spPr>
              <a:xfrm>
                <a:off x="900000" y="2060640"/>
                <a:ext cx="6695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直接连接符 2055"/>
              <p:cNvSpPr/>
              <p:nvPr/>
            </p:nvSpPr>
            <p:spPr>
              <a:xfrm>
                <a:off x="7595640" y="2060640"/>
                <a:ext cx="0" cy="163332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6" name="文本框 2058"/>
          <p:cNvSpPr/>
          <p:nvPr/>
        </p:nvSpPr>
        <p:spPr>
          <a:xfrm>
            <a:off x="0" y="4869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淘淘出生时脚印的面积约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每个小方格的面积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对象 2059"/>
              <p:cNvSpPr txBox="1"/>
              <p:nvPr/>
            </p:nvSpPr>
            <p:spPr>
              <a:xfrm>
                <a:off x="6516720" y="4653000"/>
                <a:ext cx="10796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8" name="文本框 2060"/>
          <p:cNvSpPr/>
          <p:nvPr/>
        </p:nvSpPr>
        <p:spPr>
          <a:xfrm>
            <a:off x="4932360" y="48690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  )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9" name="对象 2062"/>
              <p:cNvSpPr txBox="1"/>
              <p:nvPr/>
            </p:nvSpPr>
            <p:spPr>
              <a:xfrm>
                <a:off x="4859280" y="5300640"/>
                <a:ext cx="10796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图片 3075" descr="{FAA2FD40-C8C6-41D8-83B7-4AAC502A2850}"/>
          <p:cNvPicPr/>
          <p:nvPr/>
        </p:nvPicPr>
        <p:blipFill>
          <a:blip r:embed="rId1"/>
          <a:stretch/>
        </p:blipFill>
        <p:spPr>
          <a:xfrm>
            <a:off x="82440" y="0"/>
            <a:ext cx="9061560" cy="4805280"/>
          </a:xfrm>
          <a:prstGeom prst="rect">
            <a:avLst/>
          </a:prstGeom>
          <a:ln w="0">
            <a:noFill/>
          </a:ln>
        </p:spPr>
      </p:pic>
      <p:grpSp>
        <p:nvGrpSpPr>
          <p:cNvPr id="511" name="组合 3076"/>
          <p:cNvGrpSpPr/>
          <p:nvPr/>
        </p:nvGrpSpPr>
        <p:grpSpPr>
          <a:xfrm>
            <a:off x="185760" y="865080"/>
            <a:ext cx="7049880" cy="2581200"/>
            <a:chOff x="185760" y="865080"/>
            <a:chExt cx="7049880" cy="2581200"/>
          </a:xfrm>
        </p:grpSpPr>
        <p:sp>
          <p:nvSpPr>
            <p:cNvPr id="512" name="直接连接符 3077"/>
            <p:cNvSpPr/>
            <p:nvPr/>
          </p:nvSpPr>
          <p:spPr>
            <a:xfrm>
              <a:off x="185760" y="3446280"/>
              <a:ext cx="704988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组合 3078"/>
            <p:cNvGrpSpPr/>
            <p:nvPr/>
          </p:nvGrpSpPr>
          <p:grpSpPr>
            <a:xfrm>
              <a:off x="185760" y="865080"/>
              <a:ext cx="7049520" cy="2580840"/>
              <a:chOff x="185760" y="865080"/>
              <a:chExt cx="7049520" cy="2580840"/>
            </a:xfrm>
          </p:grpSpPr>
          <p:sp>
            <p:nvSpPr>
              <p:cNvPr id="514" name="直接连接符 3079"/>
              <p:cNvSpPr/>
              <p:nvPr/>
            </p:nvSpPr>
            <p:spPr>
              <a:xfrm>
                <a:off x="185760" y="865080"/>
                <a:ext cx="0" cy="2580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直接连接符 3080"/>
              <p:cNvSpPr/>
              <p:nvPr/>
            </p:nvSpPr>
            <p:spPr>
              <a:xfrm>
                <a:off x="185760" y="865080"/>
                <a:ext cx="70495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直接连接符 3081"/>
              <p:cNvSpPr/>
              <p:nvPr/>
            </p:nvSpPr>
            <p:spPr>
              <a:xfrm>
                <a:off x="7235280" y="865080"/>
                <a:ext cx="0" cy="258084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517" name="对象 3086"/>
              <p:cNvSpPr txBox="1"/>
              <p:nvPr/>
            </p:nvSpPr>
            <p:spPr>
              <a:xfrm>
                <a:off x="6516720" y="4653000"/>
                <a:ext cx="10796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18" name="文本框 3087"/>
          <p:cNvSpPr/>
          <p:nvPr/>
        </p:nvSpPr>
        <p:spPr>
          <a:xfrm>
            <a:off x="0" y="4869000"/>
            <a:ext cx="806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淘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时，脚印的面积约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每个小方格的面积表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3088"/>
          <p:cNvSpPr/>
          <p:nvPr/>
        </p:nvSpPr>
        <p:spPr>
          <a:xfrm>
            <a:off x="5148360" y="48690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        )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0" name="对象 3089"/>
              <p:cNvSpPr txBox="1"/>
              <p:nvPr/>
            </p:nvSpPr>
            <p:spPr>
              <a:xfrm>
                <a:off x="4859280" y="5300640"/>
                <a:ext cx="107964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估计下面图形的面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每个小方格的面积表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图片 18435" descr="想一想"/>
          <p:cNvPicPr/>
          <p:nvPr/>
        </p:nvPicPr>
        <p:blipFill>
          <a:blip r:embed="rId1"/>
          <a:stretch/>
        </p:blipFill>
        <p:spPr>
          <a:xfrm>
            <a:off x="0" y="0"/>
            <a:ext cx="2603520" cy="3038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3" name="对象 18436"/>
              <p:cNvSpPr txBox="1"/>
              <p:nvPr/>
            </p:nvSpPr>
            <p:spPr>
              <a:xfrm>
                <a:off x="6012000" y="3860640"/>
                <a:ext cx="1079280" cy="126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/>
                      <m: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图片 6147" descr="{147AD98C-C90B-414C-ADF2-BEACD6EB4230}"/>
          <p:cNvPicPr/>
          <p:nvPr/>
        </p:nvPicPr>
        <p:blipFill>
          <a:blip r:embed="rId1"/>
          <a:stretch/>
        </p:blipFill>
        <p:spPr>
          <a:xfrm>
            <a:off x="3203640" y="404640"/>
            <a:ext cx="5400720" cy="5322960"/>
          </a:xfrm>
          <a:prstGeom prst="rect">
            <a:avLst/>
          </a:prstGeom>
          <a:ln w="0">
            <a:noFill/>
          </a:ln>
        </p:spPr>
      </p:pic>
      <p:grpSp>
        <p:nvGrpSpPr>
          <p:cNvPr id="525" name="组合 6148"/>
          <p:cNvGrpSpPr/>
          <p:nvPr/>
        </p:nvGrpSpPr>
        <p:grpSpPr>
          <a:xfrm>
            <a:off x="3995640" y="642960"/>
            <a:ext cx="3841920" cy="4944600"/>
            <a:chOff x="3995640" y="642960"/>
            <a:chExt cx="3841920" cy="4944600"/>
          </a:xfrm>
        </p:grpSpPr>
        <p:sp>
          <p:nvSpPr>
            <p:cNvPr id="526" name="直接连接符 6149"/>
            <p:cNvSpPr/>
            <p:nvPr/>
          </p:nvSpPr>
          <p:spPr>
            <a:xfrm>
              <a:off x="3995640" y="5587560"/>
              <a:ext cx="384192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组合 6150"/>
            <p:cNvGrpSpPr/>
            <p:nvPr/>
          </p:nvGrpSpPr>
          <p:grpSpPr>
            <a:xfrm>
              <a:off x="3995640" y="642960"/>
              <a:ext cx="3841920" cy="4944240"/>
              <a:chOff x="3995640" y="642960"/>
              <a:chExt cx="3841920" cy="4944240"/>
            </a:xfrm>
          </p:grpSpPr>
          <p:sp>
            <p:nvSpPr>
              <p:cNvPr id="528" name="直接连接符 6151"/>
              <p:cNvSpPr/>
              <p:nvPr/>
            </p:nvSpPr>
            <p:spPr>
              <a:xfrm>
                <a:off x="3995640" y="642960"/>
                <a:ext cx="0" cy="4944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直接连接符 6152"/>
              <p:cNvSpPr/>
              <p:nvPr/>
            </p:nvSpPr>
            <p:spPr>
              <a:xfrm>
                <a:off x="3995640" y="642960"/>
                <a:ext cx="38419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直接连接符 6153"/>
              <p:cNvSpPr/>
              <p:nvPr/>
            </p:nvSpPr>
            <p:spPr>
              <a:xfrm>
                <a:off x="7837560" y="642960"/>
                <a:ext cx="0" cy="494424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132000" y="5516280"/>
            <a:ext cx="24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6157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533" name="对象 6155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4" name="直接连接符 6156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图片 7171" descr="{60BAB804-F71F-414F-B30F-8147A23F99A0}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5373720"/>
          </a:xfrm>
          <a:prstGeom prst="rect">
            <a:avLst/>
          </a:prstGeom>
          <a:ln w="0">
            <a:noFill/>
          </a:ln>
        </p:spPr>
      </p:pic>
      <p:grpSp>
        <p:nvGrpSpPr>
          <p:cNvPr id="536" name="组合 7172"/>
          <p:cNvGrpSpPr/>
          <p:nvPr/>
        </p:nvGrpSpPr>
        <p:grpSpPr>
          <a:xfrm>
            <a:off x="2981160" y="636480"/>
            <a:ext cx="4973760" cy="4138200"/>
            <a:chOff x="2981160" y="636480"/>
            <a:chExt cx="4973760" cy="4138200"/>
          </a:xfrm>
        </p:grpSpPr>
        <p:sp>
          <p:nvSpPr>
            <p:cNvPr id="537" name="直接连接符 7173"/>
            <p:cNvSpPr/>
            <p:nvPr/>
          </p:nvSpPr>
          <p:spPr>
            <a:xfrm>
              <a:off x="2981160" y="4774680"/>
              <a:ext cx="4973760" cy="0"/>
            </a:xfrm>
            <a:prstGeom prst="line">
              <a:avLst/>
            </a:prstGeom>
            <a:ln w="7632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" name="组合 7174"/>
            <p:cNvGrpSpPr/>
            <p:nvPr/>
          </p:nvGrpSpPr>
          <p:grpSpPr>
            <a:xfrm>
              <a:off x="2981160" y="636480"/>
              <a:ext cx="4973760" cy="4137840"/>
              <a:chOff x="2981160" y="636480"/>
              <a:chExt cx="4973760" cy="4137840"/>
            </a:xfrm>
          </p:grpSpPr>
          <p:sp>
            <p:nvSpPr>
              <p:cNvPr id="539" name="直接连接符 7175"/>
              <p:cNvSpPr/>
              <p:nvPr/>
            </p:nvSpPr>
            <p:spPr>
              <a:xfrm>
                <a:off x="2981160" y="636480"/>
                <a:ext cx="0" cy="4137840"/>
              </a:xfrm>
              <a:prstGeom prst="line">
                <a:avLst/>
              </a:prstGeom>
              <a:ln w="7632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直接连接符 7176"/>
              <p:cNvSpPr/>
              <p:nvPr/>
            </p:nvSpPr>
            <p:spPr>
              <a:xfrm>
                <a:off x="2981160" y="636480"/>
                <a:ext cx="497376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直接连接符 7177"/>
              <p:cNvSpPr/>
              <p:nvPr/>
            </p:nvSpPr>
            <p:spPr>
              <a:xfrm>
                <a:off x="7954920" y="636480"/>
                <a:ext cx="0" cy="4137840"/>
              </a:xfrm>
              <a:prstGeom prst="line">
                <a:avLst/>
              </a:prstGeom>
              <a:ln w="76320">
                <a:solidFill>
                  <a:srgbClr val="3333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组合 7178"/>
          <p:cNvGrpSpPr/>
          <p:nvPr/>
        </p:nvGrpSpPr>
        <p:grpSpPr>
          <a:xfrm>
            <a:off x="5076720" y="1773360"/>
            <a:ext cx="1579680" cy="1584360"/>
            <a:chOff x="5076720" y="1773360"/>
            <a:chExt cx="1579680" cy="1584360"/>
          </a:xfrm>
        </p:grpSpPr>
        <p:sp>
          <p:nvSpPr>
            <p:cNvPr id="543" name="直接连接符 7179"/>
            <p:cNvSpPr/>
            <p:nvPr/>
          </p:nvSpPr>
          <p:spPr>
            <a:xfrm>
              <a:off x="5076720" y="3357720"/>
              <a:ext cx="1579680" cy="0"/>
            </a:xfrm>
            <a:prstGeom prst="line">
              <a:avLst/>
            </a:prstGeom>
            <a:ln w="76320">
              <a:solidFill>
                <a:srgbClr val="00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组合 7180"/>
            <p:cNvGrpSpPr/>
            <p:nvPr/>
          </p:nvGrpSpPr>
          <p:grpSpPr>
            <a:xfrm>
              <a:off x="5076720" y="1773360"/>
              <a:ext cx="1579680" cy="1584360"/>
              <a:chOff x="5076720" y="1773360"/>
              <a:chExt cx="1579680" cy="1584360"/>
            </a:xfrm>
          </p:grpSpPr>
          <p:sp>
            <p:nvSpPr>
              <p:cNvPr id="545" name="直接连接符 7181"/>
              <p:cNvSpPr/>
              <p:nvPr/>
            </p:nvSpPr>
            <p:spPr>
              <a:xfrm>
                <a:off x="5076720" y="1773360"/>
                <a:ext cx="0" cy="158436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直接连接符 7182"/>
              <p:cNvSpPr/>
              <p:nvPr/>
            </p:nvSpPr>
            <p:spPr>
              <a:xfrm>
                <a:off x="5076720" y="1773360"/>
                <a:ext cx="1579680" cy="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直接连接符 7183"/>
              <p:cNvSpPr/>
              <p:nvPr/>
            </p:nvSpPr>
            <p:spPr>
              <a:xfrm>
                <a:off x="6656400" y="1773360"/>
                <a:ext cx="0" cy="1584360"/>
              </a:xfrm>
              <a:prstGeom prst="line">
                <a:avLst/>
              </a:prstGeom>
              <a:ln w="76320">
                <a:solidFill>
                  <a:srgbClr val="00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8" name="矩形 7184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7185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550" name="对象 7186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51" name="直接连接符 7187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图片 5123" descr="{95F87DE2-DBE4-4BA3-A315-D255187ADA25}"/>
          <p:cNvPicPr/>
          <p:nvPr/>
        </p:nvPicPr>
        <p:blipFill>
          <a:blip r:embed="rId1"/>
          <a:stretch/>
        </p:blipFill>
        <p:spPr>
          <a:xfrm>
            <a:off x="1476360" y="0"/>
            <a:ext cx="6210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53" name="组合 5124"/>
          <p:cNvGrpSpPr/>
          <p:nvPr/>
        </p:nvGrpSpPr>
        <p:grpSpPr>
          <a:xfrm>
            <a:off x="3706920" y="1268280"/>
            <a:ext cx="1657080" cy="2232000"/>
            <a:chOff x="3706920" y="1268280"/>
            <a:chExt cx="1657080" cy="2232000"/>
          </a:xfrm>
        </p:grpSpPr>
        <p:sp>
          <p:nvSpPr>
            <p:cNvPr id="554" name="直接连接符 5125"/>
            <p:cNvSpPr/>
            <p:nvPr/>
          </p:nvSpPr>
          <p:spPr>
            <a:xfrm>
              <a:off x="3706920" y="3500280"/>
              <a:ext cx="165708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组合 5126"/>
            <p:cNvGrpSpPr/>
            <p:nvPr/>
          </p:nvGrpSpPr>
          <p:grpSpPr>
            <a:xfrm>
              <a:off x="3706920" y="1268280"/>
              <a:ext cx="1657080" cy="2232000"/>
              <a:chOff x="3706920" y="1268280"/>
              <a:chExt cx="1657080" cy="2232000"/>
            </a:xfrm>
          </p:grpSpPr>
          <p:sp>
            <p:nvSpPr>
              <p:cNvPr id="556" name="直接连接符 5127"/>
              <p:cNvSpPr/>
              <p:nvPr/>
            </p:nvSpPr>
            <p:spPr>
              <a:xfrm>
                <a:off x="3706920" y="1268280"/>
                <a:ext cx="0" cy="223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直接连接符 5128"/>
              <p:cNvSpPr/>
              <p:nvPr/>
            </p:nvSpPr>
            <p:spPr>
              <a:xfrm>
                <a:off x="3706920" y="1268280"/>
                <a:ext cx="16570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直接连接符 5129"/>
              <p:cNvSpPr/>
              <p:nvPr/>
            </p:nvSpPr>
            <p:spPr>
              <a:xfrm>
                <a:off x="5364000" y="1268280"/>
                <a:ext cx="0" cy="223200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组合 5130"/>
          <p:cNvGrpSpPr/>
          <p:nvPr/>
        </p:nvGrpSpPr>
        <p:grpSpPr>
          <a:xfrm>
            <a:off x="2556000" y="3500280"/>
            <a:ext cx="3887640" cy="1729080"/>
            <a:chOff x="2556000" y="3500280"/>
            <a:chExt cx="3887640" cy="1729080"/>
          </a:xfrm>
        </p:grpSpPr>
        <p:sp>
          <p:nvSpPr>
            <p:cNvPr id="560" name="直接连接符 5131"/>
            <p:cNvSpPr/>
            <p:nvPr/>
          </p:nvSpPr>
          <p:spPr>
            <a:xfrm>
              <a:off x="2556000" y="5229360"/>
              <a:ext cx="388764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组合 5132"/>
            <p:cNvGrpSpPr/>
            <p:nvPr/>
          </p:nvGrpSpPr>
          <p:grpSpPr>
            <a:xfrm>
              <a:off x="2556000" y="3500280"/>
              <a:ext cx="3887640" cy="1729080"/>
              <a:chOff x="2556000" y="3500280"/>
              <a:chExt cx="3887640" cy="1729080"/>
            </a:xfrm>
          </p:grpSpPr>
          <p:sp>
            <p:nvSpPr>
              <p:cNvPr id="562" name="直接连接符 5133"/>
              <p:cNvSpPr/>
              <p:nvPr/>
            </p:nvSpPr>
            <p:spPr>
              <a:xfrm>
                <a:off x="2556000" y="3500280"/>
                <a:ext cx="0" cy="172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直接连接符 5134"/>
              <p:cNvSpPr/>
              <p:nvPr/>
            </p:nvSpPr>
            <p:spPr>
              <a:xfrm>
                <a:off x="2556000" y="3500280"/>
                <a:ext cx="38876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直接连接符 5135"/>
              <p:cNvSpPr/>
              <p:nvPr/>
            </p:nvSpPr>
            <p:spPr>
              <a:xfrm>
                <a:off x="6443640" y="3500280"/>
                <a:ext cx="0" cy="1729080"/>
              </a:xfrm>
              <a:prstGeom prst="line">
                <a:avLst/>
              </a:prstGeom>
              <a:ln w="7632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矩形 5136"/>
          <p:cNvSpPr/>
          <p:nvPr/>
        </p:nvSpPr>
        <p:spPr>
          <a:xfrm>
            <a:off x="3132000" y="5516640"/>
            <a:ext cx="244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面积约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5137"/>
          <p:cNvGrpSpPr/>
          <p:nvPr/>
        </p:nvGrpSpPr>
        <p:grpSpPr>
          <a:xfrm>
            <a:off x="5580000" y="5589720"/>
            <a:ext cx="2592360" cy="1268280"/>
            <a:chOff x="5580000" y="5589720"/>
            <a:chExt cx="2592360" cy="1268280"/>
          </a:xfrm>
        </p:grpSpPr>
        <mc:AlternateContent>
          <mc:Choice xmlns:a14="http://schemas.microsoft.com/office/drawing/2010/main" Requires="a14">
            <p:sp>
              <p:nvSpPr>
                <p:cNvPr id="567" name="对象 5138"/>
                <p:cNvSpPr txBox="1"/>
                <p:nvPr/>
              </p:nvSpPr>
              <p:spPr>
                <a:xfrm>
                  <a:off x="7093080" y="5589720"/>
                  <a:ext cx="1079280" cy="12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/>
                        <m:sup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68" name="直接连接符 5139"/>
            <p:cNvSpPr/>
            <p:nvPr/>
          </p:nvSpPr>
          <p:spPr>
            <a:xfrm>
              <a:off x="5580000" y="6381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1:20:00Z</dcterms:created>
  <dc:creator/>
  <dc:description/>
  <cp:keywords/>
  <dc:language>en-US</dc:language>
  <cp:lastModifiedBy>Win7</cp:lastModifiedBy>
  <dcterms:modified xsi:type="dcterms:W3CDTF">2017-10-04T15:21:1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