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9CD0-4B59-4F59-80E4-2EFD9324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BDC6-D92E-4E00-9A2E-2AE98466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E898-7B6E-4182-AA84-0F70EE05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490A-3135-49E3-BE67-0F710AE7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3DDC-E2FC-4D60-9F8D-42C90E7B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CCCB-07BF-46D7-8F79-309AD6F5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E9BE-DABC-481C-9C39-307CA2CB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E793-8153-471D-8A1C-6B1888DB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5B68-52E1-44D6-B615-D3873F14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8B03-E7FE-4F1E-8E25-74F42342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0236-4275-4EFE-B0DE-D7A7F90A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2FBF-910E-4ED6-9A4E-102C3183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1EF5-3437-4DC3-9A5D-FD5B3FF3CB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784836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执 教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: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屈伯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8000" y="2781360"/>
            <a:ext cx="4824720" cy="129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华文行楷"/>
              </a:rPr>
              <a:t>鸡兔同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603360" y="2498760"/>
            <a:ext cx="838080" cy="818640"/>
            <a:chOff x="603360" y="2498760"/>
            <a:chExt cx="838080" cy="818640"/>
          </a:xfrm>
        </p:grpSpPr>
        <p:sp>
          <p:nvSpPr>
            <p:cNvPr id="290" name=""/>
            <p:cNvSpPr/>
            <p:nvPr/>
          </p:nvSpPr>
          <p:spPr>
            <a:xfrm>
              <a:off x="603360" y="2498760"/>
              <a:ext cx="838080" cy="52596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62760" y="2966760"/>
              <a:ext cx="13320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46680" y="2966760"/>
              <a:ext cx="129240" cy="35064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762200" y="2498760"/>
            <a:ext cx="838080" cy="818640"/>
            <a:chOff x="1762200" y="2498760"/>
            <a:chExt cx="838080" cy="818640"/>
          </a:xfrm>
        </p:grpSpPr>
        <p:sp>
          <p:nvSpPr>
            <p:cNvPr id="294" name=""/>
            <p:cNvSpPr/>
            <p:nvPr/>
          </p:nvSpPr>
          <p:spPr>
            <a:xfrm>
              <a:off x="1762200" y="2498760"/>
              <a:ext cx="838080" cy="52596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1821600" y="2966760"/>
              <a:ext cx="13320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5520" y="2966760"/>
              <a:ext cx="129240" cy="35064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2857680" y="2498760"/>
            <a:ext cx="836280" cy="818640"/>
            <a:chOff x="2857680" y="2498760"/>
            <a:chExt cx="836280" cy="818640"/>
          </a:xfrm>
        </p:grpSpPr>
        <p:sp>
          <p:nvSpPr>
            <p:cNvPr id="298" name=""/>
            <p:cNvSpPr/>
            <p:nvPr/>
          </p:nvSpPr>
          <p:spPr>
            <a:xfrm>
              <a:off x="2857680" y="2498760"/>
              <a:ext cx="836280" cy="52596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916720" y="2966760"/>
              <a:ext cx="13284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99560" y="2966760"/>
              <a:ext cx="129240" cy="35064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951360" y="2498760"/>
            <a:ext cx="836640" cy="818640"/>
            <a:chOff x="3951360" y="2498760"/>
            <a:chExt cx="836640" cy="818640"/>
          </a:xfrm>
        </p:grpSpPr>
        <p:sp>
          <p:nvSpPr>
            <p:cNvPr id="302" name=""/>
            <p:cNvSpPr/>
            <p:nvPr/>
          </p:nvSpPr>
          <p:spPr>
            <a:xfrm>
              <a:off x="3951360" y="2498760"/>
              <a:ext cx="836640" cy="52596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4010400" y="2966760"/>
              <a:ext cx="13284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93600" y="2966760"/>
              <a:ext cx="129240" cy="35064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796680" y="2965320"/>
            <a:ext cx="390240" cy="351000"/>
            <a:chOff x="796680" y="2965320"/>
            <a:chExt cx="390240" cy="351000"/>
          </a:xfrm>
        </p:grpSpPr>
        <p:sp>
          <p:nvSpPr>
            <p:cNvPr id="306" name=""/>
            <p:cNvSpPr/>
            <p:nvPr/>
          </p:nvSpPr>
          <p:spPr>
            <a:xfrm flipH="1">
              <a:off x="796680" y="2965320"/>
              <a:ext cx="132840" cy="339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058400" y="2965320"/>
              <a:ext cx="128520" cy="351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1955520" y="2965320"/>
            <a:ext cx="392040" cy="351000"/>
            <a:chOff x="1955520" y="2965320"/>
            <a:chExt cx="392040" cy="351000"/>
          </a:xfrm>
        </p:grpSpPr>
        <p:sp>
          <p:nvSpPr>
            <p:cNvPr id="309" name=""/>
            <p:cNvSpPr/>
            <p:nvPr/>
          </p:nvSpPr>
          <p:spPr>
            <a:xfrm flipH="1">
              <a:off x="1955520" y="2965320"/>
              <a:ext cx="133560" cy="339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18680" y="2965320"/>
              <a:ext cx="128880" cy="351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3050640" y="2965320"/>
            <a:ext cx="392400" cy="351000"/>
            <a:chOff x="3050640" y="2965320"/>
            <a:chExt cx="392400" cy="351000"/>
          </a:xfrm>
        </p:grpSpPr>
        <p:sp>
          <p:nvSpPr>
            <p:cNvPr id="312" name=""/>
            <p:cNvSpPr/>
            <p:nvPr/>
          </p:nvSpPr>
          <p:spPr>
            <a:xfrm flipH="1">
              <a:off x="3050640" y="2965320"/>
              <a:ext cx="133560" cy="339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13800" y="2965320"/>
              <a:ext cx="129240" cy="351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144680" y="2965320"/>
            <a:ext cx="392040" cy="351000"/>
            <a:chOff x="4144680" y="2965320"/>
            <a:chExt cx="392040" cy="351000"/>
          </a:xfrm>
        </p:grpSpPr>
        <p:sp>
          <p:nvSpPr>
            <p:cNvPr id="315" name=""/>
            <p:cNvSpPr/>
            <p:nvPr/>
          </p:nvSpPr>
          <p:spPr>
            <a:xfrm flipH="1">
              <a:off x="4144680" y="2965320"/>
              <a:ext cx="13356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07840" y="2965320"/>
              <a:ext cx="128880" cy="35100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539640" y="3551400"/>
            <a:ext cx="836640" cy="818640"/>
            <a:chOff x="539640" y="3551400"/>
            <a:chExt cx="836640" cy="818640"/>
          </a:xfrm>
        </p:grpSpPr>
        <p:sp>
          <p:nvSpPr>
            <p:cNvPr id="318" name=""/>
            <p:cNvSpPr/>
            <p:nvPr/>
          </p:nvSpPr>
          <p:spPr>
            <a:xfrm>
              <a:off x="539640" y="3551400"/>
              <a:ext cx="836640" cy="52596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98680" y="4019400"/>
              <a:ext cx="13284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81880" y="4019400"/>
              <a:ext cx="129240" cy="35064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762200" y="3492360"/>
            <a:ext cx="838080" cy="819000"/>
            <a:chOff x="1762200" y="3492360"/>
            <a:chExt cx="838080" cy="819000"/>
          </a:xfrm>
        </p:grpSpPr>
        <p:sp>
          <p:nvSpPr>
            <p:cNvPr id="322" name=""/>
            <p:cNvSpPr/>
            <p:nvPr/>
          </p:nvSpPr>
          <p:spPr>
            <a:xfrm>
              <a:off x="1762200" y="3492360"/>
              <a:ext cx="838080" cy="52632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821600" y="3960720"/>
              <a:ext cx="13320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05520" y="3960720"/>
              <a:ext cx="129240" cy="35064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57680" y="3492360"/>
            <a:ext cx="836280" cy="819000"/>
            <a:chOff x="2857680" y="3492360"/>
            <a:chExt cx="836280" cy="819000"/>
          </a:xfrm>
        </p:grpSpPr>
        <p:sp>
          <p:nvSpPr>
            <p:cNvPr id="326" name=""/>
            <p:cNvSpPr/>
            <p:nvPr/>
          </p:nvSpPr>
          <p:spPr>
            <a:xfrm>
              <a:off x="2857680" y="3492360"/>
              <a:ext cx="836280" cy="52632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2916720" y="3960720"/>
              <a:ext cx="13284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99560" y="3960720"/>
              <a:ext cx="129240" cy="35064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951360" y="3492360"/>
            <a:ext cx="836640" cy="819000"/>
            <a:chOff x="3951360" y="3492360"/>
            <a:chExt cx="836640" cy="819000"/>
          </a:xfrm>
        </p:grpSpPr>
        <p:sp>
          <p:nvSpPr>
            <p:cNvPr id="330" name=""/>
            <p:cNvSpPr/>
            <p:nvPr/>
          </p:nvSpPr>
          <p:spPr>
            <a:xfrm>
              <a:off x="3951360" y="3492360"/>
              <a:ext cx="836640" cy="52632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4010400" y="3960720"/>
              <a:ext cx="13284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593600" y="3960720"/>
              <a:ext cx="129240" cy="35064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733320" y="4017960"/>
            <a:ext cx="390240" cy="351000"/>
            <a:chOff x="733320" y="4017960"/>
            <a:chExt cx="390240" cy="351000"/>
          </a:xfrm>
        </p:grpSpPr>
        <p:sp>
          <p:nvSpPr>
            <p:cNvPr id="334" name=""/>
            <p:cNvSpPr/>
            <p:nvPr/>
          </p:nvSpPr>
          <p:spPr>
            <a:xfrm flipH="1">
              <a:off x="733320" y="4017960"/>
              <a:ext cx="13320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995040" y="4017960"/>
              <a:ext cx="128520" cy="35100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955520" y="3960720"/>
            <a:ext cx="392040" cy="351000"/>
            <a:chOff x="1955520" y="3960720"/>
            <a:chExt cx="392040" cy="351000"/>
          </a:xfrm>
        </p:grpSpPr>
        <p:sp>
          <p:nvSpPr>
            <p:cNvPr id="337" name=""/>
            <p:cNvSpPr/>
            <p:nvPr/>
          </p:nvSpPr>
          <p:spPr>
            <a:xfrm flipH="1">
              <a:off x="1955520" y="3960720"/>
              <a:ext cx="13356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218680" y="3960720"/>
              <a:ext cx="128880" cy="35100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050640" y="3960720"/>
            <a:ext cx="392400" cy="351000"/>
            <a:chOff x="3050640" y="3960720"/>
            <a:chExt cx="392400" cy="351000"/>
          </a:xfrm>
        </p:grpSpPr>
        <p:sp>
          <p:nvSpPr>
            <p:cNvPr id="340" name=""/>
            <p:cNvSpPr/>
            <p:nvPr/>
          </p:nvSpPr>
          <p:spPr>
            <a:xfrm flipH="1">
              <a:off x="3050640" y="3960720"/>
              <a:ext cx="13356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313800" y="3960720"/>
              <a:ext cx="129240" cy="35100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4144680" y="3960720"/>
            <a:ext cx="392040" cy="351000"/>
            <a:chOff x="4144680" y="3960720"/>
            <a:chExt cx="392040" cy="351000"/>
          </a:xfrm>
        </p:grpSpPr>
        <p:sp>
          <p:nvSpPr>
            <p:cNvPr id="343" name=""/>
            <p:cNvSpPr/>
            <p:nvPr/>
          </p:nvSpPr>
          <p:spPr>
            <a:xfrm flipH="1">
              <a:off x="4144680" y="3960720"/>
              <a:ext cx="13356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07840" y="3960720"/>
              <a:ext cx="128880" cy="35100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5831280" y="2548080"/>
            <a:ext cx="278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×4=3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条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295240" y="1851120"/>
            <a:ext cx="163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假设全是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519520" y="3225960"/>
            <a:ext cx="304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2-26=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条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29680" y="4011480"/>
            <a:ext cx="255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-2=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条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974120" y="50259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鸡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041880" y="5019840"/>
            <a:ext cx="264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÷2=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只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83120" y="5811840"/>
            <a:ext cx="280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 - 3=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只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974120" y="58118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兔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24360" y="3651120"/>
            <a:ext cx="31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多算鸡的腿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11280" y="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笼子里有若干只鸡和兔，从上面数，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头；从下面数，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条腿。鸡和兔各有几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81503E-006 L -0.00556 0.41156 E">
                                      <p:cBhvr>
                                        <p:cTn id="106" dur="5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7.10983E-006 L -2.5E-006 0.41943 E">
                                      <p:cBhvr>
                                        <p:cTn id="110" dur="5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81503E-006 L 0.00017 0.41156 E">
                                      <p:cBhvr>
                                        <p:cTn id="114" dur="5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755640" y="189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笼子里有若干只鸡和兔，从上面数，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头；从下面数，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条腿。鸡和兔各有几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187280" y="2060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鸡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=8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459680" y="206064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鸡的腿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兔的腿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=26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条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549440" y="278460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兔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55640" y="189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笼子里有若干只鸡和兔，从上面数，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头；从下面数，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条腿。鸡和兔各有几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87280" y="2060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鸡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=8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459680" y="206064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鸡的腿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兔的腿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=26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条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924080" y="2781360"/>
            <a:ext cx="193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鸡有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-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403280" y="285264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兔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，鸡有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-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55640" y="189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笼子里有若干只鸡和兔，从上面数，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头；从下面数，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条腿。鸡和兔各有几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187280" y="2060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鸡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=8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459680" y="206064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鸡的腿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兔的腿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=26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条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403280" y="2852640"/>
            <a:ext cx="61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兔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，鸡有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-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X+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-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755640" y="189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笼子里有若干只鸡和兔，从上面数，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头；从下面数，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条腿。鸡和兔各有几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187280" y="2060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鸡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=8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459680" y="206064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鸡的腿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兔的腿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=26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条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403280" y="2852640"/>
            <a:ext cx="6121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兔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，鸡有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-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X+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-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X+16-2X=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6+2X=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X=26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755640" y="189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笼子里有若干只鸡和兔，从上面数，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头；从下面数，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条腿。鸡和兔各有几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87280" y="2060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鸡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=8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59680" y="206064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鸡的腿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兔的腿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=26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条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403280" y="2852640"/>
            <a:ext cx="6121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兔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，鸡有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-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X+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-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X+16-2X=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6+2X=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X=26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8-5=3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755640" y="189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笼子里有若干只鸡和兔，从上面数，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头；从下面数，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条腿。鸡和兔各有几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87280" y="2060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鸡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=8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459680" y="206064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鸡的腿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兔的腿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=26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条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403280" y="2852640"/>
            <a:ext cx="6121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兔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，鸡有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-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X+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-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X+16-2X=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6+2X=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X=26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8-5=3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927080" y="630864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笼子里有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，有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35164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笼子里有若干只鸡和兔，从上面数，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头；从下面数，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只脚。鸡和兔各有几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576360" y="2184480"/>
            <a:ext cx="3032280" cy="3851640"/>
            <a:chOff x="576360" y="2184480"/>
            <a:chExt cx="3032280" cy="3851640"/>
          </a:xfrm>
        </p:grpSpPr>
        <p:sp>
          <p:nvSpPr>
            <p:cNvPr id="383" name=""/>
            <p:cNvSpPr/>
            <p:nvPr/>
          </p:nvSpPr>
          <p:spPr>
            <a:xfrm>
              <a:off x="825120" y="2684520"/>
              <a:ext cx="277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解：设有兔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只，有鸡（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35-X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）只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32880" y="3189240"/>
              <a:ext cx="297576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4X + 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35-X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= 9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4X + 70 - 2X = 9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70 + 2X=9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2X=94 - 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           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X=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鸡：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35 – 8=2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只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76360" y="5637240"/>
              <a:ext cx="237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答：有兔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只，有鸡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只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00800" y="21844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方法一：列方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5383440" y="2243160"/>
            <a:ext cx="3102840" cy="3097440"/>
            <a:chOff x="5383440" y="2243160"/>
            <a:chExt cx="3102840" cy="3097440"/>
          </a:xfrm>
        </p:grpSpPr>
        <p:sp>
          <p:nvSpPr>
            <p:cNvPr id="388" name=""/>
            <p:cNvSpPr/>
            <p:nvPr/>
          </p:nvSpPr>
          <p:spPr>
            <a:xfrm>
              <a:off x="5697720" y="272880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假设全是鸡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383440" y="3357720"/>
              <a:ext cx="31028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35 × 2 = 7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只脚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94 – 70 = 14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只脚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鸡：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14 ÷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4 – 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= 7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只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兔：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35 – 7=2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只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88000" y="4941720"/>
              <a:ext cx="237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答：有兔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只，有鸡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只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873040" y="224316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方法二：假设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教学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了解”鸡兔同笼”问题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感受中国古代数学问题的趣味性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尝试列表、图示、假设、方程等不同的方法解决”鸡兔同笼”问题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体验解决问题方法的多样性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提高解决实际问题的能力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通过自主探索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合作交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培养合作意识和逻辑推理能力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体会数学问题在日常生活中的应用，进而体会数学的价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780000" y="691920"/>
            <a:ext cx="518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笼子里有若干只鸡和兔，从上面数，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头；从下面数，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条腿。鸡和兔各有几只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3960720" cy="3856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589200" y="0"/>
            <a:ext cx="166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鸡兔同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49370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 鸡和兔共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只。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 鸡和兔共有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26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条腿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10800" y="5516640"/>
            <a:ext cx="44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 鸡有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条腿。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 兔有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条腿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295240" y="1913040"/>
            <a:ext cx="163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假设全是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笼子里有若干只鸡和兔，从上面数，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头；从下面数，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条腿。鸡和兔各有几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611280" y="2421000"/>
            <a:ext cx="792000" cy="861480"/>
            <a:chOff x="611280" y="2421000"/>
            <a:chExt cx="792000" cy="861480"/>
          </a:xfrm>
        </p:grpSpPr>
        <p:sp>
          <p:nvSpPr>
            <p:cNvPr id="53" name=""/>
            <p:cNvSpPr/>
            <p:nvPr/>
          </p:nvSpPr>
          <p:spPr>
            <a:xfrm>
              <a:off x="611280" y="2421000"/>
              <a:ext cx="792000" cy="55368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667440" y="2913480"/>
              <a:ext cx="126000" cy="35676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19320" y="2913480"/>
              <a:ext cx="122400" cy="36900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700360" y="3862440"/>
            <a:ext cx="792000" cy="861480"/>
            <a:chOff x="2700360" y="3862440"/>
            <a:chExt cx="792000" cy="861480"/>
          </a:xfrm>
        </p:grpSpPr>
        <p:sp>
          <p:nvSpPr>
            <p:cNvPr id="57" name=""/>
            <p:cNvSpPr/>
            <p:nvPr/>
          </p:nvSpPr>
          <p:spPr>
            <a:xfrm>
              <a:off x="2700360" y="3862440"/>
              <a:ext cx="792000" cy="55368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2756520" y="4354920"/>
              <a:ext cx="126000" cy="35676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08400" y="4354920"/>
              <a:ext cx="122400" cy="36900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619280" y="3862440"/>
            <a:ext cx="792000" cy="861480"/>
            <a:chOff x="1619280" y="3862440"/>
            <a:chExt cx="792000" cy="861480"/>
          </a:xfrm>
        </p:grpSpPr>
        <p:sp>
          <p:nvSpPr>
            <p:cNvPr id="61" name=""/>
            <p:cNvSpPr/>
            <p:nvPr/>
          </p:nvSpPr>
          <p:spPr>
            <a:xfrm>
              <a:off x="1619280" y="3862440"/>
              <a:ext cx="792000" cy="55368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675440" y="4354920"/>
              <a:ext cx="126000" cy="35676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27320" y="4354920"/>
              <a:ext cx="122400" cy="36900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39640" y="3862440"/>
            <a:ext cx="792360" cy="861840"/>
            <a:chOff x="539640" y="3862440"/>
            <a:chExt cx="792360" cy="861840"/>
          </a:xfrm>
        </p:grpSpPr>
        <p:sp>
          <p:nvSpPr>
            <p:cNvPr id="65" name=""/>
            <p:cNvSpPr/>
            <p:nvPr/>
          </p:nvSpPr>
          <p:spPr>
            <a:xfrm>
              <a:off x="539640" y="3862440"/>
              <a:ext cx="792360" cy="55368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595440" y="4354920"/>
              <a:ext cx="126360" cy="35676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48040" y="4354920"/>
              <a:ext cx="122040" cy="36936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692360" y="2424240"/>
            <a:ext cx="792000" cy="861480"/>
            <a:chOff x="1692360" y="2424240"/>
            <a:chExt cx="792000" cy="861480"/>
          </a:xfrm>
        </p:grpSpPr>
        <p:sp>
          <p:nvSpPr>
            <p:cNvPr id="69" name=""/>
            <p:cNvSpPr/>
            <p:nvPr/>
          </p:nvSpPr>
          <p:spPr>
            <a:xfrm>
              <a:off x="1692360" y="2424240"/>
              <a:ext cx="792000" cy="55368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1748520" y="2916720"/>
              <a:ext cx="126000" cy="35676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00400" y="2916720"/>
              <a:ext cx="122400" cy="36900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700360" y="2424240"/>
            <a:ext cx="792000" cy="861480"/>
            <a:chOff x="2700360" y="2424240"/>
            <a:chExt cx="792000" cy="861480"/>
          </a:xfrm>
        </p:grpSpPr>
        <p:sp>
          <p:nvSpPr>
            <p:cNvPr id="73" name=""/>
            <p:cNvSpPr/>
            <p:nvPr/>
          </p:nvSpPr>
          <p:spPr>
            <a:xfrm>
              <a:off x="2700360" y="2424240"/>
              <a:ext cx="792000" cy="55368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2756520" y="2916720"/>
              <a:ext cx="126000" cy="35676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08400" y="2916720"/>
              <a:ext cx="122400" cy="36900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708360" y="2495520"/>
            <a:ext cx="792360" cy="861840"/>
            <a:chOff x="3708360" y="2495520"/>
            <a:chExt cx="792360" cy="861840"/>
          </a:xfrm>
        </p:grpSpPr>
        <p:sp>
          <p:nvSpPr>
            <p:cNvPr id="77" name=""/>
            <p:cNvSpPr/>
            <p:nvPr/>
          </p:nvSpPr>
          <p:spPr>
            <a:xfrm>
              <a:off x="3708360" y="2495520"/>
              <a:ext cx="792360" cy="55368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3764520" y="2988360"/>
              <a:ext cx="126000" cy="357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316760" y="2988360"/>
              <a:ext cx="122400" cy="36900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780000" y="3863880"/>
            <a:ext cx="792000" cy="861840"/>
            <a:chOff x="3780000" y="3863880"/>
            <a:chExt cx="792000" cy="861840"/>
          </a:xfrm>
        </p:grpSpPr>
        <p:sp>
          <p:nvSpPr>
            <p:cNvPr id="81" name=""/>
            <p:cNvSpPr/>
            <p:nvPr/>
          </p:nvSpPr>
          <p:spPr>
            <a:xfrm>
              <a:off x="3780000" y="3863880"/>
              <a:ext cx="792000" cy="55368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3836160" y="4356720"/>
              <a:ext cx="126000" cy="357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388040" y="4356720"/>
              <a:ext cx="122400" cy="36900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5831280" y="2614680"/>
            <a:ext cx="278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×2=1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条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95240" y="1917720"/>
            <a:ext cx="163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假设全是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19160" y="3292560"/>
            <a:ext cx="330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6-16=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条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29680" y="4078440"/>
            <a:ext cx="255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-2=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条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3718080"/>
            <a:ext cx="31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少算兔的腿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笼子里有若干只鸡和兔，从上面数，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头；从下面数，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条腿。鸡和兔各有几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95280" y="5516640"/>
            <a:ext cx="3889080" cy="433440"/>
            <a:chOff x="395280" y="5516640"/>
            <a:chExt cx="3889080" cy="433440"/>
          </a:xfrm>
        </p:grpSpPr>
        <p:grpSp>
          <p:nvGrpSpPr>
            <p:cNvPr id="91" name=""/>
            <p:cNvGrpSpPr/>
            <p:nvPr/>
          </p:nvGrpSpPr>
          <p:grpSpPr>
            <a:xfrm>
              <a:off x="395280" y="5516640"/>
              <a:ext cx="287280" cy="417600"/>
              <a:chOff x="395280" y="5516640"/>
              <a:chExt cx="287280" cy="417600"/>
            </a:xfrm>
          </p:grpSpPr>
          <p:sp>
            <p:nvSpPr>
              <p:cNvPr id="92" name=""/>
              <p:cNvSpPr/>
              <p:nvPr/>
            </p:nvSpPr>
            <p:spPr>
              <a:xfrm>
                <a:off x="395280" y="5516640"/>
                <a:ext cx="0" cy="4176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82560" y="5516640"/>
                <a:ext cx="0" cy="4176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1332000" y="5532480"/>
              <a:ext cx="287280" cy="417600"/>
              <a:chOff x="1332000" y="5532480"/>
              <a:chExt cx="287280" cy="417600"/>
            </a:xfrm>
          </p:grpSpPr>
          <p:sp>
            <p:nvSpPr>
              <p:cNvPr id="95" name=""/>
              <p:cNvSpPr/>
              <p:nvPr/>
            </p:nvSpPr>
            <p:spPr>
              <a:xfrm>
                <a:off x="1332000" y="5532480"/>
                <a:ext cx="0" cy="4176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619280" y="5532480"/>
                <a:ext cx="0" cy="4176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2124000" y="5516640"/>
              <a:ext cx="288720" cy="431280"/>
              <a:chOff x="2124000" y="5516640"/>
              <a:chExt cx="288720" cy="431280"/>
            </a:xfrm>
          </p:grpSpPr>
          <p:sp>
            <p:nvSpPr>
              <p:cNvPr id="98" name=""/>
              <p:cNvSpPr/>
              <p:nvPr/>
            </p:nvSpPr>
            <p:spPr>
              <a:xfrm>
                <a:off x="2124000" y="5530680"/>
                <a:ext cx="0" cy="4172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412720" y="5516640"/>
                <a:ext cx="0" cy="4172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3059280" y="5518080"/>
              <a:ext cx="288720" cy="417600"/>
              <a:chOff x="3059280" y="5518080"/>
              <a:chExt cx="288720" cy="417600"/>
            </a:xfrm>
          </p:grpSpPr>
          <p:sp>
            <p:nvSpPr>
              <p:cNvPr id="101" name=""/>
              <p:cNvSpPr/>
              <p:nvPr/>
            </p:nvSpPr>
            <p:spPr>
              <a:xfrm>
                <a:off x="3059280" y="5518080"/>
                <a:ext cx="0" cy="4176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348000" y="5518080"/>
                <a:ext cx="0" cy="4176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3995640" y="5518080"/>
              <a:ext cx="288720" cy="417600"/>
              <a:chOff x="3995640" y="5518080"/>
              <a:chExt cx="288720" cy="417600"/>
            </a:xfrm>
          </p:grpSpPr>
          <p:sp>
            <p:nvSpPr>
              <p:cNvPr id="104" name=""/>
              <p:cNvSpPr/>
              <p:nvPr/>
            </p:nvSpPr>
            <p:spPr>
              <a:xfrm>
                <a:off x="3995640" y="5518080"/>
                <a:ext cx="0" cy="4176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284360" y="5518080"/>
                <a:ext cx="0" cy="4176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611280" y="2422440"/>
            <a:ext cx="792000" cy="861840"/>
            <a:chOff x="611280" y="2422440"/>
            <a:chExt cx="792000" cy="861840"/>
          </a:xfrm>
        </p:grpSpPr>
        <p:sp>
          <p:nvSpPr>
            <p:cNvPr id="107" name=""/>
            <p:cNvSpPr/>
            <p:nvPr/>
          </p:nvSpPr>
          <p:spPr>
            <a:xfrm>
              <a:off x="611280" y="2422440"/>
              <a:ext cx="792000" cy="55368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67440" y="2915280"/>
              <a:ext cx="126000" cy="357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9320" y="2915280"/>
              <a:ext cx="122400" cy="36900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700360" y="3862440"/>
            <a:ext cx="792000" cy="861480"/>
            <a:chOff x="2700360" y="3862440"/>
            <a:chExt cx="792000" cy="861480"/>
          </a:xfrm>
        </p:grpSpPr>
        <p:sp>
          <p:nvSpPr>
            <p:cNvPr id="111" name=""/>
            <p:cNvSpPr/>
            <p:nvPr/>
          </p:nvSpPr>
          <p:spPr>
            <a:xfrm>
              <a:off x="2700360" y="3862440"/>
              <a:ext cx="792000" cy="55368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756520" y="4354920"/>
              <a:ext cx="126000" cy="35676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08400" y="4354920"/>
              <a:ext cx="122400" cy="36900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619280" y="3862440"/>
            <a:ext cx="792000" cy="861480"/>
            <a:chOff x="1619280" y="3862440"/>
            <a:chExt cx="792000" cy="861480"/>
          </a:xfrm>
        </p:grpSpPr>
        <p:sp>
          <p:nvSpPr>
            <p:cNvPr id="115" name=""/>
            <p:cNvSpPr/>
            <p:nvPr/>
          </p:nvSpPr>
          <p:spPr>
            <a:xfrm>
              <a:off x="1619280" y="3862440"/>
              <a:ext cx="792000" cy="55368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675440" y="4354920"/>
              <a:ext cx="126000" cy="35676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27320" y="4354920"/>
              <a:ext cx="122400" cy="36900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39640" y="3862440"/>
            <a:ext cx="792360" cy="861840"/>
            <a:chOff x="539640" y="3862440"/>
            <a:chExt cx="792360" cy="861840"/>
          </a:xfrm>
        </p:grpSpPr>
        <p:sp>
          <p:nvSpPr>
            <p:cNvPr id="119" name=""/>
            <p:cNvSpPr/>
            <p:nvPr/>
          </p:nvSpPr>
          <p:spPr>
            <a:xfrm>
              <a:off x="539640" y="3862440"/>
              <a:ext cx="792360" cy="55368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595440" y="4354920"/>
              <a:ext cx="126360" cy="35676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48040" y="4354920"/>
              <a:ext cx="122040" cy="36936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692360" y="2424240"/>
            <a:ext cx="792000" cy="861480"/>
            <a:chOff x="1692360" y="2424240"/>
            <a:chExt cx="792000" cy="861480"/>
          </a:xfrm>
        </p:grpSpPr>
        <p:sp>
          <p:nvSpPr>
            <p:cNvPr id="123" name=""/>
            <p:cNvSpPr/>
            <p:nvPr/>
          </p:nvSpPr>
          <p:spPr>
            <a:xfrm>
              <a:off x="1692360" y="2424240"/>
              <a:ext cx="792000" cy="55368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1748520" y="2916720"/>
              <a:ext cx="126000" cy="35676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00400" y="2916720"/>
              <a:ext cx="122400" cy="36900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700360" y="2424240"/>
            <a:ext cx="792000" cy="861480"/>
            <a:chOff x="2700360" y="2424240"/>
            <a:chExt cx="792000" cy="861480"/>
          </a:xfrm>
        </p:grpSpPr>
        <p:sp>
          <p:nvSpPr>
            <p:cNvPr id="127" name=""/>
            <p:cNvSpPr/>
            <p:nvPr/>
          </p:nvSpPr>
          <p:spPr>
            <a:xfrm>
              <a:off x="2700360" y="2424240"/>
              <a:ext cx="792000" cy="55368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756520" y="2916720"/>
              <a:ext cx="126000" cy="35676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08400" y="2916720"/>
              <a:ext cx="122400" cy="36900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708360" y="2495520"/>
            <a:ext cx="792360" cy="861840"/>
            <a:chOff x="3708360" y="2495520"/>
            <a:chExt cx="792360" cy="861840"/>
          </a:xfrm>
        </p:grpSpPr>
        <p:sp>
          <p:nvSpPr>
            <p:cNvPr id="131" name=""/>
            <p:cNvSpPr/>
            <p:nvPr/>
          </p:nvSpPr>
          <p:spPr>
            <a:xfrm>
              <a:off x="3708360" y="2495520"/>
              <a:ext cx="792360" cy="55368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764520" y="2988360"/>
              <a:ext cx="126000" cy="357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16760" y="2988360"/>
              <a:ext cx="122400" cy="36900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780000" y="3863880"/>
            <a:ext cx="792000" cy="861840"/>
            <a:chOff x="3780000" y="3863880"/>
            <a:chExt cx="792000" cy="861840"/>
          </a:xfrm>
        </p:grpSpPr>
        <p:sp>
          <p:nvSpPr>
            <p:cNvPr id="135" name=""/>
            <p:cNvSpPr/>
            <p:nvPr/>
          </p:nvSpPr>
          <p:spPr>
            <a:xfrm>
              <a:off x="3780000" y="3863880"/>
              <a:ext cx="792000" cy="55368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836160" y="4356720"/>
              <a:ext cx="126000" cy="357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88040" y="4356720"/>
              <a:ext cx="122400" cy="36900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95280" y="5516640"/>
            <a:ext cx="287280" cy="417600"/>
            <a:chOff x="395280" y="5516640"/>
            <a:chExt cx="287280" cy="417600"/>
          </a:xfrm>
        </p:grpSpPr>
        <p:sp>
          <p:nvSpPr>
            <p:cNvPr id="139" name=""/>
            <p:cNvSpPr/>
            <p:nvPr/>
          </p:nvSpPr>
          <p:spPr>
            <a:xfrm>
              <a:off x="395280" y="5516640"/>
              <a:ext cx="0" cy="417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2560" y="5516640"/>
              <a:ext cx="0" cy="417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332000" y="5532480"/>
            <a:ext cx="287280" cy="417600"/>
            <a:chOff x="1332000" y="5532480"/>
            <a:chExt cx="287280" cy="417600"/>
          </a:xfrm>
        </p:grpSpPr>
        <p:sp>
          <p:nvSpPr>
            <p:cNvPr id="142" name=""/>
            <p:cNvSpPr/>
            <p:nvPr/>
          </p:nvSpPr>
          <p:spPr>
            <a:xfrm>
              <a:off x="1332000" y="5532480"/>
              <a:ext cx="0" cy="417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9280" y="5532480"/>
              <a:ext cx="0" cy="417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24000" y="5516640"/>
            <a:ext cx="288720" cy="431280"/>
            <a:chOff x="2124000" y="5516640"/>
            <a:chExt cx="288720" cy="431280"/>
          </a:xfrm>
        </p:grpSpPr>
        <p:sp>
          <p:nvSpPr>
            <p:cNvPr id="145" name=""/>
            <p:cNvSpPr/>
            <p:nvPr/>
          </p:nvSpPr>
          <p:spPr>
            <a:xfrm>
              <a:off x="2124000" y="5530680"/>
              <a:ext cx="0" cy="417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12720" y="5516640"/>
              <a:ext cx="0" cy="417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059280" y="5518080"/>
            <a:ext cx="288720" cy="417600"/>
            <a:chOff x="3059280" y="5518080"/>
            <a:chExt cx="288720" cy="417600"/>
          </a:xfrm>
        </p:grpSpPr>
        <p:sp>
          <p:nvSpPr>
            <p:cNvPr id="148" name=""/>
            <p:cNvSpPr/>
            <p:nvPr/>
          </p:nvSpPr>
          <p:spPr>
            <a:xfrm>
              <a:off x="3059280" y="5518080"/>
              <a:ext cx="0" cy="417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348000" y="5518080"/>
              <a:ext cx="0" cy="417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5831280" y="2614680"/>
            <a:ext cx="278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×2=1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条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95240" y="1917720"/>
            <a:ext cx="163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假设全是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19160" y="3292560"/>
            <a:ext cx="330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6-16=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条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995640" y="5518080"/>
            <a:ext cx="288720" cy="417600"/>
            <a:chOff x="3995640" y="5518080"/>
            <a:chExt cx="288720" cy="417600"/>
          </a:xfrm>
        </p:grpSpPr>
        <p:sp>
          <p:nvSpPr>
            <p:cNvPr id="154" name=""/>
            <p:cNvSpPr/>
            <p:nvPr/>
          </p:nvSpPr>
          <p:spPr>
            <a:xfrm>
              <a:off x="3995640" y="5518080"/>
              <a:ext cx="0" cy="417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84360" y="5518080"/>
              <a:ext cx="0" cy="417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629680" y="4078440"/>
            <a:ext cx="255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-2=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条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14800" y="5013360"/>
            <a:ext cx="290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0÷2=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只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02480" y="501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兔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02480" y="57405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鸡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5734080"/>
            <a:ext cx="280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 - 5=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只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24360" y="3718080"/>
            <a:ext cx="31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少算兔的腿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笼子里有若干只鸡和兔，从上面数，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头；从下面数，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条腿。鸡和兔各有几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31214E-006 L -0.04323 0.16786 E">
                                      <p:cBhvr>
                                        <p:cTn id="43" dur="5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2081 L -0.05885 0.16786 E">
                                      <p:cBhvr>
                                        <p:cTn id="47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31214E-006 L -0.08264 0.16786 E">
                                      <p:cBhvr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52601E-006 L -0.09827 0.16763 E">
                                      <p:cBhvr>
                                        <p:cTn id="55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83237E-006 L 0.004 0.36693 E">
                                      <p:cBhvr>
                                        <p:cTn id="59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295240" y="1913040"/>
            <a:ext cx="163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假设全是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1280" y="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笼子里有若干只鸡和兔，从上面数，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头；从下面数，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条腿。鸡和兔各有几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603360" y="2498760"/>
            <a:ext cx="838080" cy="818640"/>
            <a:chOff x="603360" y="2498760"/>
            <a:chExt cx="838080" cy="818640"/>
          </a:xfrm>
        </p:grpSpPr>
        <p:sp>
          <p:nvSpPr>
            <p:cNvPr id="166" name=""/>
            <p:cNvSpPr/>
            <p:nvPr/>
          </p:nvSpPr>
          <p:spPr>
            <a:xfrm>
              <a:off x="603360" y="2498760"/>
              <a:ext cx="838080" cy="52596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62760" y="2966760"/>
              <a:ext cx="13320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46680" y="2966760"/>
              <a:ext cx="129240" cy="35064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762200" y="2498760"/>
            <a:ext cx="838080" cy="818640"/>
            <a:chOff x="1762200" y="2498760"/>
            <a:chExt cx="838080" cy="818640"/>
          </a:xfrm>
        </p:grpSpPr>
        <p:sp>
          <p:nvSpPr>
            <p:cNvPr id="170" name=""/>
            <p:cNvSpPr/>
            <p:nvPr/>
          </p:nvSpPr>
          <p:spPr>
            <a:xfrm>
              <a:off x="1762200" y="2498760"/>
              <a:ext cx="838080" cy="52596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821600" y="2966760"/>
              <a:ext cx="13320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05520" y="2966760"/>
              <a:ext cx="129240" cy="35064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857680" y="2498760"/>
            <a:ext cx="836280" cy="818640"/>
            <a:chOff x="2857680" y="2498760"/>
            <a:chExt cx="836280" cy="818640"/>
          </a:xfrm>
        </p:grpSpPr>
        <p:sp>
          <p:nvSpPr>
            <p:cNvPr id="174" name=""/>
            <p:cNvSpPr/>
            <p:nvPr/>
          </p:nvSpPr>
          <p:spPr>
            <a:xfrm>
              <a:off x="2857680" y="2498760"/>
              <a:ext cx="836280" cy="52596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2916720" y="2966760"/>
              <a:ext cx="13284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99560" y="2966760"/>
              <a:ext cx="129240" cy="35064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951360" y="2498760"/>
            <a:ext cx="836640" cy="818640"/>
            <a:chOff x="3951360" y="2498760"/>
            <a:chExt cx="836640" cy="818640"/>
          </a:xfrm>
        </p:grpSpPr>
        <p:sp>
          <p:nvSpPr>
            <p:cNvPr id="178" name=""/>
            <p:cNvSpPr/>
            <p:nvPr/>
          </p:nvSpPr>
          <p:spPr>
            <a:xfrm>
              <a:off x="3951360" y="2498760"/>
              <a:ext cx="836640" cy="52596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4010400" y="2966760"/>
              <a:ext cx="13284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93600" y="2966760"/>
              <a:ext cx="129240" cy="35064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796680" y="2965320"/>
            <a:ext cx="390240" cy="351000"/>
            <a:chOff x="796680" y="2965320"/>
            <a:chExt cx="390240" cy="351000"/>
          </a:xfrm>
        </p:grpSpPr>
        <p:sp>
          <p:nvSpPr>
            <p:cNvPr id="182" name=""/>
            <p:cNvSpPr/>
            <p:nvPr/>
          </p:nvSpPr>
          <p:spPr>
            <a:xfrm flipH="1">
              <a:off x="796680" y="2965320"/>
              <a:ext cx="13284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58400" y="2965320"/>
              <a:ext cx="128520" cy="35100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955520" y="2965320"/>
            <a:ext cx="392040" cy="351000"/>
            <a:chOff x="1955520" y="2965320"/>
            <a:chExt cx="392040" cy="351000"/>
          </a:xfrm>
        </p:grpSpPr>
        <p:sp>
          <p:nvSpPr>
            <p:cNvPr id="185" name=""/>
            <p:cNvSpPr/>
            <p:nvPr/>
          </p:nvSpPr>
          <p:spPr>
            <a:xfrm flipH="1">
              <a:off x="1955520" y="2965320"/>
              <a:ext cx="13356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18680" y="2965320"/>
              <a:ext cx="128880" cy="35100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050640" y="2965320"/>
            <a:ext cx="392400" cy="351000"/>
            <a:chOff x="3050640" y="2965320"/>
            <a:chExt cx="392400" cy="351000"/>
          </a:xfrm>
        </p:grpSpPr>
        <p:sp>
          <p:nvSpPr>
            <p:cNvPr id="188" name=""/>
            <p:cNvSpPr/>
            <p:nvPr/>
          </p:nvSpPr>
          <p:spPr>
            <a:xfrm flipH="1">
              <a:off x="3050640" y="2965320"/>
              <a:ext cx="13356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13800" y="2965320"/>
              <a:ext cx="129240" cy="35100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144680" y="2965320"/>
            <a:ext cx="392040" cy="351000"/>
            <a:chOff x="4144680" y="2965320"/>
            <a:chExt cx="392040" cy="351000"/>
          </a:xfrm>
        </p:grpSpPr>
        <p:sp>
          <p:nvSpPr>
            <p:cNvPr id="191" name=""/>
            <p:cNvSpPr/>
            <p:nvPr/>
          </p:nvSpPr>
          <p:spPr>
            <a:xfrm flipH="1">
              <a:off x="4144680" y="2965320"/>
              <a:ext cx="13356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07840" y="2965320"/>
              <a:ext cx="128880" cy="35100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39640" y="3551400"/>
            <a:ext cx="836640" cy="818640"/>
            <a:chOff x="539640" y="3551400"/>
            <a:chExt cx="836640" cy="818640"/>
          </a:xfrm>
        </p:grpSpPr>
        <p:sp>
          <p:nvSpPr>
            <p:cNvPr id="194" name=""/>
            <p:cNvSpPr/>
            <p:nvPr/>
          </p:nvSpPr>
          <p:spPr>
            <a:xfrm>
              <a:off x="539640" y="3551400"/>
              <a:ext cx="836640" cy="52596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98680" y="4019400"/>
              <a:ext cx="13284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81880" y="4019400"/>
              <a:ext cx="129240" cy="35064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762200" y="3492360"/>
            <a:ext cx="838080" cy="819000"/>
            <a:chOff x="1762200" y="3492360"/>
            <a:chExt cx="838080" cy="819000"/>
          </a:xfrm>
        </p:grpSpPr>
        <p:sp>
          <p:nvSpPr>
            <p:cNvPr id="198" name=""/>
            <p:cNvSpPr/>
            <p:nvPr/>
          </p:nvSpPr>
          <p:spPr>
            <a:xfrm>
              <a:off x="1762200" y="3492360"/>
              <a:ext cx="838080" cy="52632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1821600" y="3960720"/>
              <a:ext cx="13320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05520" y="3960720"/>
              <a:ext cx="129240" cy="35064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2857680" y="3492360"/>
            <a:ext cx="836280" cy="819000"/>
            <a:chOff x="2857680" y="3492360"/>
            <a:chExt cx="836280" cy="819000"/>
          </a:xfrm>
        </p:grpSpPr>
        <p:sp>
          <p:nvSpPr>
            <p:cNvPr id="202" name=""/>
            <p:cNvSpPr/>
            <p:nvPr/>
          </p:nvSpPr>
          <p:spPr>
            <a:xfrm>
              <a:off x="2857680" y="3492360"/>
              <a:ext cx="836280" cy="52632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2916720" y="3960720"/>
              <a:ext cx="13284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499560" y="3960720"/>
              <a:ext cx="129240" cy="35064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951360" y="3492360"/>
            <a:ext cx="836640" cy="819000"/>
            <a:chOff x="3951360" y="3492360"/>
            <a:chExt cx="836640" cy="819000"/>
          </a:xfrm>
        </p:grpSpPr>
        <p:sp>
          <p:nvSpPr>
            <p:cNvPr id="206" name=""/>
            <p:cNvSpPr/>
            <p:nvPr/>
          </p:nvSpPr>
          <p:spPr>
            <a:xfrm>
              <a:off x="3951360" y="3492360"/>
              <a:ext cx="836640" cy="52632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4010400" y="3960720"/>
              <a:ext cx="13284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593600" y="3960720"/>
              <a:ext cx="129240" cy="35064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733320" y="4017960"/>
            <a:ext cx="390240" cy="351000"/>
            <a:chOff x="733320" y="4017960"/>
            <a:chExt cx="390240" cy="351000"/>
          </a:xfrm>
        </p:grpSpPr>
        <p:sp>
          <p:nvSpPr>
            <p:cNvPr id="210" name=""/>
            <p:cNvSpPr/>
            <p:nvPr/>
          </p:nvSpPr>
          <p:spPr>
            <a:xfrm flipH="1">
              <a:off x="733320" y="4017960"/>
              <a:ext cx="13320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95040" y="4017960"/>
              <a:ext cx="128520" cy="35100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955520" y="3960720"/>
            <a:ext cx="392040" cy="351000"/>
            <a:chOff x="1955520" y="3960720"/>
            <a:chExt cx="392040" cy="351000"/>
          </a:xfrm>
        </p:grpSpPr>
        <p:sp>
          <p:nvSpPr>
            <p:cNvPr id="213" name=""/>
            <p:cNvSpPr/>
            <p:nvPr/>
          </p:nvSpPr>
          <p:spPr>
            <a:xfrm flipH="1">
              <a:off x="1955520" y="3960720"/>
              <a:ext cx="13356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18680" y="3960720"/>
              <a:ext cx="128880" cy="35100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050640" y="3960720"/>
            <a:ext cx="392400" cy="351000"/>
            <a:chOff x="3050640" y="3960720"/>
            <a:chExt cx="392400" cy="351000"/>
          </a:xfrm>
        </p:grpSpPr>
        <p:sp>
          <p:nvSpPr>
            <p:cNvPr id="216" name=""/>
            <p:cNvSpPr/>
            <p:nvPr/>
          </p:nvSpPr>
          <p:spPr>
            <a:xfrm flipH="1">
              <a:off x="3050640" y="3960720"/>
              <a:ext cx="13356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13800" y="3960720"/>
              <a:ext cx="129240" cy="35100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144680" y="3960720"/>
            <a:ext cx="392040" cy="351000"/>
            <a:chOff x="4144680" y="3960720"/>
            <a:chExt cx="392040" cy="351000"/>
          </a:xfrm>
        </p:grpSpPr>
        <p:sp>
          <p:nvSpPr>
            <p:cNvPr id="219" name=""/>
            <p:cNvSpPr/>
            <p:nvPr/>
          </p:nvSpPr>
          <p:spPr>
            <a:xfrm flipH="1">
              <a:off x="4144680" y="3960720"/>
              <a:ext cx="13356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407840" y="3960720"/>
              <a:ext cx="128880" cy="35100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831280" y="2548080"/>
            <a:ext cx="278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×4=3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条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95240" y="1851120"/>
            <a:ext cx="163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假设全是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19520" y="3225960"/>
            <a:ext cx="304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2-26=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条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29680" y="4011480"/>
            <a:ext cx="255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-2=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条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24360" y="3651120"/>
            <a:ext cx="31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多算鸡的腿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1280" y="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笼子里有若干只鸡和兔，从上面数，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头；从下面数，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条腿。鸡和兔各有几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603360" y="2498760"/>
            <a:ext cx="838080" cy="818640"/>
            <a:chOff x="603360" y="2498760"/>
            <a:chExt cx="838080" cy="818640"/>
          </a:xfrm>
        </p:grpSpPr>
        <p:sp>
          <p:nvSpPr>
            <p:cNvPr id="228" name=""/>
            <p:cNvSpPr/>
            <p:nvPr/>
          </p:nvSpPr>
          <p:spPr>
            <a:xfrm>
              <a:off x="603360" y="2498760"/>
              <a:ext cx="838080" cy="52596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662760" y="2966760"/>
              <a:ext cx="13320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46680" y="2966760"/>
              <a:ext cx="129240" cy="35064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762200" y="2498760"/>
            <a:ext cx="838080" cy="818640"/>
            <a:chOff x="1762200" y="2498760"/>
            <a:chExt cx="838080" cy="818640"/>
          </a:xfrm>
        </p:grpSpPr>
        <p:sp>
          <p:nvSpPr>
            <p:cNvPr id="232" name=""/>
            <p:cNvSpPr/>
            <p:nvPr/>
          </p:nvSpPr>
          <p:spPr>
            <a:xfrm>
              <a:off x="1762200" y="2498760"/>
              <a:ext cx="838080" cy="52596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1821600" y="2966760"/>
              <a:ext cx="13320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05520" y="2966760"/>
              <a:ext cx="129240" cy="35064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857680" y="2498760"/>
            <a:ext cx="836280" cy="818640"/>
            <a:chOff x="2857680" y="2498760"/>
            <a:chExt cx="836280" cy="818640"/>
          </a:xfrm>
        </p:grpSpPr>
        <p:sp>
          <p:nvSpPr>
            <p:cNvPr id="236" name=""/>
            <p:cNvSpPr/>
            <p:nvPr/>
          </p:nvSpPr>
          <p:spPr>
            <a:xfrm>
              <a:off x="2857680" y="2498760"/>
              <a:ext cx="836280" cy="52596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916720" y="2966760"/>
              <a:ext cx="13284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99560" y="2966760"/>
              <a:ext cx="129240" cy="35064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951360" y="2498760"/>
            <a:ext cx="836640" cy="818640"/>
            <a:chOff x="3951360" y="2498760"/>
            <a:chExt cx="836640" cy="818640"/>
          </a:xfrm>
        </p:grpSpPr>
        <p:sp>
          <p:nvSpPr>
            <p:cNvPr id="240" name=""/>
            <p:cNvSpPr/>
            <p:nvPr/>
          </p:nvSpPr>
          <p:spPr>
            <a:xfrm>
              <a:off x="3951360" y="2498760"/>
              <a:ext cx="836640" cy="52596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010400" y="2966760"/>
              <a:ext cx="13284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593600" y="2966760"/>
              <a:ext cx="129240" cy="35064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796680" y="2965320"/>
            <a:ext cx="390240" cy="351000"/>
            <a:chOff x="796680" y="2965320"/>
            <a:chExt cx="390240" cy="351000"/>
          </a:xfrm>
        </p:grpSpPr>
        <p:sp>
          <p:nvSpPr>
            <p:cNvPr id="244" name=""/>
            <p:cNvSpPr/>
            <p:nvPr/>
          </p:nvSpPr>
          <p:spPr>
            <a:xfrm flipH="1">
              <a:off x="796680" y="2965320"/>
              <a:ext cx="132840" cy="339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58400" y="2965320"/>
              <a:ext cx="128520" cy="351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955520" y="2965320"/>
            <a:ext cx="392040" cy="351000"/>
            <a:chOff x="1955520" y="2965320"/>
            <a:chExt cx="392040" cy="351000"/>
          </a:xfrm>
        </p:grpSpPr>
        <p:sp>
          <p:nvSpPr>
            <p:cNvPr id="247" name=""/>
            <p:cNvSpPr/>
            <p:nvPr/>
          </p:nvSpPr>
          <p:spPr>
            <a:xfrm flipH="1">
              <a:off x="1955520" y="2965320"/>
              <a:ext cx="13356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18680" y="2965320"/>
              <a:ext cx="128880" cy="35100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3050640" y="2965320"/>
            <a:ext cx="392400" cy="351000"/>
            <a:chOff x="3050640" y="2965320"/>
            <a:chExt cx="392400" cy="351000"/>
          </a:xfrm>
        </p:grpSpPr>
        <p:sp>
          <p:nvSpPr>
            <p:cNvPr id="250" name=""/>
            <p:cNvSpPr/>
            <p:nvPr/>
          </p:nvSpPr>
          <p:spPr>
            <a:xfrm flipH="1">
              <a:off x="3050640" y="2965320"/>
              <a:ext cx="13356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313800" y="2965320"/>
              <a:ext cx="129240" cy="35100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144680" y="2965320"/>
            <a:ext cx="392040" cy="351000"/>
            <a:chOff x="4144680" y="2965320"/>
            <a:chExt cx="392040" cy="351000"/>
          </a:xfrm>
        </p:grpSpPr>
        <p:sp>
          <p:nvSpPr>
            <p:cNvPr id="253" name=""/>
            <p:cNvSpPr/>
            <p:nvPr/>
          </p:nvSpPr>
          <p:spPr>
            <a:xfrm flipH="1">
              <a:off x="4144680" y="2965320"/>
              <a:ext cx="13356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07840" y="2965320"/>
              <a:ext cx="128880" cy="35100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39640" y="3551400"/>
            <a:ext cx="836640" cy="818640"/>
            <a:chOff x="539640" y="3551400"/>
            <a:chExt cx="836640" cy="818640"/>
          </a:xfrm>
        </p:grpSpPr>
        <p:sp>
          <p:nvSpPr>
            <p:cNvPr id="256" name=""/>
            <p:cNvSpPr/>
            <p:nvPr/>
          </p:nvSpPr>
          <p:spPr>
            <a:xfrm>
              <a:off x="539640" y="3551400"/>
              <a:ext cx="836640" cy="52596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598680" y="4019400"/>
              <a:ext cx="13284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81880" y="4019400"/>
              <a:ext cx="129240" cy="35064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762200" y="3492360"/>
            <a:ext cx="838080" cy="819000"/>
            <a:chOff x="1762200" y="3492360"/>
            <a:chExt cx="838080" cy="819000"/>
          </a:xfrm>
        </p:grpSpPr>
        <p:sp>
          <p:nvSpPr>
            <p:cNvPr id="260" name=""/>
            <p:cNvSpPr/>
            <p:nvPr/>
          </p:nvSpPr>
          <p:spPr>
            <a:xfrm>
              <a:off x="1762200" y="3492360"/>
              <a:ext cx="838080" cy="52632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1821600" y="3960720"/>
              <a:ext cx="13320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405520" y="3960720"/>
              <a:ext cx="129240" cy="35064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857680" y="3492360"/>
            <a:ext cx="836280" cy="819000"/>
            <a:chOff x="2857680" y="3492360"/>
            <a:chExt cx="836280" cy="819000"/>
          </a:xfrm>
        </p:grpSpPr>
        <p:sp>
          <p:nvSpPr>
            <p:cNvPr id="264" name=""/>
            <p:cNvSpPr/>
            <p:nvPr/>
          </p:nvSpPr>
          <p:spPr>
            <a:xfrm>
              <a:off x="2857680" y="3492360"/>
              <a:ext cx="836280" cy="52632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2916720" y="3960720"/>
              <a:ext cx="13284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499560" y="3960720"/>
              <a:ext cx="129240" cy="35064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951360" y="3492360"/>
            <a:ext cx="836640" cy="819000"/>
            <a:chOff x="3951360" y="3492360"/>
            <a:chExt cx="836640" cy="819000"/>
          </a:xfrm>
        </p:grpSpPr>
        <p:sp>
          <p:nvSpPr>
            <p:cNvPr id="268" name=""/>
            <p:cNvSpPr/>
            <p:nvPr/>
          </p:nvSpPr>
          <p:spPr>
            <a:xfrm>
              <a:off x="3951360" y="3492360"/>
              <a:ext cx="836640" cy="52632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010400" y="3960720"/>
              <a:ext cx="13284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93600" y="3960720"/>
              <a:ext cx="129240" cy="35064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733320" y="4017960"/>
            <a:ext cx="390240" cy="351000"/>
            <a:chOff x="733320" y="4017960"/>
            <a:chExt cx="390240" cy="351000"/>
          </a:xfrm>
        </p:grpSpPr>
        <p:sp>
          <p:nvSpPr>
            <p:cNvPr id="272" name=""/>
            <p:cNvSpPr/>
            <p:nvPr/>
          </p:nvSpPr>
          <p:spPr>
            <a:xfrm flipH="1">
              <a:off x="733320" y="4017960"/>
              <a:ext cx="13320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95040" y="4017960"/>
              <a:ext cx="128520" cy="35100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955520" y="3960720"/>
            <a:ext cx="392040" cy="351000"/>
            <a:chOff x="1955520" y="3960720"/>
            <a:chExt cx="392040" cy="351000"/>
          </a:xfrm>
        </p:grpSpPr>
        <p:sp>
          <p:nvSpPr>
            <p:cNvPr id="275" name=""/>
            <p:cNvSpPr/>
            <p:nvPr/>
          </p:nvSpPr>
          <p:spPr>
            <a:xfrm flipH="1">
              <a:off x="1955520" y="3960720"/>
              <a:ext cx="13356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218680" y="3960720"/>
              <a:ext cx="128880" cy="35100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050640" y="3960720"/>
            <a:ext cx="392400" cy="351000"/>
            <a:chOff x="3050640" y="3960720"/>
            <a:chExt cx="392400" cy="351000"/>
          </a:xfrm>
        </p:grpSpPr>
        <p:sp>
          <p:nvSpPr>
            <p:cNvPr id="278" name=""/>
            <p:cNvSpPr/>
            <p:nvPr/>
          </p:nvSpPr>
          <p:spPr>
            <a:xfrm flipH="1">
              <a:off x="3050640" y="3960720"/>
              <a:ext cx="13356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13800" y="3960720"/>
              <a:ext cx="129240" cy="35100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4144680" y="3960720"/>
            <a:ext cx="392040" cy="351000"/>
            <a:chOff x="4144680" y="3960720"/>
            <a:chExt cx="392040" cy="351000"/>
          </a:xfrm>
        </p:grpSpPr>
        <p:sp>
          <p:nvSpPr>
            <p:cNvPr id="281" name=""/>
            <p:cNvSpPr/>
            <p:nvPr/>
          </p:nvSpPr>
          <p:spPr>
            <a:xfrm flipH="1">
              <a:off x="4144680" y="3960720"/>
              <a:ext cx="133560" cy="3391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07840" y="3960720"/>
              <a:ext cx="128880" cy="35100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831280" y="2548080"/>
            <a:ext cx="278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×4=3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条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295240" y="1851120"/>
            <a:ext cx="163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假设全是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519520" y="3225960"/>
            <a:ext cx="304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2-26=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条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629680" y="4011480"/>
            <a:ext cx="255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-2=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条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24360" y="3651120"/>
            <a:ext cx="31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多算鸡的腿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1280" y="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笼子里有若干只鸡和兔，从上面数，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头；从下面数，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条腿。鸡和兔各有几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3T08:41:09Z</dcterms:created>
  <dc:creator>xiaojian</dc:creator>
  <dc:description/>
  <dc:language>en-US</dc:language>
  <cp:lastModifiedBy>雨林木风</cp:lastModifiedBy>
  <dcterms:modified xsi:type="dcterms:W3CDTF">2013-12-11T15:42:34Z</dcterms:modified>
  <cp:revision>117</cp:revision>
  <dc:subject/>
  <dc:title>幻灯片 1</dc:title>
</cp:coreProperties>
</file>