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5DD-872B-4976-B15A-2500C68F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519-205F-47CA-B773-940101FE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67F-B38D-4195-94F5-D20274F7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C95-DA6E-4E8E-8112-05D945D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AE5-2861-41B4-B617-927BCBD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422-5F0F-4864-9F65-26974B9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B70-B0F4-4ED8-B684-9D139D0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2D9-46BC-477C-9F09-84D6730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7DF-CCA6-42A2-9FAB-950E339D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E5F-2255-4EE9-9F5B-0120FBB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C6D-1762-4E04-AC55-724CEE26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27A-35F4-4F8F-8B08-D7BDFE3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844-064F-4219-A0E9-050DD2518A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czg\My Documents\图象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1"/>
          <p:cNvSpPr txBox="1"/>
          <p:nvPr/>
        </p:nvSpPr>
        <p:spPr>
          <a:xfrm>
            <a:off x="3036960" y="306864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约分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Picture 13" descr="C:\Documents and Settings\czg\My Documents\动画\5-1.gif"/>
          <p:cNvPicPr/>
          <p:nvPr/>
        </p:nvPicPr>
        <p:blipFill>
          <a:blip r:embed="rId4"/>
          <a:stretch/>
        </p:blipFill>
        <p:spPr>
          <a:xfrm>
            <a:off x="304920" y="304920"/>
            <a:ext cx="129204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 6      3      8    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---    ---    --- 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9     10    10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 6      3      8    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---    ---    --- 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9     10    10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          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 6      3      8    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---    ---    --- 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9     10    10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            是           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3      8    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--- 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10    10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            是           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3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4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10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            是           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43000" y="1066680"/>
            <a:ext cx="62485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3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4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5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10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12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            是             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990720" y="1066680"/>
            <a:ext cx="67816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约分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口答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 9      8     12     33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---    ---    ---     ---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     12    32    16     5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9      8     12     33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---    ---     ---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12    32    16     5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8     12     33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---     ---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32    16     5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zg\My Documents\其他类\0WK2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371600" y="1295280"/>
            <a:ext cx="64771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复习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求下面各组数的最大公因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2       1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6      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3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26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27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28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9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1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12     33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---     ---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16     5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1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33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---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5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143000" y="1066680"/>
            <a:ext cx="62485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把下面的分数约分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1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4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     9    20   14    22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---   ---   ---    ---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0   15   25   35    77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9    20   14    22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---   ---   ---    ---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15   25   35    77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20   14    22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---   ---    ---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25   35    77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14    22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---    ---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35    77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27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22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---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77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26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27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czg\My Documents\其他类\0WK23.bmp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762120" y="762120"/>
            <a:ext cx="7543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下面的分数约分（看谁做得又对又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7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8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9"/>
          <p:cNvSpPr/>
          <p:nvPr/>
        </p:nvSpPr>
        <p:spPr>
          <a:xfrm>
            <a:off x="990720" y="1066680"/>
            <a:ext cx="72388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新宋体"/>
                <a:hlinkClick r:id="rId4" action="ppaction://hlinksldjump"/>
              </a:rPr>
              <a:t>例１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新宋体"/>
                <a:hlinkClick r:id="rId5" action="ppaction://hlinksldjump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新宋体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８         ９          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尝试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------      ------       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２４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２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４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228600" y="457200"/>
            <a:ext cx="7829640" cy="5676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判断下面哪些分数没有约成最简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2       6                 1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 )     (2)  --- =  ---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36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8      14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 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2      21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228600" y="457200"/>
            <a:ext cx="7829640" cy="5676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判断下面哪些分数没有约成最简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2       6                  1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  (2)  --- =  ---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36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8      14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 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2      21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228600" y="457200"/>
            <a:ext cx="7829640" cy="5676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判断下面哪些分数没有约成最简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2       6                  1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  (2)  --- = 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BatangChe"/>
              </a:rPr>
              <a:t>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36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8      14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 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2      21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228600" y="457200"/>
            <a:ext cx="7829640" cy="5676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判断下面哪些分数没有约成最简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2       6                  1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  (2)  --- = 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BatangChe"/>
              </a:rPr>
              <a:t>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36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8      14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2      21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228600" y="457200"/>
            <a:ext cx="7829640" cy="5676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约分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不对的改正过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5       3                 45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(2)    --- =  --- 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4       4                 7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  2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0" y="0"/>
            <a:ext cx="9448920" cy="6851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约分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不对的改正过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5       3                 45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(2)  ---- =  --- 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BatangCh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4       4                 7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  2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0" y="0"/>
            <a:ext cx="9448920" cy="6851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约分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不对的改正过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5       3                 45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(2)  ---- =  --- 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BatangChe"/>
              </a:rPr>
              <a:t>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4       4                 7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  2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czg\My Documents\其他类\0WK24.bmp"/>
          <p:cNvPicPr/>
          <p:nvPr/>
        </p:nvPicPr>
        <p:blipFill>
          <a:blip r:embed="rId1"/>
          <a:stretch/>
        </p:blipFill>
        <p:spPr>
          <a:xfrm>
            <a:off x="0" y="0"/>
            <a:ext cx="9448920" cy="6851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685800" y="12952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33520" y="838080"/>
            <a:ext cx="76960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约分对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不对的改正过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5       3                 45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1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  (2)  ---- =  --- 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BatangChe"/>
              </a:rPr>
              <a:t>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4       4                 75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  2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3)     ---  = ---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8       9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:\Documents and Settings\czg\My Documents\图象\BJ_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7287120" y="8380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谢谢收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90720" y="1066680"/>
            <a:ext cx="71625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例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８         ９          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尝试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------      ------       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２４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２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４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3" descr="C:\Documents and Settings\czg\My Documents\My Pictures\4.bmp"/>
          <p:cNvPicPr/>
          <p:nvPr/>
        </p:nvPicPr>
        <p:blipFill>
          <a:blip r:embed="rId4"/>
          <a:stretch/>
        </p:blipFill>
        <p:spPr>
          <a:xfrm>
            <a:off x="1219320" y="2743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26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7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8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9"/>
          <p:cNvSpPr/>
          <p:nvPr/>
        </p:nvSpPr>
        <p:spPr>
          <a:xfrm>
            <a:off x="990720" y="1066680"/>
            <a:ext cx="73152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例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８         ９          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尝试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------      ------       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２４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２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４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30" descr="C:\Documents and Settings\czg\My Documents\My Pictures\4.bmp"/>
          <p:cNvPicPr/>
          <p:nvPr/>
        </p:nvPicPr>
        <p:blipFill>
          <a:blip r:embed="rId4"/>
          <a:stretch/>
        </p:blipFill>
        <p:spPr>
          <a:xfrm>
            <a:off x="121932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1" descr="C:\Documents and Settings\czg\My Documents\My Pictures\3.bmp"/>
          <p:cNvPicPr/>
          <p:nvPr/>
        </p:nvPicPr>
        <p:blipFill>
          <a:blip r:embed="rId5"/>
          <a:stretch/>
        </p:blipFill>
        <p:spPr>
          <a:xfrm>
            <a:off x="3124080" y="2743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90720" y="1066680"/>
            <a:ext cx="6781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例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８         ９          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尝试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------      ------       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２４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２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４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Documents and Settings\czg\My Documents\My Pictures\4.bmp"/>
          <p:cNvPicPr/>
          <p:nvPr/>
        </p:nvPicPr>
        <p:blipFill>
          <a:blip r:embed="rId4"/>
          <a:stretch/>
        </p:blipFill>
        <p:spPr>
          <a:xfrm>
            <a:off x="121932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czg\My Documents\My Pictures\3.bmp"/>
          <p:cNvPicPr/>
          <p:nvPr/>
        </p:nvPicPr>
        <p:blipFill>
          <a:blip r:embed="rId5"/>
          <a:stretch/>
        </p:blipFill>
        <p:spPr>
          <a:xfrm>
            <a:off x="31240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czg\My Documents\My Pictures\1.bmp"/>
          <p:cNvPicPr/>
          <p:nvPr/>
        </p:nvPicPr>
        <p:blipFill>
          <a:blip r:embed="rId6"/>
          <a:stretch/>
        </p:blipFill>
        <p:spPr>
          <a:xfrm>
            <a:off x="4724280" y="281952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:\Documents and Settings\czg\My Documents\其他类\0WK20.BMP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czg\My Documents\My Pictures\1.bmp"/>
          <p:cNvPicPr/>
          <p:nvPr/>
        </p:nvPicPr>
        <p:blipFill>
          <a:blip r:embed="rId2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90720" y="1066680"/>
            <a:ext cx="6781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例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８         ９          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尝试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------      ------       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２４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２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`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４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Documents and Settings\czg\My Documents\My Pictures\4.bmp"/>
          <p:cNvPicPr/>
          <p:nvPr/>
        </p:nvPicPr>
        <p:blipFill>
          <a:blip r:embed="rId4"/>
          <a:stretch/>
        </p:blipFill>
        <p:spPr>
          <a:xfrm>
            <a:off x="121932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czg\My Documents\My Pictures\3.bmp"/>
          <p:cNvPicPr/>
          <p:nvPr/>
        </p:nvPicPr>
        <p:blipFill>
          <a:blip r:embed="rId5"/>
          <a:stretch/>
        </p:blipFill>
        <p:spPr>
          <a:xfrm>
            <a:off x="31240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Documents and Settings\czg\My Documents\My Pictures\1.bmp"/>
          <p:cNvPicPr/>
          <p:nvPr/>
        </p:nvPicPr>
        <p:blipFill>
          <a:blip r:embed="rId6"/>
          <a:stretch/>
        </p:blipFill>
        <p:spPr>
          <a:xfrm>
            <a:off x="4724280" y="28195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2514600" y="32004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0" y="32004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4"/>
          <p:cNvGrpSpPr/>
          <p:nvPr/>
        </p:nvGrpSpPr>
        <p:grpSpPr>
          <a:xfrm>
            <a:off x="1905120" y="4648320"/>
            <a:ext cx="5368320" cy="1343520"/>
            <a:chOff x="1905120" y="4648320"/>
            <a:chExt cx="5368320" cy="1343520"/>
          </a:xfrm>
        </p:grpSpPr>
        <p:sp>
          <p:nvSpPr>
            <p:cNvPr id="79" name="Text Box 12"/>
            <p:cNvSpPr/>
            <p:nvPr/>
          </p:nvSpPr>
          <p:spPr>
            <a:xfrm>
              <a:off x="2530800" y="4800600"/>
              <a:ext cx="474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分子和分母只有公因数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像这样的分数叫做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最简分数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1982520" y="46483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1905120" y="51055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371600" y="144792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把一个分数化成同它相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但分子、分母都比较小的分数叫做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约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czg\My Documents\My Pictures\1.bmp"/>
          <p:cNvPicPr/>
          <p:nvPr/>
        </p:nvPicPr>
        <p:blipFill>
          <a:blip r:embed="rId1"/>
          <a:stretch/>
        </p:blipFill>
        <p:spPr>
          <a:xfrm>
            <a:off x="1066680" y="4343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czg\My Documents\其他类\0WK20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czg\My Documents\其他类\0WK20.BMP"/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43000" y="1066680"/>
            <a:ext cx="62485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尝试练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出下面哪些分数是最简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   6      3      8       5     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--    ---    ---    ---     ---     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7      9     10    10     12    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27:15Z</dcterms:created>
  <dc:creator/>
  <dc:description/>
  <cp:keywords/>
  <dc:language>en-US</dc:language>
  <cp:lastModifiedBy>Administrator</cp:lastModifiedBy>
  <dcterms:modified xsi:type="dcterms:W3CDTF">2015-03-03T00:49:43Z</dcterms:modified>
  <cp:revision>31</cp:revision>
  <dc:subject/>
  <dc:title>幻灯片 1</dc:title>
</cp:coreProperties>
</file>