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image6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laser.wav" ContentType="audio/x-wav"/>
  <Override PartName="/ppt/media/image3.png" ContentType="image/png"/>
  <Override PartName="/ppt/media/type.wav" ContentType="audio/x-wav"/>
  <Override PartName="/ppt/media/image17.png" ContentType="image/png"/>
  <Override PartName="/ppt/media/breeze.wav" ContentType="audio/x-wav"/>
  <Override PartName="/ppt/media/image10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1.png" ContentType="image/png"/>
  <Override PartName="/ppt/media/image16.png" ContentType="image/png"/>
  <Override PartName="/ppt/media/chimes.wav" ContentType="audio/x-wav"/>
  <Override PartName="/ppt/media/image12.jpeg" ContentType="image/jpeg"/>
  <Override PartName="/ppt/media/image13.png" ContentType="image/png"/>
  <Override PartName="/ppt/media/cashreg.wav" ContentType="audio/x-wav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121D-A3F8-4660-8A17-12D7FFF35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1DD7-0077-47A9-94E5-561053B93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2C28-6252-4352-BF09-73F3232E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403-2F65-48AE-A4BD-5A597B93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A5FE-1F57-4B94-A607-BBC38910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7D02-6D8D-42D3-8773-6ECB067D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BBF8-2990-43A3-B3DC-7FDBDB4B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4349-9604-4429-BF42-F0D8E04A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D180-11F0-450D-90E4-3422678C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BACE-738E-46CB-BF29-7B86AC20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A5D7-B725-4287-916A-C59DBC32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AF99-F31D-4911-BB59-8DFEB84E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DEEB-EB9B-4DED-BE5E-7007A7B6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37FE-5AF4-4A1C-BC0C-8ADE83A9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4A8B-A9A2-43AC-A20E-35E8AAE3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C5FB-2E8A-4FA4-B0F8-0035A683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FD01-F895-49FE-8DF5-F3DEC10F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C9E7-5581-45EE-A1E7-819085B0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4547-74D3-4DDB-8294-B26B462A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E96-42FA-4465-AEDF-2150C85A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3384-B7A8-4236-930F-B5B636B1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3B15-009F-4EA2-8717-7F4846C3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6141-894F-492F-B0BF-3D9A0E23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5959-25A6-4B9E-9C52-109BBA1C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6DF3-AB14-462C-B4DB-12AC2B20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D06D-458F-44F0-B83B-D13DFAA8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5FD9-D91D-419D-B8AF-F303EBD6D31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F03E-FE73-43B7-86A3-212083A5C7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audio" Target="../media/breeze.wav"/><Relationship Id="rId5" Type="http://schemas.openxmlformats.org/officeDocument/2006/relationships/audio" Target="../media/laser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图片25"/>
          <p:cNvPicPr/>
          <p:nvPr/>
        </p:nvPicPr>
        <p:blipFill>
          <a:blip r:embed="rId1"/>
          <a:stretch/>
        </p:blipFill>
        <p:spPr>
          <a:xfrm>
            <a:off x="609480" y="804960"/>
            <a:ext cx="7944120" cy="5070240"/>
          </a:xfrm>
          <a:prstGeom prst="rect">
            <a:avLst/>
          </a:prstGeom>
          <a:ln w="0">
            <a:noFill/>
          </a:ln>
        </p:spPr>
      </p:pic>
      <p:sp>
        <p:nvSpPr>
          <p:cNvPr id="90" name="WordArt 5"/>
          <p:cNvSpPr txBox="1"/>
          <p:nvPr/>
        </p:nvSpPr>
        <p:spPr>
          <a:xfrm>
            <a:off x="1996920" y="3046320"/>
            <a:ext cx="4535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找最小公倍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2832120" y="2289240"/>
            <a:ext cx="184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质因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35040" y="5576760"/>
            <a:ext cx="891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所以</a:t>
            </a:r>
            <a:r>
              <a:rPr b="1" lang="en-US" sz="32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和</a:t>
            </a:r>
            <a:r>
              <a:rPr b="1" lang="en-US" sz="32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的最小公倍数是：</a:t>
            </a:r>
            <a:r>
              <a:rPr b="1" lang="en-US" sz="32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2×3×3×5 =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906200" y="320040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lain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059200" y="3741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156120" y="37418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2060640" y="4267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279960" y="4255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0"/>
          <p:cNvGrpSpPr/>
          <p:nvPr/>
        </p:nvGrpSpPr>
        <p:grpSpPr>
          <a:xfrm>
            <a:off x="1601640" y="3276720"/>
            <a:ext cx="2514600" cy="457200"/>
            <a:chOff x="1601640" y="3276720"/>
            <a:chExt cx="2514600" cy="457200"/>
          </a:xfrm>
        </p:grpSpPr>
        <p:sp>
          <p:nvSpPr>
            <p:cNvPr id="189" name="Line 11"/>
            <p:cNvSpPr/>
            <p:nvPr/>
          </p:nvSpPr>
          <p:spPr>
            <a:xfrm>
              <a:off x="1601640" y="3276720"/>
              <a:ext cx="0" cy="45720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1601640" y="3733920"/>
              <a:ext cx="251460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3"/>
          <p:cNvGrpSpPr/>
          <p:nvPr/>
        </p:nvGrpSpPr>
        <p:grpSpPr>
          <a:xfrm>
            <a:off x="1830240" y="3733920"/>
            <a:ext cx="2210040" cy="533160"/>
            <a:chOff x="1830240" y="3733920"/>
            <a:chExt cx="2210040" cy="533160"/>
          </a:xfrm>
        </p:grpSpPr>
        <p:sp>
          <p:nvSpPr>
            <p:cNvPr id="192" name="Line 14"/>
            <p:cNvSpPr/>
            <p:nvPr/>
          </p:nvSpPr>
          <p:spPr>
            <a:xfrm>
              <a:off x="1830240" y="3733920"/>
              <a:ext cx="0" cy="53316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1830240" y="4267080"/>
              <a:ext cx="221004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16"/>
          <p:cNvSpPr/>
          <p:nvPr/>
        </p:nvSpPr>
        <p:spPr>
          <a:xfrm>
            <a:off x="1068480" y="3214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1373400" y="3733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8"/>
          <p:cNvGrpSpPr/>
          <p:nvPr/>
        </p:nvGrpSpPr>
        <p:grpSpPr>
          <a:xfrm>
            <a:off x="4136040" y="3124080"/>
            <a:ext cx="2764080" cy="555120"/>
            <a:chOff x="4136040" y="3124080"/>
            <a:chExt cx="2764080" cy="555120"/>
          </a:xfrm>
        </p:grpSpPr>
        <p:sp>
          <p:nvSpPr>
            <p:cNvPr id="197" name="Text Box 19"/>
            <p:cNvSpPr/>
            <p:nvPr/>
          </p:nvSpPr>
          <p:spPr>
            <a:xfrm>
              <a:off x="5323680" y="3219480"/>
              <a:ext cx="15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用公因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除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0"/>
            <p:cNvSpPr/>
            <p:nvPr/>
          </p:nvSpPr>
          <p:spPr>
            <a:xfrm>
              <a:off x="4136040" y="312408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21"/>
          <p:cNvGrpSpPr/>
          <p:nvPr/>
        </p:nvGrpSpPr>
        <p:grpSpPr>
          <a:xfrm>
            <a:off x="4136040" y="3614760"/>
            <a:ext cx="2764080" cy="597960"/>
            <a:chOff x="4136040" y="3614760"/>
            <a:chExt cx="2764080" cy="597960"/>
          </a:xfrm>
        </p:grpSpPr>
        <p:sp>
          <p:nvSpPr>
            <p:cNvPr id="200" name="Text Box 22"/>
            <p:cNvSpPr/>
            <p:nvPr/>
          </p:nvSpPr>
          <p:spPr>
            <a:xfrm>
              <a:off x="5323680" y="3753000"/>
              <a:ext cx="15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用公因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除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3"/>
            <p:cNvSpPr/>
            <p:nvPr/>
          </p:nvSpPr>
          <p:spPr>
            <a:xfrm>
              <a:off x="4136040" y="361476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4"/>
          <p:cNvGrpSpPr/>
          <p:nvPr/>
        </p:nvGrpSpPr>
        <p:grpSpPr>
          <a:xfrm>
            <a:off x="4174200" y="4114800"/>
            <a:ext cx="2940840" cy="592920"/>
            <a:chOff x="4174200" y="4114800"/>
            <a:chExt cx="2940840" cy="592920"/>
          </a:xfrm>
        </p:grpSpPr>
        <p:sp>
          <p:nvSpPr>
            <p:cNvPr id="203" name="Text Box 25"/>
            <p:cNvSpPr/>
            <p:nvPr/>
          </p:nvSpPr>
          <p:spPr>
            <a:xfrm>
              <a:off x="6784920" y="424800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除到两个商是互质数为止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4174200" y="411480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27"/>
          <p:cNvSpPr/>
          <p:nvPr/>
        </p:nvSpPr>
        <p:spPr>
          <a:xfrm>
            <a:off x="3462480" y="1670040"/>
            <a:ext cx="224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例：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最大公因数和最小公倍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322200" y="5033880"/>
            <a:ext cx="76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所以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18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和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30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的最大公因数是：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2×3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a6"/>
          <p:cNvPicPr/>
          <p:nvPr/>
        </p:nvPicPr>
        <p:blipFill>
          <a:blip r:embed="rId2"/>
          <a:stretch/>
        </p:blipFill>
        <p:spPr>
          <a:xfrm>
            <a:off x="7967520" y="4495680"/>
            <a:ext cx="1176480" cy="23623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520560" y="1257480"/>
            <a:ext cx="81075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方法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两个数的最小公倍数，先用这两个数的公因数连续去除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般从最小开始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一直除到所得的商是质数为止，然后把所有的除数和最后的两个商连乘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hb"/>
          <p:cNvPicPr/>
          <p:nvPr/>
        </p:nvPicPr>
        <p:blipFill>
          <a:blip r:embed="rId1"/>
          <a:stretch/>
        </p:blipFill>
        <p:spPr>
          <a:xfrm>
            <a:off x="157320" y="1628640"/>
            <a:ext cx="8735760" cy="47386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"/>
          <p:cNvSpPr/>
          <p:nvPr/>
        </p:nvSpPr>
        <p:spPr>
          <a:xfrm>
            <a:off x="1672560" y="2017800"/>
            <a:ext cx="5983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下面的判断对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）两个数的最小公倍数一定能被这两个数整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）两个数的最小公倍数一定比这两个数都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）两个数的积一定是这两个数的公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668880" y="2919240"/>
            <a:ext cx="48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39800" y="365904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697680" y="4403880"/>
            <a:ext cx="48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ds新知学习"/>
          <p:cNvPicPr/>
          <p:nvPr/>
        </p:nvPicPr>
        <p:blipFill>
          <a:blip r:embed="rId2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a5"/>
          <p:cNvPicPr/>
          <p:nvPr/>
        </p:nvPicPr>
        <p:blipFill>
          <a:blip r:embed="rId3"/>
          <a:stretch/>
        </p:blipFill>
        <p:spPr>
          <a:xfrm>
            <a:off x="6934320" y="4346640"/>
            <a:ext cx="2209680" cy="23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ds知识应用"/>
          <p:cNvPicPr/>
          <p:nvPr/>
        </p:nvPicPr>
        <p:blipFill>
          <a:blip r:embed="rId1"/>
          <a:stretch/>
        </p:blipFill>
        <p:spPr>
          <a:xfrm>
            <a:off x="685800" y="99072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"/>
          <p:cNvSpPr/>
          <p:nvPr/>
        </p:nvSpPr>
        <p:spPr>
          <a:xfrm>
            <a:off x="755640" y="1341360"/>
            <a:ext cx="78501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：人民公园是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和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汽车的起点站。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汽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发车一次，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汽车每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发车一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。这两路汽车同时发车以后，至少再过多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同时发车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266760" y="3189240"/>
            <a:ext cx="3657600" cy="3048120"/>
            <a:chOff x="266760" y="3189240"/>
            <a:chExt cx="3657600" cy="3048120"/>
          </a:xfrm>
        </p:grpSpPr>
        <p:pic>
          <p:nvPicPr>
            <p:cNvPr id="220" name="Picture 5" descr="bs"/>
            <p:cNvPicPr/>
            <p:nvPr/>
          </p:nvPicPr>
          <p:blipFill>
            <a:blip r:embed="rId2"/>
            <a:srcRect l="7332" t="36792" r="3332" b="39622"/>
            <a:stretch/>
          </p:blipFill>
          <p:spPr>
            <a:xfrm>
              <a:off x="266760" y="5018040"/>
              <a:ext cx="36576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Rectangle 6"/>
            <p:cNvSpPr/>
            <p:nvPr/>
          </p:nvSpPr>
          <p:spPr>
            <a:xfrm>
              <a:off x="922320" y="5554800"/>
              <a:ext cx="267516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7"/>
            <p:cNvSpPr/>
            <p:nvPr/>
          </p:nvSpPr>
          <p:spPr>
            <a:xfrm>
              <a:off x="1739880" y="54752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8"/>
            <p:cNvSpPr/>
            <p:nvPr/>
          </p:nvSpPr>
          <p:spPr>
            <a:xfrm>
              <a:off x="934920" y="5475240"/>
              <a:ext cx="5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1</a:t>
              </a:r>
              <a:r>
                <a:rPr b="0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9" descr="bs"/>
            <p:cNvPicPr/>
            <p:nvPr/>
          </p:nvPicPr>
          <p:blipFill>
            <a:blip r:embed="rId3"/>
            <a:srcRect l="60006" t="61323" r="5335" b="15096"/>
            <a:stretch/>
          </p:blipFill>
          <p:spPr>
            <a:xfrm>
              <a:off x="647640" y="3189240"/>
              <a:ext cx="19814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Rectangle 10"/>
            <p:cNvSpPr/>
            <p:nvPr/>
          </p:nvSpPr>
          <p:spPr>
            <a:xfrm>
              <a:off x="1352520" y="3970440"/>
              <a:ext cx="4572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1"/>
            <p:cNvSpPr/>
            <p:nvPr/>
          </p:nvSpPr>
          <p:spPr>
            <a:xfrm>
              <a:off x="1336320" y="398952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00"/>
                  </a:solidFill>
                  <a:latin typeface="Arial"/>
                  <a:ea typeface="黑体"/>
                </a:rPr>
                <a:t>6</a:t>
              </a:r>
              <a:r>
                <a:rPr b="0" lang="zh-CN" sz="2000" spc="-1" strike="noStrike">
                  <a:solidFill>
                    <a:srgbClr val="ff9900"/>
                  </a:solidFill>
                  <a:latin typeface="Arial"/>
                  <a:ea typeface="黑体"/>
                </a:rPr>
                <a:t>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12"/>
          <p:cNvSpPr/>
          <p:nvPr/>
        </p:nvSpPr>
        <p:spPr>
          <a:xfrm>
            <a:off x="3096000" y="34131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解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660840" y="3444840"/>
            <a:ext cx="548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题意就是要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最小公倍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20960" y="3860640"/>
            <a:ext cx="48117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互质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以它们的最小公倍数就是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5 =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3733920" y="5445000"/>
            <a:ext cx="541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答：至少再过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钟又同时发车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42800" y="1130400"/>
          <a:ext cx="8229600" cy="2906640"/>
        </p:xfrm>
        <a:graphic>
          <a:graphicData uri="http://schemas.openxmlformats.org/drawingml/2006/table">
            <a:tbl>
              <a:tblPr/>
              <a:tblGrid>
                <a:gridCol w="822600"/>
                <a:gridCol w="823680"/>
                <a:gridCol w="822240"/>
                <a:gridCol w="824040"/>
                <a:gridCol w="822240"/>
                <a:gridCol w="822600"/>
                <a:gridCol w="823680"/>
                <a:gridCol w="822240"/>
                <a:gridCol w="824040"/>
                <a:gridCol w="8222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AutoShape 206"/>
          <p:cNvSpPr/>
          <p:nvPr/>
        </p:nvSpPr>
        <p:spPr>
          <a:xfrm>
            <a:off x="1450800" y="4152960"/>
            <a:ext cx="2527560" cy="1103400"/>
          </a:xfrm>
          <a:prstGeom prst="wedgeEllipseCallout">
            <a:avLst>
              <a:gd name="adj1" fmla="val -51569"/>
              <a:gd name="adj2" fmla="val 40935"/>
            </a:avLst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倍数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07"/>
          <p:cNvSpPr/>
          <p:nvPr/>
        </p:nvSpPr>
        <p:spPr>
          <a:xfrm flipH="1">
            <a:off x="4975920" y="4251240"/>
            <a:ext cx="2451240" cy="1103400"/>
          </a:xfrm>
          <a:prstGeom prst="wedgeRoundRectCallout">
            <a:avLst>
              <a:gd name="adj1" fmla="val -61662"/>
              <a:gd name="adj2" fmla="val 31291"/>
              <a:gd name="adj3" fmla="val 16667"/>
            </a:avLst>
          </a:prstGeom>
          <a:solidFill>
            <a:srgbClr val="ffffcc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倍数又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168560" y="738360"/>
          <a:ext cx="6777000" cy="2296800"/>
        </p:xfrm>
        <a:graphic>
          <a:graphicData uri="http://schemas.openxmlformats.org/drawingml/2006/table">
            <a:tbl>
              <a:tblPr/>
              <a:tblGrid>
                <a:gridCol w="677880"/>
                <a:gridCol w="677520"/>
                <a:gridCol w="677880"/>
                <a:gridCol w="677880"/>
                <a:gridCol w="677880"/>
                <a:gridCol w="676440"/>
                <a:gridCol w="677880"/>
                <a:gridCol w="677880"/>
                <a:gridCol w="677880"/>
                <a:gridCol w="67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Group 84"/>
          <p:cNvGrpSpPr/>
          <p:nvPr/>
        </p:nvGrpSpPr>
        <p:grpSpPr>
          <a:xfrm>
            <a:off x="4738680" y="3276720"/>
            <a:ext cx="3676320" cy="2520360"/>
            <a:chOff x="4738680" y="3276720"/>
            <a:chExt cx="3676320" cy="2520360"/>
          </a:xfrm>
        </p:grpSpPr>
        <p:sp>
          <p:nvSpPr>
            <p:cNvPr id="96" name="Rectangle 79"/>
            <p:cNvSpPr/>
            <p:nvPr/>
          </p:nvSpPr>
          <p:spPr>
            <a:xfrm>
              <a:off x="5881680" y="3276720"/>
              <a:ext cx="1235160" cy="581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倍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80"/>
            <p:cNvSpPr/>
            <p:nvPr/>
          </p:nvSpPr>
          <p:spPr>
            <a:xfrm>
              <a:off x="4738680" y="3864600"/>
              <a:ext cx="3676320" cy="19324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85"/>
          <p:cNvGrpSpPr/>
          <p:nvPr/>
        </p:nvGrpSpPr>
        <p:grpSpPr>
          <a:xfrm>
            <a:off x="1574640" y="3333600"/>
            <a:ext cx="3286080" cy="2406240"/>
            <a:chOff x="1574640" y="3333600"/>
            <a:chExt cx="3286080" cy="2406240"/>
          </a:xfrm>
        </p:grpSpPr>
        <p:sp>
          <p:nvSpPr>
            <p:cNvPr id="99" name="Rectangle 82"/>
            <p:cNvSpPr/>
            <p:nvPr/>
          </p:nvSpPr>
          <p:spPr>
            <a:xfrm>
              <a:off x="2246760" y="3333600"/>
              <a:ext cx="1740240" cy="581400"/>
            </a:xfrm>
            <a:prstGeom prst="rect">
              <a:avLst/>
            </a:prstGeom>
            <a:solidFill>
              <a:srgbClr val="ff99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倍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81"/>
            <p:cNvSpPr/>
            <p:nvPr/>
          </p:nvSpPr>
          <p:spPr>
            <a:xfrm>
              <a:off x="1574640" y="3917520"/>
              <a:ext cx="3286080" cy="1822320"/>
            </a:xfrm>
            <a:prstGeom prst="ellipse">
              <a:avLst/>
            </a:prstGeom>
            <a:solidFill>
              <a:srgbClr val="ff99cc">
                <a:alpha val="80000"/>
              </a:srgbClr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86"/>
          <p:cNvSpPr/>
          <p:nvPr/>
        </p:nvSpPr>
        <p:spPr>
          <a:xfrm>
            <a:off x="1843200" y="4133880"/>
            <a:ext cx="2894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  8  12  1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0 24  28  32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6  40  44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7"/>
          <p:cNvSpPr/>
          <p:nvPr/>
        </p:nvSpPr>
        <p:spPr>
          <a:xfrm>
            <a:off x="2831040" y="4121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8"/>
          <p:cNvSpPr/>
          <p:nvPr/>
        </p:nvSpPr>
        <p:spPr>
          <a:xfrm>
            <a:off x="5079960" y="4178160"/>
            <a:ext cx="228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6  12  18  24  30  36  42 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9"/>
          <p:cNvSpPr/>
          <p:nvPr/>
        </p:nvSpPr>
        <p:spPr>
          <a:xfrm>
            <a:off x="2454480" y="45561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0"/>
          <p:cNvSpPr/>
          <p:nvPr/>
        </p:nvSpPr>
        <p:spPr>
          <a:xfrm>
            <a:off x="1948320" y="4979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1"/>
          <p:cNvSpPr/>
          <p:nvPr/>
        </p:nvSpPr>
        <p:spPr>
          <a:xfrm>
            <a:off x="6026400" y="5022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2"/>
          <p:cNvSpPr/>
          <p:nvPr/>
        </p:nvSpPr>
        <p:spPr>
          <a:xfrm>
            <a:off x="5880600" y="4172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3"/>
          <p:cNvSpPr/>
          <p:nvPr/>
        </p:nvSpPr>
        <p:spPr>
          <a:xfrm>
            <a:off x="5429520" y="46083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4"/>
          <p:cNvSpPr/>
          <p:nvPr/>
        </p:nvSpPr>
        <p:spPr>
          <a:xfrm>
            <a:off x="6620400" y="46101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5"/>
          <p:cNvSpPr/>
          <p:nvPr/>
        </p:nvSpPr>
        <p:spPr>
          <a:xfrm>
            <a:off x="3632400" y="500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72"/>
          <p:cNvGrpSpPr/>
          <p:nvPr/>
        </p:nvGrpSpPr>
        <p:grpSpPr>
          <a:xfrm>
            <a:off x="3354480" y="3262320"/>
            <a:ext cx="3542760" cy="2520360"/>
            <a:chOff x="3354480" y="3262320"/>
            <a:chExt cx="3542760" cy="2520360"/>
          </a:xfrm>
        </p:grpSpPr>
        <p:sp>
          <p:nvSpPr>
            <p:cNvPr id="112" name="Rectangle 73"/>
            <p:cNvSpPr/>
            <p:nvPr/>
          </p:nvSpPr>
          <p:spPr>
            <a:xfrm>
              <a:off x="4433400" y="3262320"/>
              <a:ext cx="1235160" cy="581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倍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4"/>
            <p:cNvSpPr/>
            <p:nvPr/>
          </p:nvSpPr>
          <p:spPr>
            <a:xfrm>
              <a:off x="3354480" y="3850200"/>
              <a:ext cx="3542760" cy="19324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80"/>
          <p:cNvSpPr/>
          <p:nvPr/>
        </p:nvSpPr>
        <p:spPr>
          <a:xfrm>
            <a:off x="4703760" y="4165560"/>
            <a:ext cx="228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6 18  24  30  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9" descr="3487_bn"/>
          <p:cNvPicPr/>
          <p:nvPr/>
        </p:nvPicPr>
        <p:blipFill>
          <a:blip r:embed="rId1"/>
          <a:stretch/>
        </p:blipFill>
        <p:spPr>
          <a:xfrm>
            <a:off x="392040" y="1077840"/>
            <a:ext cx="1565280" cy="18860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90"/>
          <p:cNvSpPr/>
          <p:nvPr/>
        </p:nvSpPr>
        <p:spPr>
          <a:xfrm>
            <a:off x="2235240" y="1069920"/>
            <a:ext cx="4949640" cy="1320840"/>
          </a:xfrm>
          <a:prstGeom prst="cloudCallout">
            <a:avLst>
              <a:gd name="adj1" fmla="val -60550"/>
              <a:gd name="adj2" fmla="val -2824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1"/>
          <p:cNvSpPr/>
          <p:nvPr/>
        </p:nvSpPr>
        <p:spPr>
          <a:xfrm>
            <a:off x="2684520" y="1208160"/>
            <a:ext cx="397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公倍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是：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3"/>
          <p:cNvSpPr/>
          <p:nvPr/>
        </p:nvSpPr>
        <p:spPr>
          <a:xfrm>
            <a:off x="3538440" y="2525760"/>
            <a:ext cx="477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是它们的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最小公倍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2"/>
          <p:cNvSpPr/>
          <p:nvPr/>
        </p:nvSpPr>
        <p:spPr>
          <a:xfrm>
            <a:off x="3081240" y="25210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95"/>
          <p:cNvGrpSpPr/>
          <p:nvPr/>
        </p:nvGrpSpPr>
        <p:grpSpPr>
          <a:xfrm>
            <a:off x="1251000" y="3333600"/>
            <a:ext cx="3399840" cy="2406240"/>
            <a:chOff x="1251000" y="3333600"/>
            <a:chExt cx="3399840" cy="2406240"/>
          </a:xfrm>
        </p:grpSpPr>
        <p:sp>
          <p:nvSpPr>
            <p:cNvPr id="121" name="Rectangle 96"/>
            <p:cNvSpPr/>
            <p:nvPr/>
          </p:nvSpPr>
          <p:spPr>
            <a:xfrm>
              <a:off x="2228760" y="3333600"/>
              <a:ext cx="1235160" cy="581400"/>
            </a:xfrm>
            <a:prstGeom prst="rect">
              <a:avLst/>
            </a:prstGeom>
            <a:solidFill>
              <a:srgbClr val="ff99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倍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97"/>
            <p:cNvSpPr/>
            <p:nvPr/>
          </p:nvSpPr>
          <p:spPr>
            <a:xfrm>
              <a:off x="1251000" y="3917520"/>
              <a:ext cx="3399840" cy="1822320"/>
            </a:xfrm>
            <a:prstGeom prst="ellipse">
              <a:avLst/>
            </a:prstGeom>
            <a:solidFill>
              <a:srgbClr val="ff99cc">
                <a:alpha val="80000"/>
              </a:srgbClr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98"/>
          <p:cNvSpPr/>
          <p:nvPr/>
        </p:nvSpPr>
        <p:spPr>
          <a:xfrm>
            <a:off x="1440000" y="4133880"/>
            <a:ext cx="2894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  8 1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0 28  32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0  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9"/>
          <p:cNvSpPr/>
          <p:nvPr/>
        </p:nvSpPr>
        <p:spPr>
          <a:xfrm>
            <a:off x="3491280" y="43369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0"/>
          <p:cNvSpPr/>
          <p:nvPr/>
        </p:nvSpPr>
        <p:spPr>
          <a:xfrm>
            <a:off x="4083480" y="43275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1"/>
          <p:cNvSpPr/>
          <p:nvPr/>
        </p:nvSpPr>
        <p:spPr>
          <a:xfrm>
            <a:off x="3534120" y="46990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2"/>
          <p:cNvSpPr/>
          <p:nvPr/>
        </p:nvSpPr>
        <p:spPr>
          <a:xfrm>
            <a:off x="4075560" y="4705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4"/>
          <p:cNvSpPr/>
          <p:nvPr/>
        </p:nvSpPr>
        <p:spPr>
          <a:xfrm>
            <a:off x="-254160" y="0"/>
            <a:ext cx="963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几个数公有的倍数，叫做这几个数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公倍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其中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最小的一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叫做这几个数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最小公倍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Motion origin="layout" path="M 5.55112E-017 -0.12373 L 5.55112E-017 3.25624E-006 E">
                                      <p:cBhvr>
                                        <p:cTn id="7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要五"/>
          <p:cNvPicPr/>
          <p:nvPr/>
        </p:nvPicPr>
        <p:blipFill>
          <a:blip r:embed="rId1"/>
          <a:stretch/>
        </p:blipFill>
        <p:spPr>
          <a:xfrm>
            <a:off x="144360" y="620640"/>
            <a:ext cx="8820360" cy="59770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260360" y="1116000"/>
            <a:ext cx="33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Arial"/>
                <a:ea typeface="华文新魏"/>
              </a:rPr>
              <a:t>小猴子过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图片10"/>
          <p:cNvPicPr/>
          <p:nvPr/>
        </p:nvPicPr>
        <p:blipFill>
          <a:blip r:embed="rId2"/>
          <a:stretch/>
        </p:blipFill>
        <p:spPr>
          <a:xfrm>
            <a:off x="276120" y="2387520"/>
            <a:ext cx="1568520" cy="18748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4"/>
          <p:cNvGrpSpPr/>
          <p:nvPr/>
        </p:nvGrpSpPr>
        <p:grpSpPr>
          <a:xfrm>
            <a:off x="4643280" y="3645000"/>
            <a:ext cx="4113000" cy="1812960"/>
            <a:chOff x="4643280" y="3645000"/>
            <a:chExt cx="4113000" cy="1812960"/>
          </a:xfrm>
        </p:grpSpPr>
        <p:sp>
          <p:nvSpPr>
            <p:cNvPr id="133" name="Freeform 4"/>
            <p:cNvSpPr/>
            <p:nvPr/>
          </p:nvSpPr>
          <p:spPr>
            <a:xfrm>
              <a:off x="4643280" y="3645000"/>
              <a:ext cx="4113000" cy="181296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996600"/>
                </a:gs>
              </a:gsLst>
              <a:lin ang="5400000"/>
            </a:gra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0"/>
            <p:cNvSpPr/>
            <p:nvPr/>
          </p:nvSpPr>
          <p:spPr>
            <a:xfrm>
              <a:off x="5598000" y="4000680"/>
              <a:ext cx="2818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以内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和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公倍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2355840" y="4292640"/>
            <a:ext cx="3960360" cy="1477800"/>
            <a:chOff x="2355840" y="4292640"/>
            <a:chExt cx="3960360" cy="1477800"/>
          </a:xfrm>
        </p:grpSpPr>
        <p:sp>
          <p:nvSpPr>
            <p:cNvPr id="136" name="Freeform 5"/>
            <p:cNvSpPr/>
            <p:nvPr/>
          </p:nvSpPr>
          <p:spPr>
            <a:xfrm>
              <a:off x="2355840" y="4292640"/>
              <a:ext cx="3960360" cy="147780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996600"/>
                </a:gs>
              </a:gsLst>
              <a:lin ang="5400000"/>
            </a:gra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9"/>
            <p:cNvSpPr/>
            <p:nvPr/>
          </p:nvSpPr>
          <p:spPr>
            <a:xfrm>
              <a:off x="3110760" y="4638600"/>
              <a:ext cx="31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以内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倍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6"/>
          <p:cNvGrpSpPr/>
          <p:nvPr/>
        </p:nvGrpSpPr>
        <p:grpSpPr>
          <a:xfrm>
            <a:off x="141120" y="4575240"/>
            <a:ext cx="3309840" cy="1511280"/>
            <a:chOff x="141120" y="4575240"/>
            <a:chExt cx="3309840" cy="1511280"/>
          </a:xfrm>
        </p:grpSpPr>
        <p:sp>
          <p:nvSpPr>
            <p:cNvPr id="139" name="Freeform 6"/>
            <p:cNvSpPr/>
            <p:nvPr/>
          </p:nvSpPr>
          <p:spPr>
            <a:xfrm>
              <a:off x="141120" y="4575240"/>
              <a:ext cx="3309840" cy="151128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996600"/>
                </a:gs>
              </a:gsLst>
              <a:lin ang="5400000"/>
            </a:gra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237240" y="5226120"/>
              <a:ext cx="319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以内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倍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5916600" y="2998800"/>
            <a:ext cx="2633760" cy="3527280"/>
            <a:chOff x="5916600" y="2998800"/>
            <a:chExt cx="2633760" cy="3527280"/>
          </a:xfrm>
        </p:grpSpPr>
        <p:pic>
          <p:nvPicPr>
            <p:cNvPr id="142" name="Picture 3" descr="台湾矢量卡通图库 - 可爱俏皮动物篇一32 - 卡通猴子向量图32"/>
            <p:cNvPicPr/>
            <p:nvPr/>
          </p:nvPicPr>
          <p:blipFill>
            <a:blip r:embed="rId1"/>
            <a:stretch/>
          </p:blipFill>
          <p:spPr>
            <a:xfrm>
              <a:off x="5916600" y="2998800"/>
              <a:ext cx="2633760" cy="35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File"/>
            <p:cNvSpPr/>
            <p:nvPr/>
          </p:nvSpPr>
          <p:spPr>
            <a:xfrm>
              <a:off x="5932440" y="4686120"/>
              <a:ext cx="2470320" cy="17607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"/>
          <p:cNvGrpSpPr/>
          <p:nvPr/>
        </p:nvGrpSpPr>
        <p:grpSpPr>
          <a:xfrm>
            <a:off x="3116160" y="1450800"/>
            <a:ext cx="2694240" cy="3867480"/>
            <a:chOff x="3116160" y="1450800"/>
            <a:chExt cx="2694240" cy="3867480"/>
          </a:xfrm>
        </p:grpSpPr>
        <p:pic>
          <p:nvPicPr>
            <p:cNvPr id="145" name="Picture 6" descr="台湾矢量卡通图库 - 可爱俏皮动物篇一29 - 卡通兔子向量图29"/>
            <p:cNvPicPr/>
            <p:nvPr/>
          </p:nvPicPr>
          <p:blipFill>
            <a:blip r:embed="rId2"/>
            <a:stretch/>
          </p:blipFill>
          <p:spPr>
            <a:xfrm>
              <a:off x="3164040" y="1450800"/>
              <a:ext cx="2646360" cy="32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File"/>
            <p:cNvSpPr/>
            <p:nvPr/>
          </p:nvSpPr>
          <p:spPr>
            <a:xfrm>
              <a:off x="3116160" y="3513240"/>
              <a:ext cx="2616480" cy="1805040"/>
            </a:xfrm>
            <a:prstGeom prst="pi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8"/>
          <p:cNvGrpSpPr/>
          <p:nvPr/>
        </p:nvGrpSpPr>
        <p:grpSpPr>
          <a:xfrm>
            <a:off x="422280" y="1519200"/>
            <a:ext cx="2457360" cy="3054240"/>
            <a:chOff x="422280" y="1519200"/>
            <a:chExt cx="2457360" cy="3054240"/>
          </a:xfrm>
        </p:grpSpPr>
        <p:pic>
          <p:nvPicPr>
            <p:cNvPr id="148" name="Picture 9" descr="图片10"/>
            <p:cNvPicPr/>
            <p:nvPr/>
          </p:nvPicPr>
          <p:blipFill>
            <a:blip r:embed="rId3"/>
            <a:stretch/>
          </p:blipFill>
          <p:spPr>
            <a:xfrm>
              <a:off x="1058760" y="1519200"/>
              <a:ext cx="1568520" cy="18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File"/>
            <p:cNvSpPr/>
            <p:nvPr/>
          </p:nvSpPr>
          <p:spPr>
            <a:xfrm>
              <a:off x="422280" y="2884320"/>
              <a:ext cx="2457360" cy="168912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WordArt 38"/>
          <p:cNvSpPr txBox="1"/>
          <p:nvPr/>
        </p:nvSpPr>
        <p:spPr>
          <a:xfrm>
            <a:off x="5032440" y="838080"/>
            <a:ext cx="379548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求最小公倍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1" name="Text Box 39"/>
          <p:cNvSpPr/>
          <p:nvPr/>
        </p:nvSpPr>
        <p:spPr>
          <a:xfrm>
            <a:off x="1025640" y="3516480"/>
            <a:ext cx="207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  <a:ea typeface="楷体_GB2312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0"/>
          <p:cNvSpPr/>
          <p:nvPr/>
        </p:nvSpPr>
        <p:spPr>
          <a:xfrm>
            <a:off x="3683160" y="421488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1"/>
          <p:cNvSpPr/>
          <p:nvPr/>
        </p:nvSpPr>
        <p:spPr>
          <a:xfrm>
            <a:off x="6567480" y="5418000"/>
            <a:ext cx="16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566640" y="1432080"/>
            <a:ext cx="7586640" cy="1068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如果较大的数是较小的数的倍数，那么较大的数就是这两个数的最小公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711360" y="3849840"/>
            <a:ext cx="7608600" cy="1068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如果两个数的公因数只有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那么这两个数的积就是它们的最小公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324080" y="2712960"/>
            <a:ext cx="610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最小公倍就是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最小公倍数就是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891080" y="5173560"/>
            <a:ext cx="571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最小公倍数就是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5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最大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也是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PAODAO"/>
          <p:cNvPicPr/>
          <p:nvPr/>
        </p:nvPicPr>
        <p:blipFill>
          <a:blip r:embed="rId1">
            <a:lum bright="70000" contrast="-70000"/>
          </a:blip>
          <a:srcRect l="0" t="7943" r="-2154" b="0"/>
          <a:stretch/>
        </p:blipFill>
        <p:spPr>
          <a:xfrm>
            <a:off x="158760" y="630360"/>
            <a:ext cx="8999640" cy="5994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57"/>
          <p:cNvPicPr/>
          <p:nvPr/>
        </p:nvPicPr>
        <p:blipFill>
          <a:blip r:embed="rId2"/>
          <a:stretch/>
        </p:blipFill>
        <p:spPr>
          <a:xfrm>
            <a:off x="447840" y="4348080"/>
            <a:ext cx="847440" cy="2138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11121"/>
          <p:cNvPicPr/>
          <p:nvPr/>
        </p:nvPicPr>
        <p:blipFill>
          <a:blip r:embed="rId3"/>
          <a:stretch/>
        </p:blipFill>
        <p:spPr>
          <a:xfrm>
            <a:off x="5202360" y="4105440"/>
            <a:ext cx="1611360" cy="24508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12"/>
          <p:cNvSpPr/>
          <p:nvPr/>
        </p:nvSpPr>
        <p:spPr>
          <a:xfrm>
            <a:off x="900000" y="2714760"/>
            <a:ext cx="2901960" cy="1133280"/>
          </a:xfrm>
          <a:prstGeom prst="cloudCallout">
            <a:avLst>
              <a:gd name="adj1" fmla="val -38458"/>
              <a:gd name="adj2" fmla="val 72550"/>
            </a:avLst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898560" y="2968560"/>
            <a:ext cx="319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跑一圈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8" descr="42"/>
          <p:cNvPicPr/>
          <p:nvPr/>
        </p:nvPicPr>
        <p:blipFill>
          <a:blip r:embed="rId4"/>
          <a:stretch/>
        </p:blipFill>
        <p:spPr>
          <a:xfrm>
            <a:off x="3992400" y="3300480"/>
            <a:ext cx="1308240" cy="32065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9"/>
          <p:cNvSpPr/>
          <p:nvPr/>
        </p:nvSpPr>
        <p:spPr>
          <a:xfrm>
            <a:off x="4645080" y="1611360"/>
            <a:ext cx="3220920" cy="1031760"/>
          </a:xfrm>
          <a:prstGeom prst="cloudCallout">
            <a:avLst>
              <a:gd name="adj1" fmla="val -39601"/>
              <a:gd name="adj2" fmla="val 74768"/>
            </a:avLst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4875120" y="1822320"/>
            <a:ext cx="28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跑一圈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0"/>
          <p:cNvSpPr/>
          <p:nvPr/>
        </p:nvSpPr>
        <p:spPr>
          <a:xfrm>
            <a:off x="7010280" y="3541680"/>
            <a:ext cx="2133720" cy="928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2"/>
          <p:cNvSpPr/>
          <p:nvPr/>
        </p:nvSpPr>
        <p:spPr>
          <a:xfrm>
            <a:off x="6008760" y="3048120"/>
            <a:ext cx="2901960" cy="755640"/>
          </a:xfrm>
          <a:prstGeom prst="cloudCallout">
            <a:avLst>
              <a:gd name="adj1" fmla="val -38458"/>
              <a:gd name="adj2" fmla="val 83824"/>
            </a:avLst>
          </a:prstGeom>
          <a:solidFill>
            <a:srgbClr val="ff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5985000" y="3100320"/>
            <a:ext cx="277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要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23"/>
          <p:cNvSpPr txBox="1"/>
          <p:nvPr/>
        </p:nvSpPr>
        <p:spPr>
          <a:xfrm>
            <a:off x="297000" y="885960"/>
            <a:ext cx="4572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能提出数学问题吗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110185d08 拷贝"/>
          <p:cNvPicPr/>
          <p:nvPr/>
        </p:nvPicPr>
        <p:blipFill>
          <a:blip r:embed="rId1"/>
          <a:stretch/>
        </p:blipFill>
        <p:spPr>
          <a:xfrm>
            <a:off x="108000" y="538200"/>
            <a:ext cx="8928000" cy="605952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3"/>
          <p:cNvGrpSpPr/>
          <p:nvPr/>
        </p:nvGrpSpPr>
        <p:grpSpPr>
          <a:xfrm>
            <a:off x="7481880" y="3587760"/>
            <a:ext cx="431640" cy="459720"/>
            <a:chOff x="7481880" y="3587760"/>
            <a:chExt cx="431640" cy="459720"/>
          </a:xfrm>
        </p:grpSpPr>
        <p:sp>
          <p:nvSpPr>
            <p:cNvPr id="173" name="Text Box 4"/>
            <p:cNvSpPr/>
            <p:nvPr/>
          </p:nvSpPr>
          <p:spPr>
            <a:xfrm>
              <a:off x="7481880" y="35877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5"/>
            <p:cNvSpPr/>
            <p:nvPr/>
          </p:nvSpPr>
          <p:spPr>
            <a:xfrm>
              <a:off x="7553160" y="4019400"/>
              <a:ext cx="28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Picture 6" descr="u=333909816,838731457&amp;gp=3"/>
          <p:cNvPicPr/>
          <p:nvPr/>
        </p:nvPicPr>
        <p:blipFill>
          <a:blip r:embed="rId2"/>
          <a:stretch/>
        </p:blipFill>
        <p:spPr>
          <a:xfrm>
            <a:off x="4387680" y="3983040"/>
            <a:ext cx="1195560" cy="141768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7"/>
          <p:cNvSpPr/>
          <p:nvPr/>
        </p:nvSpPr>
        <p:spPr>
          <a:xfrm>
            <a:off x="5168880" y="1814400"/>
            <a:ext cx="3772080" cy="1828800"/>
          </a:xfrm>
          <a:prstGeom prst="cloudCallout">
            <a:avLst>
              <a:gd name="adj1" fmla="val -40152"/>
              <a:gd name="adj2" fmla="val 84550"/>
            </a:avLst>
          </a:prstGeom>
          <a:solidFill>
            <a:srgbClr val="ffffcc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5318280" y="215748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cc"/>
                </a:solidFill>
                <a:latin typeface="Arial"/>
                <a:ea typeface="楷体_GB2312"/>
              </a:rPr>
              <a:t>我还知道一种方法求最小公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11121"/>
          <p:cNvPicPr/>
          <p:nvPr/>
        </p:nvPicPr>
        <p:blipFill>
          <a:blip r:embed="rId3"/>
          <a:stretch/>
        </p:blipFill>
        <p:spPr>
          <a:xfrm>
            <a:off x="237960" y="4162320"/>
            <a:ext cx="1481400" cy="24512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0"/>
          <p:cNvSpPr/>
          <p:nvPr/>
        </p:nvSpPr>
        <p:spPr>
          <a:xfrm>
            <a:off x="928800" y="2192400"/>
            <a:ext cx="2873160" cy="1262160"/>
          </a:xfrm>
          <a:prstGeom prst="cloudCallout">
            <a:avLst>
              <a:gd name="adj1" fmla="val -22046"/>
              <a:gd name="adj2" fmla="val 111888"/>
            </a:avLst>
          </a:pr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楷体_GB2312"/>
              </a:rPr>
              <a:t>是什么方法呀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cp:keywords/>
  <dc:language>en-US</dc:language>
  <cp:lastModifiedBy>Administrator</cp:lastModifiedBy>
  <dcterms:modified xsi:type="dcterms:W3CDTF">2015-03-03T02:37:16Z</dcterms:modified>
  <cp:revision>1451</cp:revision>
  <dc:subject/>
  <dc:title>幻灯片 1</dc:title>
</cp:coreProperties>
</file>