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5.png" ContentType="image/png"/>
  <Override PartName="/ppt/media/image10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A66C-7E78-44AA-A8C7-9E82CD61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6AAD-03E5-42DD-B65F-563E65E8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AA5C6-FF54-4393-A213-9246BDA6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08210-6136-477C-ADB6-A587E9FA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C6E21-6435-4EE6-A48C-E41250C4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F77A7-4206-4349-8015-71EECE9A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96340-58D4-4CC5-A089-9E9D62F8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BFE5B-00B1-4746-91BE-14EC9E88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1972D-4F84-448C-8337-75008D75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C9C18-79FB-4DF8-9B22-86A2FF6F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6FD58-4376-4D5D-B54D-04400E4E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9EBF2-C6FA-4E8A-A04B-9714D699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412C-C070-4B71-A81D-77CDD750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E432D-BFE2-4761-ADB3-773C5188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32D11-09DA-4A51-8B7D-C62DD10C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6C2CA-085F-4AEA-A21D-371B96F4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716C3-9E79-402F-A2C5-C02F764E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53F58-110B-420B-9BFB-2194F2D4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013C4-C761-450A-866F-34D7AF68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3E19B-0BC6-45EF-8B43-ADA7DD36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39F5C-AD86-462A-9EAF-EC74C30E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36BAD-7DCE-4A83-B119-FDD79161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FC29D-48DA-4261-99E1-922F542B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E496-20BF-478A-B62E-C3DBB970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EEDC9-C78F-4504-8453-E87B2B8B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8D801-0943-43B0-97B5-2FC3800D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8B016-5C82-4B7A-9F69-443A97C6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01E8B-BCCF-4030-99C4-8087865F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F7D16-F3F7-4074-8C80-1AAC5CAB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4293E-0AA1-44C2-A822-8DFC1B25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06823-B3EB-4C01-AD4B-9EAFDC6C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023BF-4A16-44F0-981E-8AAEC1BD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35787-CCED-45EB-9179-85B3B9DB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30350-6C8D-4D5F-A0B0-FC13789C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5B50-7876-4530-8466-AD1CAAC7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93814-7C43-4C4A-A3D6-10B7CC19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3002F-018A-4317-A2F1-8026C232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21A6E-0015-4DE5-A635-C768FC36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512BC-3194-4534-82B2-AF17BEAF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CCE83-72C0-4B5F-8C5B-B34C1498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264A9-6D4A-4AAD-AD89-6E5259AE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AA983-D3E4-414A-A41C-A52E3EF6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3E88C-0260-4899-B4D6-2C0CE3B7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A16D2-56E8-4497-A44F-178BAFB1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F7F35-50E1-41FB-9F7D-16B4090F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924E-768B-4C9F-B9C4-AFE502AE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EBFA1-149F-46A6-B529-F79C64AA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98741-3562-456A-BA71-9ED98195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B174D-3C20-4A04-9C88-C660A6B5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6B67A-678F-44EF-A669-2ED5247D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1FAA6-1EC2-4C43-B238-8B0A4E78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3815A-8444-4098-9E2A-54DB75A0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02EF39-1240-417E-99BD-2E79F092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90EF2D-A078-4FD1-9436-CE60C62E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EFD601-CDF9-42CC-BF1E-54A94970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D706A6-D82A-4305-8648-47A2BFCF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F79B-0B04-4C5F-8E70-12FB029E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39E3CC-E31A-4503-BB0F-9EA9364E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FE5217-9B2C-4C86-BE16-27A9E893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BF2E53-4B5D-47EC-8673-CAC73CC8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FBA28-2664-4989-BFD3-56597079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988651-8841-4F88-A220-893D7AA4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BB5F7A-BD56-4128-BC9C-CD62D2DF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C526F0-C4E1-4334-9E19-892C4D76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AC4000-05D2-470D-9207-16E53C6C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1ACAD5-94DE-4B9C-8D9D-DEB2D973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735A07-760A-4AFA-9EFF-72375F6F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E715-4289-4BD1-9952-7F66A3E5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CCEE5E-7016-4E27-843B-1D4528A3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A650CD-0884-4836-93BD-6C0BDA86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0AFAD1-BBD7-49FF-948A-C9483093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85DB99-C99C-48F4-9360-485268F7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8FA709-04A7-41A6-ADDF-7F3A5757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F49BEE-5E61-44AE-AAC8-4943DA66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9C3684-73B4-40CE-BD9D-F9B5A338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06C9D3-4BE3-442C-8C08-5E7A31E7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C73A9C-24E8-4323-9319-B6AF978E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56EFCA-C962-4666-AF9A-C34C9305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55F2-5214-4743-A391-EDC32861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DE4B81-2A57-4B73-9CA8-8B05BB1A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1837BE-9E3A-49E6-8929-0895A663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B74DBF-E775-4EAA-9923-964A1744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CDC96F-AA09-4EA4-9AD4-C682F2A6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550D1F-2E39-4507-8D8F-BD228801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07222B-1FE4-4698-A142-BE0DBEFE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5245A1-3BC2-4596-A431-D8926943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DE05DA-4FA4-4F53-8100-3DA4C4AC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C10B9D-09DD-47E0-A415-1C030C30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CCBF3A-9B22-41B5-A47E-49A638BF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7F7E-D5D4-41F0-A5AE-BFDEDD76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7D8969-9873-4BA8-9332-B1BC2D0D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D5A156-9E63-4325-8FE7-F774D260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409D44-68A0-453C-86F2-73F95965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B1762E-2985-4A70-856B-4078A545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6783B1-2E5B-4D31-9C60-A7D48C5F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A5E2A7-F2E5-48E0-8093-685659CD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5BD916-D457-4A1D-AE3C-0CFA2D53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6455DC-4233-4C04-BF4E-3EC9E7D3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630654-C41A-49FF-9CEE-9BCBF5CE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A5AD2D-ED93-4C5E-AAA5-1F91844E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5615-1F90-4096-B55E-6E5644A2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4D8EAA-AA7A-4B04-8317-D7C87BBB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49FBB1-31B3-43BF-906C-B0C5D310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6F33E2-6275-4B2E-AE8D-FB864CBA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C2FCFC-E7A1-41C0-84C2-A5FE7AD8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5283FA-54A6-475F-BBB4-7C2C8F6A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43E93A-8407-4BA8-A70A-5CDBA4CF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6F6897-DAC3-47F6-A25C-21A762CE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F88A42-2B7D-43D3-B5A3-4CD0F2ED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66B0C9-8F08-4313-9649-0FB6F644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40D6D6-BCAD-4D45-B900-E5154A95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724-D622-4513-BCF5-30CEE35A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0786-75C6-4F0D-B502-E1510F8F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669D13-96B5-433B-ACB7-409C4C50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87A6D2-01B5-4F51-8167-EF9D47C4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8CE790-55A3-429A-8F0C-05FEEE10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0FBE4B-90BA-470F-96A2-B31C29DF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3EB8F5-C800-4206-9C85-FD1EA7B1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66DA9C-FD60-4CD7-8A2A-BCD58728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92FB39-7BA1-451B-9716-1AD0EA10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4EA09F-7308-4A1B-BFEF-D17B5982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251EE6-72B2-43CD-A0D8-786535A7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582E2D-7761-4A53-81E3-207143A2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226F-509D-469F-A2C7-819B26C7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3216B3-BACF-42D8-8807-B5F7111C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122C24-F173-4BB5-B047-41DBA383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24F253-ED7E-4B97-A94C-F4D6047D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7387C9-8C58-4248-97F3-B666D01F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C200ED-AC04-46BC-8DBF-E0BBA871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52B173-1CE2-471B-98F0-06906E42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AFEF1C-B554-474B-9D04-806FA9CC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3242EB-1E7C-4F60-962E-85BA77CF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EA801F-F46E-4AAF-92B1-0AF2B1BE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2965CE-F9D8-4F3E-A01A-76D9DC26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8071-4027-4C0B-88B4-019CC7CC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087FC9-6600-48C3-9BB1-DD4E9AAB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809BC6-E972-41ED-B72F-2FA33C7B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F0D090-9346-499B-9BB1-57E91208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3279C6-25AF-44AC-83B8-A93B50B1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E7E43D-27C2-40FE-B319-BB48FF48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D2510C-B6CA-43F4-AAA2-396B30D3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AEE728-853D-4284-A204-A5FCEFA5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361F08-1A53-44CE-B424-1B0A78BD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4E5754-C385-4E02-8BEE-2BCAF085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CF2064-09FF-438F-BA88-F7824D7C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D8D5-D505-4002-9664-15D9EC29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1299C1-CABF-492B-B8A9-869DF460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75FA07-4068-400B-9907-4229C798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3C76A5-DD71-4E50-A03F-24DCC727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80E15F-4A6D-44E3-9C41-E3FAC1D8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7F37E3-FE78-4F45-AF03-5F635D8D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E3EC36-9146-4671-97C0-7E1FA0AF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3D1874-4F36-4B64-AEB2-0DA5AD24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71A376-B353-47E7-B590-E9FA9D8F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696913-D43A-4FAD-B89C-29A4899B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702A16-5963-4B4A-B8F1-5A26EA78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9EA8-2BB5-4921-9B08-89D79BE8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DAC0DF-2234-4F4B-8518-2CECAB53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E2FBD7-6D73-4FC8-8B0C-EAC9C220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D22DF1-F27C-4B3D-B44B-3C1AFCE9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F12819-C84D-47CB-905A-D38787AD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F2B813-3765-43F3-A9F2-B7C81D6E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B8E8F9-3B39-48AD-8E11-3B6299B2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3D6988-91B5-47B5-8D43-517A214B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B7D883-1AC3-4922-B275-75A9106F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F65CC7-547B-443B-B2B2-CFF9B99D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3C05C1-2E43-47CD-AF8C-B3E57ED1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185C5-53B4-4A8C-81A8-37904F5A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8D1D99-2A80-449B-904D-9A732C4C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31FBF7-7DBB-4CA4-A892-F6F10FEF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9436C5-B8D3-4FE3-A530-24CD1299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540109-8B5E-457A-B975-7B4780A2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0A3A6A-D709-4A91-A7C8-DA5EDE79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F884B7-1C48-4D94-B96F-923CC2EF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BAB9D1-214B-428D-B6C5-41161CF3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0C299B-AF9C-4E99-9322-8DC59150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986F8D-3A39-4F96-92C7-726AA717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26109A-ADA0-4EF6-AF14-B0D8455C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BCBAD-B2EA-4BB3-ADB8-E430A0BE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E5983A-E648-4882-963D-768C5BAF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CD5BC2-3C49-4B4F-B8BC-28073CF9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099C8C-8997-4A80-8A6E-975F303C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1B43F4-4F1C-41F9-B6A1-E3D35BDA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6AF5EA-A37D-4F66-BCB3-F97BBBFE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121A80-9926-4144-9896-3657997C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FBD607-CA94-427C-B3AB-798B7F45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E83E4E-E1D4-474B-9E2F-8D74C0CA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A956BE-3948-47EB-9EFC-346F7E99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BD16F5-B305-4F10-BAC3-F1823C56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5D441-D07D-4ED1-97C0-A102251B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7B73D8-6728-4247-B80C-B8181051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3E68AD-6F38-4FBD-936B-D8288F02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7C7A46-F90A-467E-B85E-795E2CD0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55A29A-6650-424F-897C-3178F792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3C61BD-D9C2-48E2-8180-F012E7E2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37861C-139E-48D0-93B0-ACB849E3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50C9AB-4260-4C29-928D-68E6AA47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5ED3C8-CF1B-48C4-9772-36E72F85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EDF1F2-2010-42DD-B95A-508DBF4C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CF9948-4CA9-41E6-AC31-22550BD9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43DA1-D346-4829-9F07-89AAF831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3E16D6-FB72-454C-87CF-C811EC0F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F694F3-FAC9-4E17-B20F-4D3058DE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F7DB76-0C5B-4DA9-94E1-C3FFED8C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935357-2738-4F54-9D41-F3A16835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22C6FA-2365-45E7-A4FE-EE21C715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2DDF46-04EB-4664-909C-70FD4B4D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227BDF-B6DB-4B31-8167-298B644B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2A2FE1-B2B7-4233-A7C7-78A51854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CF8F5B-B2E4-4FB4-B6E4-93EB2DFF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2222E-6C2F-4192-B1DF-25514339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FD8C-9B10-4F62-98E2-E9E34181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DB72E-7DE7-45FA-BBD3-A17EB703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D002B-592D-4610-A1DE-4E7AC84E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89729-AEB6-4E67-8C72-AA839923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014EA-9585-4FD0-AFCC-8BC77552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C4172-8427-4795-A1BC-28CD1A06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276C5-F028-4F7A-90A0-21DB2442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13949-263D-4BE5-B0B4-8DBBACA4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AF8F5-436B-47A4-8A10-DC0B2BEA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787F7-91DA-4079-96BD-5694701F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496C3-98D9-4073-8E41-54237A0C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7662-1CB1-4210-8BD1-3E987CD6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A6CDC-0D9D-4231-9E52-6A45595E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910B2-5EEC-4893-AB75-ED4FD56D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4CEFE-FBA6-4AC4-9E78-F5543B87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56515-9D15-434C-9697-726234A2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734D5-2768-40E3-A637-39549EFB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32342-A727-4414-8AEF-111D0F74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8B863-00F9-4E9C-96E6-7C3CC352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7D458-5B89-4912-B972-F7F68DC0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6D9CF-3446-4804-A3FD-AA20BF84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A51A8-10DF-421D-AB11-3A5DF7DE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73BC-CF43-4A76-8483-F5387316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32C47-0DF6-4FD0-B148-D8F50194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C0D3C-D63D-4E1D-B533-7DF77A5F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F700E-86EA-46F9-958A-90B6D95E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14F8A-3603-4500-8ABF-743D4B86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BB33D-D49E-4578-8B5E-ECD72AA1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6D377-9206-4826-B302-F939280E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0D7ED-767D-4B61-B4A3-E93EB2D3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C2929-9009-45F0-897E-A7055E22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C197B-058C-464B-957E-A1EDF71B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14AAE-F268-48B2-986D-6ACE610E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9804-E7B9-416F-AF58-3220263E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C452E-18A7-4325-A683-C9DC86DB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1D533-20F6-4914-BC41-B21B0117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8C4BE-011B-407A-A725-27A6C694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09C4C-E32D-4BD1-A7A4-3DCF2D93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EBEAC-5655-41AC-9E8B-D3DA58BE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3894F-F75C-4355-B4AC-52DCCEEB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EA961-A102-41D5-BE33-91E95ECA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3286F-4400-4D18-B407-84DE3509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83B9D-97BE-489A-B6BF-2FA7E985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9FFCA-345A-4929-A8AC-9D4910A0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D001-6182-4274-9DAA-EC16D956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A27F7-0CC9-49A6-930D-49A25B6F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575A6-F3DD-4081-85EC-CA79855A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A7BF9-2EC0-4ADF-9123-863CC7D1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1BB60-6D4D-40C7-9EB7-BA71D590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22BB0-B0BB-4EEF-8E7E-3B42333B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8D3CE-CEA3-49DA-94D3-6C9E5411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2C74A-95A0-4F1C-95BF-4E30BD9E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0D631-9AA6-4A10-92C0-82F63006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D8CF5-42DA-494C-9BF6-DC6780E9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294C6-6D28-4774-A186-43A22362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A95D-9F43-4E63-93B5-A60178B4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F72C4-0F1F-44EA-8040-0F685989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612E9-031E-4D20-9833-7BDD7CE7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BBC98-FF10-4330-B660-3E57456E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7AF0B-6C21-477B-A0D7-EF83B8EA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21907-5290-446B-B5DB-8D448BA5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12C0A-3587-4C38-B194-A9266DD5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4F63D-39D2-4917-ADD4-30F4CC3C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62776-9405-47C8-9995-06B8E2D7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985EE-CDF8-4124-B5F6-13576D5D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98B36-73CB-4DC0-8816-A7B52138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A134-9E6D-4B8A-850B-8CE076F4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E7C9E-B53C-4C4D-AB34-4729581D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B9F57-69E7-40BF-9547-F625E329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EB62B-8115-4C9E-8F3D-534F6FEB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E5EC6-623D-4B10-9867-0EDC8FCC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93673-662E-4433-AAE9-4BDBD3DE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C2BE2-C43D-4DA9-B80A-D43F58BE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BB60C-ECA1-4B8C-8FB7-2E378C4E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957AA-E813-4236-92A9-D1B4E066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73241-75EF-4DCC-B0BE-51FBE897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13CBF-41F9-463D-9965-321F3A04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6315-580B-4BDF-BDF1-2985EDA79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官方logo"/>
          <p:cNvPicPr/>
          <p:nvPr/>
        </p:nvPicPr>
        <p:blipFill>
          <a:blip r:embed="rId3"/>
          <a:stretch/>
        </p:blipFill>
        <p:spPr>
          <a:xfrm>
            <a:off x="0" y="5448240"/>
            <a:ext cx="2933640" cy="140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05CE-863E-4A46-B86B-F005D3E2E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15CD-0D67-49CB-9E28-A1B016706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719D-1441-41BC-89A1-16CB75E5C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9AA2-1B7E-4EAC-8EA8-4B3C839F2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DF5F-5448-402D-B5F6-51D88F924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505E-7D6A-4DBA-8293-75E7C5D34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903B-D005-455B-98AA-EAF454C2A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B50D-C915-40AC-8F72-17C0B4012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278C-BDD8-4265-914A-BC14AB1CF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1CCA-9AD4-475C-8988-7030FC5E5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39F3-3EA5-4EE4-BE07-A2DF2490D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官方logo"/>
          <p:cNvPicPr/>
          <p:nvPr/>
        </p:nvPicPr>
        <p:blipFill>
          <a:blip r:embed="rId3"/>
          <a:stretch/>
        </p:blipFill>
        <p:spPr>
          <a:xfrm>
            <a:off x="0" y="5448240"/>
            <a:ext cx="2933640" cy="140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1AAD-A326-4BEF-A517-96A7E75C1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58E1-3807-4B75-BD5D-00AA369A7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BFA3-6EDD-472C-B4DD-2E459E4C2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7D41-83D6-4A3F-BF05-15C9F5B04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2B2C-2A53-4C4E-B112-D85F88F01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官方logo"/>
          <p:cNvPicPr/>
          <p:nvPr/>
        </p:nvPicPr>
        <p:blipFill>
          <a:blip r:embed="rId3"/>
          <a:stretch/>
        </p:blipFill>
        <p:spPr>
          <a:xfrm>
            <a:off x="0" y="5448240"/>
            <a:ext cx="2933640" cy="1409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3B7F-F779-4F1F-9970-1A887DD07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80E0-30F3-4584-9FC5-75AC07F12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D2E5-2C1D-45DF-8FE9-CEA092FC0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2E75-0A9C-4C2E-BC73-A7B34199B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FF11-1D7A-4E06-A987-27C106C3B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2F64-D186-466D-AFFD-E56055A86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9285-29CA-4AC2-A28B-220ECC6D6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Picture 169" descr="分饼（1）"/>
          <p:cNvPicPr/>
          <p:nvPr/>
        </p:nvPicPr>
        <p:blipFill>
          <a:blip r:embed="rId1"/>
          <a:stretch/>
        </p:blipFill>
        <p:spPr>
          <a:xfrm>
            <a:off x="0" y="189000"/>
            <a:ext cx="9109080" cy="5176800"/>
          </a:xfrm>
          <a:prstGeom prst="rect">
            <a:avLst/>
          </a:prstGeom>
          <a:ln w="0">
            <a:noFill/>
          </a:ln>
        </p:spPr>
      </p:pic>
      <p:sp>
        <p:nvSpPr>
          <p:cNvPr id="988" name="Text Box 174"/>
          <p:cNvSpPr/>
          <p:nvPr/>
        </p:nvSpPr>
        <p:spPr>
          <a:xfrm>
            <a:off x="179280" y="544500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80214"/>
                </a:solidFill>
                <a:latin typeface="Times New Roman"/>
                <a:ea typeface="楷体_GB2312"/>
              </a:rPr>
              <a:t>用圆形纸片代表饼，剪一剪，拼一拼，画一画，并与同学交流自己的想法。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总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大家想想这节课学到了什么知识？怎样运用这些知识？互相讨论一下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WordArt 4"/>
          <p:cNvSpPr txBox="1"/>
          <p:nvPr/>
        </p:nvSpPr>
        <p:spPr>
          <a:xfrm>
            <a:off x="1403280" y="1773360"/>
            <a:ext cx="63374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分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Text Box 5"/>
          <p:cNvSpPr/>
          <p:nvPr/>
        </p:nvSpPr>
        <p:spPr>
          <a:xfrm>
            <a:off x="2742120" y="6397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北师大版五年级数学上册课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170" descr="分饼（2）"/>
          <p:cNvPicPr/>
          <p:nvPr/>
        </p:nvPicPr>
        <p:blipFill>
          <a:blip r:embed="rId1"/>
          <a:srcRect l="46401" t="27562" r="2790" b="57587"/>
          <a:stretch/>
        </p:blipFill>
        <p:spPr>
          <a:xfrm>
            <a:off x="3780000" y="1844640"/>
            <a:ext cx="4859280" cy="122400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pic>
        <p:nvPicPr>
          <p:cNvPr id="992" name="Picture 171" descr="分饼（2）"/>
          <p:cNvPicPr/>
          <p:nvPr/>
        </p:nvPicPr>
        <p:blipFill>
          <a:blip r:embed="rId2"/>
          <a:srcRect l="43207" t="3445" r="2382" b="72450"/>
          <a:stretch/>
        </p:blipFill>
        <p:spPr>
          <a:xfrm>
            <a:off x="3203640" y="189000"/>
            <a:ext cx="5796000" cy="136692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pic>
        <p:nvPicPr>
          <p:cNvPr id="993" name="Picture 173" descr="分饼（2）"/>
          <p:cNvPicPr/>
          <p:nvPr/>
        </p:nvPicPr>
        <p:blipFill>
          <a:blip r:embed="rId3"/>
          <a:srcRect l="792" t="57297" r="86404" b="3724"/>
          <a:stretch/>
        </p:blipFill>
        <p:spPr>
          <a:xfrm>
            <a:off x="0" y="4724280"/>
            <a:ext cx="1152360" cy="151128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74" descr="分饼（2）"/>
          <p:cNvPicPr/>
          <p:nvPr/>
        </p:nvPicPr>
        <p:blipFill>
          <a:blip r:embed="rId4"/>
          <a:srcRect l="75234" t="49883" r="1570" b="1806"/>
          <a:stretch/>
        </p:blipFill>
        <p:spPr>
          <a:xfrm>
            <a:off x="6588000" y="3284640"/>
            <a:ext cx="2305080" cy="187308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pic>
        <p:nvPicPr>
          <p:cNvPr id="995" name="Picture 176" descr="分饼（2）"/>
          <p:cNvPicPr/>
          <p:nvPr/>
        </p:nvPicPr>
        <p:blipFill>
          <a:blip r:embed="rId5"/>
          <a:srcRect l="40811" t="55736" r="47179" b="16379"/>
          <a:stretch/>
        </p:blipFill>
        <p:spPr>
          <a:xfrm>
            <a:off x="2987640" y="3429000"/>
            <a:ext cx="1368360" cy="151272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pic>
        <p:nvPicPr>
          <p:cNvPr id="996" name="Picture 178" descr="分饼（2）"/>
          <p:cNvPicPr/>
          <p:nvPr/>
        </p:nvPicPr>
        <p:blipFill>
          <a:blip r:embed="rId6"/>
          <a:srcRect l="57624" t="55736" r="30385" b="16379"/>
          <a:stretch/>
        </p:blipFill>
        <p:spPr>
          <a:xfrm>
            <a:off x="4788000" y="3429000"/>
            <a:ext cx="1439640" cy="151272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sp>
        <p:nvSpPr>
          <p:cNvPr id="997" name="Line 179"/>
          <p:cNvSpPr/>
          <p:nvPr/>
        </p:nvSpPr>
        <p:spPr>
          <a:xfrm>
            <a:off x="4427640" y="407664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8" name="Line 180"/>
          <p:cNvSpPr/>
          <p:nvPr/>
        </p:nvSpPr>
        <p:spPr>
          <a:xfrm>
            <a:off x="6227640" y="407664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9" name="Object 183"/>
              <p:cNvSpPr txBox="1"/>
              <p:nvPr/>
            </p:nvSpPr>
            <p:spPr>
              <a:xfrm>
                <a:off x="0" y="39060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00" name="Rectangle 18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1" name="Rectangle 186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Object 187"/>
              <p:cNvSpPr txBox="1"/>
              <p:nvPr/>
            </p:nvSpPr>
            <p:spPr>
              <a:xfrm>
                <a:off x="0" y="39060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03" name="Rectangle 18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4" name="Rectangle 190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05" name="Group 211"/>
          <p:cNvGrpSpPr/>
          <p:nvPr/>
        </p:nvGrpSpPr>
        <p:grpSpPr>
          <a:xfrm>
            <a:off x="179280" y="549360"/>
            <a:ext cx="2970000" cy="1746360"/>
            <a:chOff x="179280" y="549360"/>
            <a:chExt cx="2970000" cy="1746360"/>
          </a:xfrm>
        </p:grpSpPr>
        <p:sp>
          <p:nvSpPr>
            <p:cNvPr id="1006" name="AutoShape 181"/>
            <p:cNvSpPr/>
            <p:nvPr/>
          </p:nvSpPr>
          <p:spPr>
            <a:xfrm>
              <a:off x="179280" y="549360"/>
              <a:ext cx="2952720" cy="1710000"/>
            </a:xfrm>
            <a:prstGeom prst="cloudCallout">
              <a:avLst>
                <a:gd name="adj1" fmla="val -43546"/>
                <a:gd name="adj2" fmla="val 95504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007" name="Group 202"/>
            <p:cNvGrpSpPr/>
            <p:nvPr/>
          </p:nvGrpSpPr>
          <p:grpSpPr>
            <a:xfrm>
              <a:off x="322200" y="796320"/>
              <a:ext cx="2827080" cy="1499400"/>
              <a:chOff x="322200" y="796320"/>
              <a:chExt cx="2827080" cy="1499400"/>
            </a:xfrm>
          </p:grpSpPr>
          <p:sp>
            <p:nvSpPr>
              <p:cNvPr id="1008" name="Text Box 182"/>
              <p:cNvSpPr/>
              <p:nvPr/>
            </p:nvSpPr>
            <p:spPr>
              <a:xfrm>
                <a:off x="322200" y="796320"/>
                <a:ext cx="282708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       </a:t>
                </a:r>
                <a:r>
                  <a:rPr b="1" lang="zh-CN" sz="2600" spc="-1" strike="noStrike">
                    <a:solidFill>
                      <a:srgbClr val="f80214"/>
                    </a:solidFill>
                    <a:latin typeface="Times New Roman"/>
                    <a:ea typeface="楷体_GB2312"/>
                  </a:rPr>
                  <a:t>每张饼每个人得     ，每个人共得     张饼。</a:t>
                </a:r>
                <a:r>
                  <a:rPr b="1" lang="zh-CN" sz="26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   </a:t>
                </a:r>
                <a:endParaRPr b="0" lang="en-US" sz="2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1009" name="Group 200"/>
              <p:cNvGrpSpPr/>
              <p:nvPr/>
            </p:nvGrpSpPr>
            <p:grpSpPr>
              <a:xfrm>
                <a:off x="774000" y="1084680"/>
                <a:ext cx="332640" cy="685080"/>
                <a:chOff x="774000" y="1084680"/>
                <a:chExt cx="332640" cy="685080"/>
              </a:xfrm>
            </p:grpSpPr>
            <p:sp>
              <p:nvSpPr>
                <p:cNvPr id="1010" name="Text Box 191"/>
                <p:cNvSpPr/>
                <p:nvPr/>
              </p:nvSpPr>
              <p:spPr>
                <a:xfrm>
                  <a:off x="797760" y="10846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7a77"/>
                      </a:solidFill>
                      <a:latin typeface="Times New Roman"/>
                      <a:ea typeface="楷体_GB2312"/>
                    </a:rPr>
                    <a:t>1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11" name="Text Box 192"/>
                <p:cNvSpPr/>
                <p:nvPr/>
              </p:nvSpPr>
              <p:spPr>
                <a:xfrm>
                  <a:off x="774000" y="13708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7a77"/>
                      </a:solidFill>
                      <a:latin typeface="Times New Roman"/>
                      <a:ea typeface="楷体_GB2312"/>
                    </a:rPr>
                    <a:t>4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12" name="Line 193"/>
                <p:cNvSpPr/>
                <p:nvPr/>
              </p:nvSpPr>
              <p:spPr>
                <a:xfrm>
                  <a:off x="802800" y="1480320"/>
                  <a:ext cx="289080" cy="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3" name="Group 201"/>
              <p:cNvGrpSpPr/>
              <p:nvPr/>
            </p:nvGrpSpPr>
            <p:grpSpPr>
              <a:xfrm>
                <a:off x="774000" y="1610640"/>
                <a:ext cx="313560" cy="685080"/>
                <a:chOff x="774000" y="1610640"/>
                <a:chExt cx="313560" cy="685080"/>
              </a:xfrm>
            </p:grpSpPr>
            <p:sp>
              <p:nvSpPr>
                <p:cNvPr id="1014" name="Text Box 196"/>
                <p:cNvSpPr/>
                <p:nvPr/>
              </p:nvSpPr>
              <p:spPr>
                <a:xfrm>
                  <a:off x="778680" y="16106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7a77"/>
                      </a:solidFill>
                      <a:latin typeface="Times New Roman"/>
                      <a:ea typeface="楷体_GB2312"/>
                    </a:rPr>
                    <a:t>3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15" name="Text Box 197"/>
                <p:cNvSpPr/>
                <p:nvPr/>
              </p:nvSpPr>
              <p:spPr>
                <a:xfrm>
                  <a:off x="774000" y="18968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7a77"/>
                      </a:solidFill>
                      <a:latin typeface="Times New Roman"/>
                      <a:ea typeface="楷体_GB2312"/>
                    </a:rPr>
                    <a:t>4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16" name="Line 198"/>
                <p:cNvSpPr/>
                <p:nvPr/>
              </p:nvSpPr>
              <p:spPr>
                <a:xfrm>
                  <a:off x="793440" y="1994760"/>
                  <a:ext cx="289080" cy="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17" name="Group 206"/>
          <p:cNvGrpSpPr/>
          <p:nvPr/>
        </p:nvGrpSpPr>
        <p:grpSpPr>
          <a:xfrm>
            <a:off x="611280" y="4005360"/>
            <a:ext cx="2519280" cy="1008000"/>
            <a:chOff x="611280" y="4005360"/>
            <a:chExt cx="2519280" cy="1008000"/>
          </a:xfrm>
        </p:grpSpPr>
        <p:sp>
          <p:nvSpPr>
            <p:cNvPr id="1018" name="AutoShape 204"/>
            <p:cNvSpPr/>
            <p:nvPr/>
          </p:nvSpPr>
          <p:spPr>
            <a:xfrm>
              <a:off x="611280" y="4005360"/>
              <a:ext cx="2519280" cy="1008000"/>
            </a:xfrm>
            <a:prstGeom prst="cloudCallout">
              <a:avLst>
                <a:gd name="adj1" fmla="val -53782"/>
                <a:gd name="adj2" fmla="val 44643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19" name="Text Box 205"/>
            <p:cNvSpPr/>
            <p:nvPr/>
          </p:nvSpPr>
          <p:spPr>
            <a:xfrm>
              <a:off x="1832040" y="4221360"/>
              <a:ext cx="342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是这样想的。</a:t>
              </a:r>
              <a:endParaRPr b="0" lang="en-US" sz="2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20" name="Group 210"/>
          <p:cNvGrpSpPr/>
          <p:nvPr/>
        </p:nvGrpSpPr>
        <p:grpSpPr>
          <a:xfrm>
            <a:off x="2268360" y="5516640"/>
            <a:ext cx="2448000" cy="718920"/>
            <a:chOff x="2268360" y="5516640"/>
            <a:chExt cx="2448000" cy="718920"/>
          </a:xfrm>
        </p:grpSpPr>
        <p:sp>
          <p:nvSpPr>
            <p:cNvPr id="1021" name="AutoShape 207"/>
            <p:cNvSpPr/>
            <p:nvPr/>
          </p:nvSpPr>
          <p:spPr>
            <a:xfrm>
              <a:off x="2268360" y="5516640"/>
              <a:ext cx="2448000" cy="718920"/>
            </a:xfrm>
            <a:prstGeom prst="cloudCallout">
              <a:avLst>
                <a:gd name="adj1" fmla="val -90921"/>
                <a:gd name="adj2" fmla="val 4745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22" name="Text Box 208"/>
            <p:cNvSpPr/>
            <p:nvPr/>
          </p:nvSpPr>
          <p:spPr>
            <a:xfrm>
              <a:off x="3062520" y="5587920"/>
              <a:ext cx="834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每人得一份。</a:t>
              </a:r>
              <a:endParaRPr b="0" lang="en-US" sz="2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1023" name="Picture 169" descr="分饼（2）"/>
          <p:cNvPicPr/>
          <p:nvPr/>
        </p:nvPicPr>
        <p:blipFill>
          <a:blip r:embed="rId10"/>
          <a:srcRect l="812" t="1840" r="86385" b="53573"/>
          <a:stretch/>
        </p:blipFill>
        <p:spPr>
          <a:xfrm>
            <a:off x="0" y="2276640"/>
            <a:ext cx="115236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Text Box 164"/>
          <p:cNvSpPr/>
          <p:nvPr/>
        </p:nvSpPr>
        <p:spPr>
          <a:xfrm>
            <a:off x="468360" y="18900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张饼平均分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人，每人又得多少张饼呢？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25" name="Picture 165" descr="1"/>
          <p:cNvPicPr/>
          <p:nvPr/>
        </p:nvPicPr>
        <p:blipFill>
          <a:blip r:embed="rId1"/>
          <a:srcRect l="70489" t="51498" r="16503" b="0"/>
          <a:stretch/>
        </p:blipFill>
        <p:spPr>
          <a:xfrm>
            <a:off x="7236000" y="4724280"/>
            <a:ext cx="1185840" cy="17910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66" descr="`2"/>
          <p:cNvPicPr/>
          <p:nvPr/>
        </p:nvPicPr>
        <p:blipFill>
          <a:blip r:embed="rId2"/>
          <a:srcRect l="0" t="52680" r="86181" b="1755"/>
          <a:stretch/>
        </p:blipFill>
        <p:spPr>
          <a:xfrm>
            <a:off x="108000" y="3546360"/>
            <a:ext cx="1258920" cy="16830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67" descr="`2"/>
          <p:cNvPicPr/>
          <p:nvPr/>
        </p:nvPicPr>
        <p:blipFill>
          <a:blip r:embed="rId3"/>
          <a:srcRect l="85000" t="2340" r="1186" b="41540"/>
          <a:stretch/>
        </p:blipFill>
        <p:spPr>
          <a:xfrm>
            <a:off x="7885080" y="2852640"/>
            <a:ext cx="1258920" cy="2073240"/>
          </a:xfrm>
          <a:prstGeom prst="rect">
            <a:avLst/>
          </a:prstGeom>
          <a:ln w="0">
            <a:noFill/>
          </a:ln>
        </p:spPr>
      </p:pic>
      <p:sp>
        <p:nvSpPr>
          <p:cNvPr id="1028" name="AutoShape 168"/>
          <p:cNvSpPr/>
          <p:nvPr/>
        </p:nvSpPr>
        <p:spPr>
          <a:xfrm>
            <a:off x="250920" y="1557360"/>
            <a:ext cx="3671640" cy="1871640"/>
          </a:xfrm>
          <a:prstGeom prst="cloudCallout">
            <a:avLst>
              <a:gd name="adj1" fmla="val -45981"/>
              <a:gd name="adj2" fmla="val 4940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29" name="Group 234"/>
          <p:cNvGrpSpPr/>
          <p:nvPr/>
        </p:nvGrpSpPr>
        <p:grpSpPr>
          <a:xfrm>
            <a:off x="324000" y="1647720"/>
            <a:ext cx="3816360" cy="1711800"/>
            <a:chOff x="324000" y="1647720"/>
            <a:chExt cx="3816360" cy="1711800"/>
          </a:xfrm>
        </p:grpSpPr>
        <p:sp>
          <p:nvSpPr>
            <p:cNvPr id="1030" name="Text Box 169"/>
            <p:cNvSpPr/>
            <p:nvPr/>
          </p:nvSpPr>
          <p:spPr>
            <a:xfrm>
              <a:off x="324000" y="1647720"/>
              <a:ext cx="381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en-US" sz="2400" spc="-1" strike="noStrike">
                  <a:solidFill>
                    <a:srgbClr val="f80214"/>
                  </a:solidFill>
                  <a:latin typeface="Times New Roman"/>
                  <a:ea typeface="楷体_GB2312"/>
                </a:rPr>
                <a:t>9</a:t>
              </a:r>
              <a:r>
                <a:rPr b="1" lang="zh-CN" sz="2400" spc="-1" strike="noStrike">
                  <a:solidFill>
                    <a:srgbClr val="f80214"/>
                  </a:solidFill>
                  <a:latin typeface="Times New Roman"/>
                  <a:ea typeface="楷体_GB2312"/>
                </a:rPr>
                <a:t>张饼平均分给</a:t>
              </a:r>
              <a:r>
                <a:rPr b="1" lang="en-US" sz="2400" spc="-1" strike="noStrike">
                  <a:solidFill>
                    <a:srgbClr val="f80214"/>
                  </a:solidFill>
                  <a:latin typeface="Times New Roman"/>
                  <a:ea typeface="楷体_GB2312"/>
                </a:rPr>
                <a:t>4</a:t>
              </a:r>
              <a:r>
                <a:rPr b="1" lang="zh-CN" sz="2400" spc="-1" strike="noStrike">
                  <a:solidFill>
                    <a:srgbClr val="f80214"/>
                  </a:solidFill>
                  <a:latin typeface="Times New Roman"/>
                  <a:ea typeface="楷体_GB2312"/>
                </a:rPr>
                <a:t>个人，我可以先分</a:t>
              </a:r>
              <a:r>
                <a:rPr b="1" lang="en-US" sz="2400" spc="-1" strike="noStrike">
                  <a:solidFill>
                    <a:srgbClr val="f80214"/>
                  </a:solidFill>
                  <a:latin typeface="Times New Roman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f80214"/>
                  </a:solidFill>
                  <a:latin typeface="Times New Roman"/>
                  <a:ea typeface="楷体_GB2312"/>
                </a:rPr>
                <a:t>张，每人      张，这样一张一张地分，</a:t>
              </a:r>
              <a:r>
                <a:rPr b="1" lang="en-US" sz="2400" spc="-1" strike="noStrike">
                  <a:solidFill>
                    <a:srgbClr val="f80214"/>
                  </a:solidFill>
                  <a:latin typeface="Times New Roman"/>
                  <a:ea typeface="楷体_GB2312"/>
                </a:rPr>
                <a:t>9</a:t>
              </a:r>
              <a:r>
                <a:rPr b="1" lang="zh-CN" sz="2400" spc="-1" strike="noStrike">
                  <a:solidFill>
                    <a:srgbClr val="f80214"/>
                  </a:solidFill>
                  <a:latin typeface="Times New Roman"/>
                  <a:ea typeface="楷体_GB2312"/>
                </a:rPr>
                <a:t>个     是      。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031" name="Group 174"/>
            <p:cNvGrpSpPr/>
            <p:nvPr/>
          </p:nvGrpSpPr>
          <p:grpSpPr>
            <a:xfrm>
              <a:off x="3420720" y="1882800"/>
              <a:ext cx="362160" cy="703800"/>
              <a:chOff x="3420720" y="1882800"/>
              <a:chExt cx="362160" cy="703800"/>
            </a:xfrm>
          </p:grpSpPr>
          <p:sp>
            <p:nvSpPr>
              <p:cNvPr id="1032" name="Text Box 170"/>
              <p:cNvSpPr/>
              <p:nvPr/>
            </p:nvSpPr>
            <p:spPr>
              <a:xfrm>
                <a:off x="3420720" y="18828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33" name="Text Box 171"/>
              <p:cNvSpPr/>
              <p:nvPr/>
            </p:nvSpPr>
            <p:spPr>
              <a:xfrm>
                <a:off x="3420720" y="21877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34" name="Line 173"/>
              <p:cNvSpPr/>
              <p:nvPr/>
            </p:nvSpPr>
            <p:spPr>
              <a:xfrm>
                <a:off x="3441960" y="2244600"/>
                <a:ext cx="34092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035" name="Group 175"/>
            <p:cNvGrpSpPr/>
            <p:nvPr/>
          </p:nvGrpSpPr>
          <p:grpSpPr>
            <a:xfrm>
              <a:off x="828360" y="2584440"/>
              <a:ext cx="360720" cy="703800"/>
              <a:chOff x="828360" y="2584440"/>
              <a:chExt cx="360720" cy="703800"/>
            </a:xfrm>
          </p:grpSpPr>
          <p:sp>
            <p:nvSpPr>
              <p:cNvPr id="1036" name="Text Box 176"/>
              <p:cNvSpPr/>
              <p:nvPr/>
            </p:nvSpPr>
            <p:spPr>
              <a:xfrm>
                <a:off x="828360" y="258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37" name="Text Box 177"/>
              <p:cNvSpPr/>
              <p:nvPr/>
            </p:nvSpPr>
            <p:spPr>
              <a:xfrm>
                <a:off x="828360" y="28893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38" name="Line 178"/>
              <p:cNvSpPr/>
              <p:nvPr/>
            </p:nvSpPr>
            <p:spPr>
              <a:xfrm>
                <a:off x="849600" y="2946240"/>
                <a:ext cx="33948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179"/>
            <p:cNvGrpSpPr/>
            <p:nvPr/>
          </p:nvGrpSpPr>
          <p:grpSpPr>
            <a:xfrm>
              <a:off x="1477440" y="2655720"/>
              <a:ext cx="362160" cy="703800"/>
              <a:chOff x="1477440" y="2655720"/>
              <a:chExt cx="362160" cy="703800"/>
            </a:xfrm>
          </p:grpSpPr>
          <p:sp>
            <p:nvSpPr>
              <p:cNvPr id="1040" name="Text Box 180"/>
              <p:cNvSpPr/>
              <p:nvPr/>
            </p:nvSpPr>
            <p:spPr>
              <a:xfrm>
                <a:off x="1477440" y="26557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  <a:ea typeface="楷体_GB2312"/>
                  </a:rPr>
                  <a:t>9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41" name="Text Box 181"/>
              <p:cNvSpPr/>
              <p:nvPr/>
            </p:nvSpPr>
            <p:spPr>
              <a:xfrm>
                <a:off x="1477440" y="2960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42" name="Line 182"/>
              <p:cNvSpPr/>
              <p:nvPr/>
            </p:nvSpPr>
            <p:spPr>
              <a:xfrm>
                <a:off x="1499040" y="3017520"/>
                <a:ext cx="34056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043" name="Group 226"/>
          <p:cNvGrpSpPr/>
          <p:nvPr/>
        </p:nvGrpSpPr>
        <p:grpSpPr>
          <a:xfrm>
            <a:off x="1909080" y="5084640"/>
            <a:ext cx="4074480" cy="655560"/>
            <a:chOff x="1909080" y="5084640"/>
            <a:chExt cx="4074480" cy="655560"/>
          </a:xfrm>
        </p:grpSpPr>
        <p:grpSp>
          <p:nvGrpSpPr>
            <p:cNvPr id="1044" name="Group 210"/>
            <p:cNvGrpSpPr/>
            <p:nvPr/>
          </p:nvGrpSpPr>
          <p:grpSpPr>
            <a:xfrm>
              <a:off x="1909080" y="5087520"/>
              <a:ext cx="308880" cy="652680"/>
              <a:chOff x="1909080" y="5087520"/>
              <a:chExt cx="308880" cy="652680"/>
            </a:xfrm>
          </p:grpSpPr>
          <p:sp>
            <p:nvSpPr>
              <p:cNvPr id="1045" name="Text Box 207"/>
              <p:cNvSpPr/>
              <p:nvPr/>
            </p:nvSpPr>
            <p:spPr>
              <a:xfrm>
                <a:off x="1909080" y="5087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9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46" name="Line 208"/>
              <p:cNvSpPr/>
              <p:nvPr/>
            </p:nvSpPr>
            <p:spPr>
              <a:xfrm>
                <a:off x="1915920" y="5427360"/>
                <a:ext cx="28908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47" name="Text Box 209"/>
              <p:cNvSpPr/>
              <p:nvPr/>
            </p:nvSpPr>
            <p:spPr>
              <a:xfrm>
                <a:off x="1909080" y="53413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048" name="Group 216"/>
            <p:cNvGrpSpPr/>
            <p:nvPr/>
          </p:nvGrpSpPr>
          <p:grpSpPr>
            <a:xfrm>
              <a:off x="3277800" y="5084640"/>
              <a:ext cx="524880" cy="652680"/>
              <a:chOff x="3277800" y="5084640"/>
              <a:chExt cx="524880" cy="652680"/>
            </a:xfrm>
          </p:grpSpPr>
          <p:grpSp>
            <p:nvGrpSpPr>
              <p:cNvPr id="1049" name="Group 211"/>
              <p:cNvGrpSpPr/>
              <p:nvPr/>
            </p:nvGrpSpPr>
            <p:grpSpPr>
              <a:xfrm>
                <a:off x="3493800" y="5084640"/>
                <a:ext cx="308880" cy="652680"/>
                <a:chOff x="3493800" y="5084640"/>
                <a:chExt cx="308880" cy="652680"/>
              </a:xfrm>
            </p:grpSpPr>
            <p:sp>
              <p:nvSpPr>
                <p:cNvPr id="1050" name="Text Box 212"/>
                <p:cNvSpPr/>
                <p:nvPr/>
              </p:nvSpPr>
              <p:spPr>
                <a:xfrm>
                  <a:off x="3493800" y="50846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7a77"/>
                      </a:solidFill>
                      <a:latin typeface="Times New Roman"/>
                      <a:ea typeface="楷体_GB2312"/>
                    </a:rPr>
                    <a:t>1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213"/>
                <p:cNvSpPr/>
                <p:nvPr/>
              </p:nvSpPr>
              <p:spPr>
                <a:xfrm>
                  <a:off x="3500280" y="5424480"/>
                  <a:ext cx="288720" cy="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52" name="Text Box 214"/>
                <p:cNvSpPr/>
                <p:nvPr/>
              </p:nvSpPr>
              <p:spPr>
                <a:xfrm>
                  <a:off x="3493800" y="53384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7a77"/>
                      </a:solidFill>
                      <a:latin typeface="Times New Roman"/>
                      <a:ea typeface="楷体_GB2312"/>
                    </a:rPr>
                    <a:t>4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Text Box 215"/>
              <p:cNvSpPr/>
              <p:nvPr/>
            </p:nvSpPr>
            <p:spPr>
              <a:xfrm>
                <a:off x="3277800" y="5225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054" name="Group 217"/>
            <p:cNvGrpSpPr/>
            <p:nvPr/>
          </p:nvGrpSpPr>
          <p:grpSpPr>
            <a:xfrm>
              <a:off x="2412360" y="5087520"/>
              <a:ext cx="524880" cy="652680"/>
              <a:chOff x="2412360" y="5087520"/>
              <a:chExt cx="524880" cy="652680"/>
            </a:xfrm>
          </p:grpSpPr>
          <p:grpSp>
            <p:nvGrpSpPr>
              <p:cNvPr id="1055" name="Group 218"/>
              <p:cNvGrpSpPr/>
              <p:nvPr/>
            </p:nvGrpSpPr>
            <p:grpSpPr>
              <a:xfrm>
                <a:off x="2628360" y="5087520"/>
                <a:ext cx="308880" cy="652680"/>
                <a:chOff x="2628360" y="5087520"/>
                <a:chExt cx="308880" cy="652680"/>
              </a:xfrm>
            </p:grpSpPr>
            <p:sp>
              <p:nvSpPr>
                <p:cNvPr id="1056" name="Text Box 219"/>
                <p:cNvSpPr/>
                <p:nvPr/>
              </p:nvSpPr>
              <p:spPr>
                <a:xfrm>
                  <a:off x="2628360" y="50875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7a77"/>
                      </a:solidFill>
                      <a:latin typeface="Times New Roman"/>
                      <a:ea typeface="楷体_GB2312"/>
                    </a:rPr>
                    <a:t>1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57" name="Line 220"/>
                <p:cNvSpPr/>
                <p:nvPr/>
              </p:nvSpPr>
              <p:spPr>
                <a:xfrm>
                  <a:off x="2634840" y="5427360"/>
                  <a:ext cx="288720" cy="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58" name="Text Box 221"/>
                <p:cNvSpPr/>
                <p:nvPr/>
              </p:nvSpPr>
              <p:spPr>
                <a:xfrm>
                  <a:off x="2628360" y="53413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7a77"/>
                      </a:solidFill>
                      <a:latin typeface="Times New Roman"/>
                      <a:ea typeface="楷体_GB2312"/>
                    </a:rPr>
                    <a:t>4</a:t>
                  </a:r>
                  <a:endParaRPr b="0" lang="en-US" sz="2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9" name="Text Box 222"/>
              <p:cNvSpPr/>
              <p:nvPr/>
            </p:nvSpPr>
            <p:spPr>
              <a:xfrm>
                <a:off x="2412360" y="5228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060" name="Text Box 223"/>
            <p:cNvSpPr/>
            <p:nvPr/>
          </p:nvSpPr>
          <p:spPr>
            <a:xfrm>
              <a:off x="2125440" y="5154480"/>
              <a:ext cx="369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=</a:t>
              </a:r>
              <a:endParaRPr b="0" lang="en-US" sz="2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61" name="Text Box 224"/>
            <p:cNvSpPr/>
            <p:nvPr/>
          </p:nvSpPr>
          <p:spPr>
            <a:xfrm>
              <a:off x="2984760" y="5132160"/>
              <a:ext cx="378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，</a:t>
              </a:r>
              <a:endParaRPr b="0" lang="en-US" sz="2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62" name="Text Box 225"/>
            <p:cNvSpPr/>
            <p:nvPr/>
          </p:nvSpPr>
          <p:spPr>
            <a:xfrm>
              <a:off x="4877640" y="5159160"/>
              <a:ext cx="1105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读作：</a:t>
              </a:r>
              <a:r>
                <a:rPr b="1" lang="zh-CN" sz="2600" spc="-1" strike="noStrike">
                  <a:solidFill>
                    <a:srgbClr val="f80214"/>
                  </a:solidFill>
                  <a:latin typeface="Times New Roman"/>
                  <a:ea typeface="楷体_GB2312"/>
                </a:rPr>
                <a:t>二又四分之一</a:t>
              </a:r>
              <a:endParaRPr b="0" lang="en-US" sz="2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63" name="Group 233"/>
          <p:cNvGrpSpPr/>
          <p:nvPr/>
        </p:nvGrpSpPr>
        <p:grpSpPr>
          <a:xfrm>
            <a:off x="4788000" y="981000"/>
            <a:ext cx="3960720" cy="2087280"/>
            <a:chOff x="4788000" y="981000"/>
            <a:chExt cx="3960720" cy="2087280"/>
          </a:xfrm>
        </p:grpSpPr>
        <p:sp>
          <p:nvSpPr>
            <p:cNvPr id="1064" name="AutoShape 185"/>
            <p:cNvSpPr/>
            <p:nvPr/>
          </p:nvSpPr>
          <p:spPr>
            <a:xfrm>
              <a:off x="4788000" y="981000"/>
              <a:ext cx="3960720" cy="2087280"/>
            </a:xfrm>
            <a:prstGeom prst="cloudCallout">
              <a:avLst>
                <a:gd name="adj1" fmla="val 51402"/>
                <a:gd name="adj2" fmla="val 41328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065" name="Group 232"/>
            <p:cNvGrpSpPr/>
            <p:nvPr/>
          </p:nvGrpSpPr>
          <p:grpSpPr>
            <a:xfrm>
              <a:off x="5004000" y="1196640"/>
              <a:ext cx="3600360" cy="1601640"/>
              <a:chOff x="5004000" y="1196640"/>
              <a:chExt cx="3600360" cy="1601640"/>
            </a:xfrm>
          </p:grpSpPr>
          <p:sp>
            <p:nvSpPr>
              <p:cNvPr id="1066" name="Text Box 187"/>
              <p:cNvSpPr/>
              <p:nvPr/>
            </p:nvSpPr>
            <p:spPr>
              <a:xfrm>
                <a:off x="5004000" y="1196640"/>
                <a:ext cx="360036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     </a:t>
                </a:r>
                <a:r>
                  <a:rPr b="1" lang="zh-CN" sz="2800" spc="-1" strike="noStrike">
                    <a:solidFill>
                      <a:srgbClr val="f80214"/>
                    </a:solidFill>
                    <a:latin typeface="Times New Roman"/>
                    <a:ea typeface="楷体_GB2312"/>
                  </a:rPr>
                  <a:t>可以先分</a:t>
                </a:r>
                <a:r>
                  <a:rPr b="1" lang="en-US" sz="2800" spc="-1" strike="noStrike">
                    <a:solidFill>
                      <a:srgbClr val="f80214"/>
                    </a:solidFill>
                    <a:latin typeface="Times New Roman"/>
                    <a:ea typeface="楷体_GB2312"/>
                  </a:rPr>
                  <a:t>8</a:t>
                </a:r>
                <a:r>
                  <a:rPr b="1" lang="zh-CN" sz="2800" spc="-1" strike="noStrike">
                    <a:solidFill>
                      <a:srgbClr val="f80214"/>
                    </a:solidFill>
                    <a:latin typeface="Times New Roman"/>
                    <a:ea typeface="楷体_GB2312"/>
                  </a:rPr>
                  <a:t>张，每人</a:t>
                </a:r>
                <a:r>
                  <a:rPr b="1" lang="en-US" sz="2800" spc="-1" strike="noStrike">
                    <a:solidFill>
                      <a:srgbClr val="f80214"/>
                    </a:solidFill>
                    <a:latin typeface="Times New Roman"/>
                    <a:ea typeface="楷体_GB2312"/>
                  </a:rPr>
                  <a:t>2</a:t>
                </a:r>
                <a:r>
                  <a:rPr b="1" lang="zh-CN" sz="2800" spc="-1" strike="noStrike">
                    <a:solidFill>
                      <a:srgbClr val="f80214"/>
                    </a:solidFill>
                    <a:latin typeface="Times New Roman"/>
                    <a:ea typeface="楷体_GB2312"/>
                  </a:rPr>
                  <a:t>张；再分</a:t>
                </a:r>
                <a:r>
                  <a:rPr b="1" lang="en-US" sz="2800" spc="-1" strike="noStrike">
                    <a:solidFill>
                      <a:srgbClr val="f80214"/>
                    </a:solidFill>
                    <a:latin typeface="Times New Roman"/>
                    <a:ea typeface="楷体_GB2312"/>
                  </a:rPr>
                  <a:t>1</a:t>
                </a:r>
                <a:r>
                  <a:rPr b="1" lang="zh-CN" sz="2800" spc="-1" strike="noStrike">
                    <a:solidFill>
                      <a:srgbClr val="f80214"/>
                    </a:solidFill>
                    <a:latin typeface="Times New Roman"/>
                    <a:ea typeface="楷体_GB2312"/>
                  </a:rPr>
                  <a:t>张，每人     ，合起来是</a:t>
                </a:r>
                <a:r>
                  <a:rPr b="1" lang="zh-CN" sz="2200" spc="-1" strike="noStrike">
                    <a:solidFill>
                      <a:srgbClr val="f80214"/>
                    </a:solidFill>
                    <a:latin typeface="Times New Roman"/>
                    <a:ea typeface="楷体_GB2312"/>
                  </a:rPr>
                  <a:t>         。</a:t>
                </a:r>
                <a:endParaRPr b="0" lang="en-US" sz="2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1067" name="Group 231"/>
              <p:cNvGrpSpPr/>
              <p:nvPr/>
            </p:nvGrpSpPr>
            <p:grpSpPr>
              <a:xfrm>
                <a:off x="5481720" y="1829880"/>
                <a:ext cx="385920" cy="952560"/>
                <a:chOff x="5481720" y="1829880"/>
                <a:chExt cx="385920" cy="952560"/>
              </a:xfrm>
            </p:grpSpPr>
            <p:sp>
              <p:nvSpPr>
                <p:cNvPr id="1068" name="Line 188"/>
                <p:cNvSpPr/>
                <p:nvPr/>
              </p:nvSpPr>
              <p:spPr>
                <a:xfrm>
                  <a:off x="5481720" y="2333160"/>
                  <a:ext cx="360360" cy="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69" name="Text Box 189"/>
                <p:cNvSpPr/>
                <p:nvPr/>
              </p:nvSpPr>
              <p:spPr>
                <a:xfrm>
                  <a:off x="5482800" y="182988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3366ff"/>
                      </a:solidFill>
                      <a:latin typeface="Times New Roman"/>
                      <a:ea typeface="楷体_GB2312"/>
                    </a:rPr>
                    <a:t>1</a:t>
                  </a:r>
                  <a:endParaRPr b="0" lang="en-US" sz="32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70" name="Text Box 190"/>
                <p:cNvSpPr/>
                <p:nvPr/>
              </p:nvSpPr>
              <p:spPr>
                <a:xfrm>
                  <a:off x="5483160" y="226188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66ff"/>
                      </a:solidFill>
                      <a:latin typeface="Times New Roman"/>
                      <a:ea typeface="楷体_GB2312"/>
                    </a:rPr>
                    <a:t>4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1" name="Group 230"/>
              <p:cNvGrpSpPr/>
              <p:nvPr/>
            </p:nvGrpSpPr>
            <p:grpSpPr>
              <a:xfrm>
                <a:off x="7670520" y="1917360"/>
                <a:ext cx="675000" cy="880920"/>
                <a:chOff x="7670520" y="1917360"/>
                <a:chExt cx="675000" cy="880920"/>
              </a:xfrm>
            </p:grpSpPr>
            <p:sp>
              <p:nvSpPr>
                <p:cNvPr id="1072" name="Line 198"/>
                <p:cNvSpPr/>
                <p:nvPr/>
              </p:nvSpPr>
              <p:spPr>
                <a:xfrm>
                  <a:off x="7985160" y="2349000"/>
                  <a:ext cx="360360" cy="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73" name="Text Box 199"/>
                <p:cNvSpPr/>
                <p:nvPr/>
              </p:nvSpPr>
              <p:spPr>
                <a:xfrm>
                  <a:off x="7986600" y="19173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  <a:ea typeface="楷体_GB2312"/>
                    </a:rPr>
                    <a:t>1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74" name="Text Box 200"/>
                <p:cNvSpPr/>
                <p:nvPr/>
              </p:nvSpPr>
              <p:spPr>
                <a:xfrm>
                  <a:off x="7985160" y="2277720"/>
                  <a:ext cx="289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  <a:ea typeface="楷体_GB2312"/>
                    </a:rPr>
                    <a:t>4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75" name="Text Box 201"/>
                <p:cNvSpPr/>
                <p:nvPr/>
              </p:nvSpPr>
              <p:spPr>
                <a:xfrm>
                  <a:off x="7670520" y="205524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3366ff"/>
                      </a:solidFill>
                      <a:latin typeface="Times New Roman"/>
                      <a:ea typeface="楷体_GB2312"/>
                    </a:rPr>
                    <a:t>2</a:t>
                  </a:r>
                  <a:endParaRPr b="0" lang="en-US" sz="32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76" name="Text Box 228"/>
                <p:cNvSpPr/>
                <p:nvPr/>
              </p:nvSpPr>
              <p:spPr>
                <a:xfrm>
                  <a:off x="7986600" y="19173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66ff"/>
                      </a:solidFill>
                      <a:latin typeface="Times New Roman"/>
                      <a:ea typeface="楷体_GB2312"/>
                    </a:rPr>
                    <a:t>1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77" name="Text Box 229"/>
                <p:cNvSpPr/>
                <p:nvPr/>
              </p:nvSpPr>
              <p:spPr>
                <a:xfrm>
                  <a:off x="7985160" y="2277720"/>
                  <a:ext cx="289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66ff"/>
                      </a:solidFill>
                      <a:latin typeface="Times New Roman"/>
                      <a:ea typeface="楷体_GB2312"/>
                    </a:rPr>
                    <a:t>4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42" descr="真分数和假分数"/>
          <p:cNvPicPr/>
          <p:nvPr/>
        </p:nvPicPr>
        <p:blipFill>
          <a:blip r:embed="rId1"/>
          <a:stretch/>
        </p:blipFill>
        <p:spPr>
          <a:xfrm>
            <a:off x="0" y="260280"/>
            <a:ext cx="8964720" cy="403236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grpSp>
        <p:nvGrpSpPr>
          <p:cNvPr id="1079" name="Group 86"/>
          <p:cNvGrpSpPr/>
          <p:nvPr/>
        </p:nvGrpSpPr>
        <p:grpSpPr>
          <a:xfrm>
            <a:off x="539640" y="4581360"/>
            <a:ext cx="7704360" cy="1157760"/>
            <a:chOff x="539640" y="4581360"/>
            <a:chExt cx="7704360" cy="1157760"/>
          </a:xfrm>
        </p:grpSpPr>
        <p:sp>
          <p:nvSpPr>
            <p:cNvPr id="1080" name="Text Box 66"/>
            <p:cNvSpPr/>
            <p:nvPr/>
          </p:nvSpPr>
          <p:spPr>
            <a:xfrm>
              <a:off x="539640" y="4724280"/>
              <a:ext cx="77043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       </a:t>
              </a:r>
              <a:r>
                <a:rPr b="1" lang="zh-CN" sz="3600" spc="-1" strike="noStrike">
                  <a:solidFill>
                    <a:srgbClr val="007a77"/>
                  </a:solidFill>
                  <a:latin typeface="Arial"/>
                </a:rPr>
                <a:t>像        ，       </a:t>
              </a: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……</a:t>
              </a:r>
              <a:r>
                <a:rPr b="1" lang="zh-CN" sz="3600" spc="-1" strike="noStrike">
                  <a:solidFill>
                    <a:srgbClr val="007a77"/>
                  </a:solidFill>
                  <a:latin typeface="Arial"/>
                </a:rPr>
                <a:t>像这样的分数叫做</a:t>
              </a:r>
              <a:r>
                <a:rPr b="1" lang="zh-CN" sz="3600" spc="-1" strike="noStrike">
                  <a:solidFill>
                    <a:srgbClr val="3366ff"/>
                  </a:solidFill>
                  <a:latin typeface="Arial"/>
                </a:rPr>
                <a:t>带分数。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081" name="Group 80"/>
            <p:cNvGrpSpPr/>
            <p:nvPr/>
          </p:nvGrpSpPr>
          <p:grpSpPr>
            <a:xfrm>
              <a:off x="2124000" y="4581360"/>
              <a:ext cx="695520" cy="1014840"/>
              <a:chOff x="2124000" y="4581360"/>
              <a:chExt cx="695520" cy="1014840"/>
            </a:xfrm>
          </p:grpSpPr>
          <p:sp>
            <p:nvSpPr>
              <p:cNvPr id="1082" name="Text Box 69"/>
              <p:cNvSpPr/>
              <p:nvPr/>
            </p:nvSpPr>
            <p:spPr>
              <a:xfrm>
                <a:off x="2434680" y="45813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83" name="Text Box 70"/>
              <p:cNvSpPr/>
              <p:nvPr/>
            </p:nvSpPr>
            <p:spPr>
              <a:xfrm>
                <a:off x="2412360" y="50148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84" name="Line 71"/>
              <p:cNvSpPr/>
              <p:nvPr/>
            </p:nvSpPr>
            <p:spPr>
              <a:xfrm>
                <a:off x="2447640" y="5048280"/>
                <a:ext cx="2890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85" name="Text Box 72"/>
              <p:cNvSpPr/>
              <p:nvPr/>
            </p:nvSpPr>
            <p:spPr>
              <a:xfrm>
                <a:off x="2124000" y="479880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086" name="Group 81"/>
            <p:cNvGrpSpPr/>
            <p:nvPr/>
          </p:nvGrpSpPr>
          <p:grpSpPr>
            <a:xfrm>
              <a:off x="3419640" y="4724280"/>
              <a:ext cx="695160" cy="1014840"/>
              <a:chOff x="3419640" y="4724280"/>
              <a:chExt cx="695160" cy="1014840"/>
            </a:xfrm>
          </p:grpSpPr>
          <p:sp>
            <p:nvSpPr>
              <p:cNvPr id="1087" name="Text Box 82"/>
              <p:cNvSpPr/>
              <p:nvPr/>
            </p:nvSpPr>
            <p:spPr>
              <a:xfrm>
                <a:off x="3729960" y="47242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88" name="Text Box 83"/>
              <p:cNvSpPr/>
              <p:nvPr/>
            </p:nvSpPr>
            <p:spPr>
              <a:xfrm>
                <a:off x="3707640" y="51577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89" name="Line 84"/>
              <p:cNvSpPr/>
              <p:nvPr/>
            </p:nvSpPr>
            <p:spPr>
              <a:xfrm>
                <a:off x="3742920" y="5191200"/>
                <a:ext cx="2887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90" name="Text Box 85"/>
              <p:cNvSpPr/>
              <p:nvPr/>
            </p:nvSpPr>
            <p:spPr>
              <a:xfrm>
                <a:off x="3419640" y="4941720"/>
                <a:ext cx="431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1" name="Picture 4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2" name="Text Box 12"/>
          <p:cNvSpPr/>
          <p:nvPr/>
        </p:nvSpPr>
        <p:spPr>
          <a:xfrm>
            <a:off x="4206960" y="11970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在下面的括号里填上适当的数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93" name="Group 13"/>
          <p:cNvGrpSpPr/>
          <p:nvPr/>
        </p:nvGrpSpPr>
        <p:grpSpPr>
          <a:xfrm>
            <a:off x="2365200" y="2819520"/>
            <a:ext cx="4443120" cy="2058840"/>
            <a:chOff x="2365200" y="2819520"/>
            <a:chExt cx="4443120" cy="2058840"/>
          </a:xfrm>
        </p:grpSpPr>
        <p:grpSp>
          <p:nvGrpSpPr>
            <p:cNvPr id="1094" name="Group 14"/>
            <p:cNvGrpSpPr/>
            <p:nvPr/>
          </p:nvGrpSpPr>
          <p:grpSpPr>
            <a:xfrm>
              <a:off x="2516040" y="2895480"/>
              <a:ext cx="1828800" cy="906480"/>
              <a:chOff x="2516040" y="2895480"/>
              <a:chExt cx="1828800" cy="906480"/>
            </a:xfrm>
          </p:grpSpPr>
          <p:sp>
            <p:nvSpPr>
              <p:cNvPr id="1095" name="Text Box 15"/>
              <p:cNvSpPr/>
              <p:nvPr/>
            </p:nvSpPr>
            <p:spPr>
              <a:xfrm>
                <a:off x="2516040" y="3060720"/>
                <a:ext cx="982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楷体_GB2312"/>
                  </a:rPr>
                  <a:t>5 = 4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96" name="Text Box 16"/>
              <p:cNvSpPr/>
              <p:nvPr/>
            </p:nvSpPr>
            <p:spPr>
              <a:xfrm>
                <a:off x="3097440" y="289548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楷体_GB2312"/>
                  </a:rPr>
                  <a:t>（   ）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97" name="Text Box 17"/>
              <p:cNvSpPr/>
              <p:nvPr/>
            </p:nvSpPr>
            <p:spPr>
              <a:xfrm>
                <a:off x="3505320" y="32814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98" name="Line 18"/>
              <p:cNvSpPr/>
              <p:nvPr/>
            </p:nvSpPr>
            <p:spPr>
              <a:xfrm flipV="1">
                <a:off x="3430440" y="3352680"/>
                <a:ext cx="608040" cy="504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19"/>
            <p:cNvGrpSpPr/>
            <p:nvPr/>
          </p:nvGrpSpPr>
          <p:grpSpPr>
            <a:xfrm>
              <a:off x="4635360" y="2819520"/>
              <a:ext cx="2172960" cy="915840"/>
              <a:chOff x="4635360" y="2819520"/>
              <a:chExt cx="2172960" cy="915840"/>
            </a:xfrm>
          </p:grpSpPr>
          <p:sp>
            <p:nvSpPr>
              <p:cNvPr id="1100" name="Text Box 20"/>
              <p:cNvSpPr/>
              <p:nvPr/>
            </p:nvSpPr>
            <p:spPr>
              <a:xfrm>
                <a:off x="4635360" y="3038760"/>
                <a:ext cx="1270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  <a:ea typeface="楷体_GB2312"/>
                  </a:rPr>
                  <a:t>7     = 6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01" name="Text Box 21"/>
              <p:cNvSpPr/>
              <p:nvPr/>
            </p:nvSpPr>
            <p:spPr>
              <a:xfrm>
                <a:off x="5560920" y="281952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楷体_GB2312"/>
                  </a:rPr>
                  <a:t>（   ）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02" name="Text Box 22"/>
              <p:cNvSpPr/>
              <p:nvPr/>
            </p:nvSpPr>
            <p:spPr>
              <a:xfrm>
                <a:off x="5943600" y="32148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03" name="Line 23"/>
              <p:cNvSpPr/>
              <p:nvPr/>
            </p:nvSpPr>
            <p:spPr>
              <a:xfrm>
                <a:off x="5867280" y="3276720"/>
                <a:ext cx="6091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04" name="Text Box 24"/>
              <p:cNvSpPr/>
              <p:nvPr/>
            </p:nvSpPr>
            <p:spPr>
              <a:xfrm>
                <a:off x="4954680" y="28195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05" name="Text Box 25"/>
              <p:cNvSpPr/>
              <p:nvPr/>
            </p:nvSpPr>
            <p:spPr>
              <a:xfrm>
                <a:off x="4954680" y="32054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06" name="Line 26"/>
              <p:cNvSpPr/>
              <p:nvPr/>
            </p:nvSpPr>
            <p:spPr>
              <a:xfrm>
                <a:off x="4954320" y="3281400"/>
                <a:ext cx="38088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107" name="Group 27"/>
            <p:cNvGrpSpPr/>
            <p:nvPr/>
          </p:nvGrpSpPr>
          <p:grpSpPr>
            <a:xfrm>
              <a:off x="4827960" y="3962520"/>
              <a:ext cx="1828080" cy="915840"/>
              <a:chOff x="4827960" y="3962520"/>
              <a:chExt cx="1828080" cy="915840"/>
            </a:xfrm>
          </p:grpSpPr>
          <p:sp>
            <p:nvSpPr>
              <p:cNvPr id="1108" name="Text Box 28"/>
              <p:cNvSpPr/>
              <p:nvPr/>
            </p:nvSpPr>
            <p:spPr>
              <a:xfrm>
                <a:off x="4827960" y="4114800"/>
                <a:ext cx="91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  <a:ea typeface="楷体_GB2312"/>
                  </a:rPr>
                  <a:t>3 = 2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09" name="Text Box 29"/>
              <p:cNvSpPr/>
              <p:nvPr/>
            </p:nvSpPr>
            <p:spPr>
              <a:xfrm>
                <a:off x="5408640" y="396252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楷体_GB2312"/>
                  </a:rPr>
                  <a:t>（   ）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10" name="Text Box 30"/>
              <p:cNvSpPr/>
              <p:nvPr/>
            </p:nvSpPr>
            <p:spPr>
              <a:xfrm>
                <a:off x="5791320" y="43578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楷体_GB2312"/>
                  </a:rPr>
                  <a:t>8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11" name="Line 31"/>
              <p:cNvSpPr/>
              <p:nvPr/>
            </p:nvSpPr>
            <p:spPr>
              <a:xfrm>
                <a:off x="5715000" y="4419720"/>
                <a:ext cx="6091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112" name="Group 32"/>
            <p:cNvGrpSpPr/>
            <p:nvPr/>
          </p:nvGrpSpPr>
          <p:grpSpPr>
            <a:xfrm>
              <a:off x="2365200" y="3962520"/>
              <a:ext cx="2157480" cy="915840"/>
              <a:chOff x="2365200" y="3962520"/>
              <a:chExt cx="2157480" cy="915840"/>
            </a:xfrm>
          </p:grpSpPr>
          <p:sp>
            <p:nvSpPr>
              <p:cNvPr id="1113" name="Text Box 33"/>
              <p:cNvSpPr/>
              <p:nvPr/>
            </p:nvSpPr>
            <p:spPr>
              <a:xfrm>
                <a:off x="3275280" y="396252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楷体_GB2312"/>
                  </a:rPr>
                  <a:t>（   ）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1114" name="Group 34"/>
              <p:cNvGrpSpPr/>
              <p:nvPr/>
            </p:nvGrpSpPr>
            <p:grpSpPr>
              <a:xfrm>
                <a:off x="2365200" y="3962520"/>
                <a:ext cx="1841760" cy="915840"/>
                <a:chOff x="2365200" y="3962520"/>
                <a:chExt cx="1841760" cy="915840"/>
              </a:xfrm>
            </p:grpSpPr>
            <p:sp>
              <p:nvSpPr>
                <p:cNvPr id="1115" name="Text Box 35"/>
                <p:cNvSpPr/>
                <p:nvPr/>
              </p:nvSpPr>
              <p:spPr>
                <a:xfrm>
                  <a:off x="2365200" y="4162680"/>
                  <a:ext cx="1270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Times New Roman"/>
                      <a:ea typeface="楷体_GB2312"/>
                    </a:rPr>
                    <a:t>8     = 7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116" name="Text Box 36"/>
                <p:cNvSpPr/>
                <p:nvPr/>
              </p:nvSpPr>
              <p:spPr>
                <a:xfrm>
                  <a:off x="2684880" y="396252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Arial"/>
                      <a:ea typeface="楷体_GB2312"/>
                    </a:rPr>
                    <a:t>2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117" name="Text Box 37"/>
                <p:cNvSpPr/>
                <p:nvPr/>
              </p:nvSpPr>
              <p:spPr>
                <a:xfrm>
                  <a:off x="2684880" y="434808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Arial"/>
                      <a:ea typeface="楷体_GB2312"/>
                    </a:rPr>
                    <a:t>5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38"/>
                <p:cNvSpPr/>
                <p:nvPr/>
              </p:nvSpPr>
              <p:spPr>
                <a:xfrm>
                  <a:off x="2684520" y="4424400"/>
                  <a:ext cx="381240" cy="0"/>
                </a:xfrm>
                <a:prstGeom prst="line">
                  <a:avLst/>
                </a:prstGeom>
                <a:ln w="22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119" name="Text Box 39"/>
                <p:cNvSpPr/>
                <p:nvPr/>
              </p:nvSpPr>
              <p:spPr>
                <a:xfrm>
                  <a:off x="3673800" y="435780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Arial"/>
                      <a:ea typeface="楷体_GB2312"/>
                    </a:rPr>
                    <a:t>5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40"/>
                <p:cNvSpPr/>
                <p:nvPr/>
              </p:nvSpPr>
              <p:spPr>
                <a:xfrm>
                  <a:off x="3597480" y="4419720"/>
                  <a:ext cx="609480" cy="0"/>
                </a:xfrm>
                <a:prstGeom prst="line">
                  <a:avLst/>
                </a:prstGeom>
                <a:ln w="22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1" name="Text Box 41"/>
          <p:cNvSpPr/>
          <p:nvPr/>
        </p:nvSpPr>
        <p:spPr>
          <a:xfrm>
            <a:off x="3525840" y="2876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4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2" name="Text Box 42"/>
          <p:cNvSpPr/>
          <p:nvPr/>
        </p:nvSpPr>
        <p:spPr>
          <a:xfrm>
            <a:off x="5964120" y="2819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4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3" name="Text Box 43"/>
          <p:cNvSpPr/>
          <p:nvPr/>
        </p:nvSpPr>
        <p:spPr>
          <a:xfrm>
            <a:off x="373536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7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4" name="Text Box 44"/>
          <p:cNvSpPr/>
          <p:nvPr/>
        </p:nvSpPr>
        <p:spPr>
          <a:xfrm>
            <a:off x="5849640" y="3938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8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8" descr="填数"/>
          <p:cNvPicPr/>
          <p:nvPr/>
        </p:nvPicPr>
        <p:blipFill>
          <a:blip r:embed="rId1"/>
          <a:stretch/>
        </p:blipFill>
        <p:spPr>
          <a:xfrm>
            <a:off x="250920" y="1628640"/>
            <a:ext cx="8667720" cy="280836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sp>
        <p:nvSpPr>
          <p:cNvPr id="1126" name="Text Box 9"/>
          <p:cNvSpPr/>
          <p:nvPr/>
        </p:nvSpPr>
        <p:spPr>
          <a:xfrm>
            <a:off x="250920" y="2602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、用带分数和假分数分别表示下列图中的隐影部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7" name="Text Box 10"/>
          <p:cNvSpPr/>
          <p:nvPr/>
        </p:nvSpPr>
        <p:spPr>
          <a:xfrm>
            <a:off x="324000" y="5013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、以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为分母，分别写出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个真分数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个假分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8" name="Text Box 12"/>
          <p:cNvSpPr/>
          <p:nvPr/>
        </p:nvSpPr>
        <p:spPr>
          <a:xfrm>
            <a:off x="3636360" y="3429000"/>
            <a:ext cx="3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7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6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9" name="Text Box 13"/>
          <p:cNvSpPr/>
          <p:nvPr/>
        </p:nvSpPr>
        <p:spPr>
          <a:xfrm>
            <a:off x="6805080" y="3500280"/>
            <a:ext cx="3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7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130" name="Group 16"/>
          <p:cNvGrpSpPr/>
          <p:nvPr/>
        </p:nvGrpSpPr>
        <p:grpSpPr>
          <a:xfrm>
            <a:off x="4728600" y="3429000"/>
            <a:ext cx="600840" cy="1068840"/>
            <a:chOff x="4728600" y="3429000"/>
            <a:chExt cx="600840" cy="1068840"/>
          </a:xfrm>
        </p:grpSpPr>
        <p:sp>
          <p:nvSpPr>
            <p:cNvPr id="1131" name="Text Box 14"/>
            <p:cNvSpPr/>
            <p:nvPr/>
          </p:nvSpPr>
          <p:spPr>
            <a:xfrm>
              <a:off x="4944600" y="3429000"/>
              <a:ext cx="384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7a77"/>
                  </a:solidFill>
                  <a:uFillTx/>
                  <a:latin typeface="Times New Roman"/>
                  <a:ea typeface="楷体_GB2312"/>
                </a:rPr>
                <a:t>1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6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32" name="Text Box 15"/>
            <p:cNvSpPr/>
            <p:nvPr/>
          </p:nvSpPr>
          <p:spPr>
            <a:xfrm>
              <a:off x="4728600" y="3573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1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33" name="Group 17"/>
          <p:cNvGrpSpPr/>
          <p:nvPr/>
        </p:nvGrpSpPr>
        <p:grpSpPr>
          <a:xfrm>
            <a:off x="7857720" y="3514680"/>
            <a:ext cx="600480" cy="1068840"/>
            <a:chOff x="7857720" y="3514680"/>
            <a:chExt cx="600480" cy="1068840"/>
          </a:xfrm>
        </p:grpSpPr>
        <p:sp>
          <p:nvSpPr>
            <p:cNvPr id="1134" name="Text Box 18"/>
            <p:cNvSpPr/>
            <p:nvPr/>
          </p:nvSpPr>
          <p:spPr>
            <a:xfrm>
              <a:off x="8073360" y="3514680"/>
              <a:ext cx="384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7a77"/>
                  </a:solidFill>
                  <a:uFillTx/>
                  <a:latin typeface="Times New Roman"/>
                  <a:ea typeface="楷体_GB2312"/>
                </a:rPr>
                <a:t>1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3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35" name="Text Box 19"/>
            <p:cNvSpPr/>
            <p:nvPr/>
          </p:nvSpPr>
          <p:spPr>
            <a:xfrm>
              <a:off x="7857720" y="3659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2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Picture 199" descr="填带分数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382920"/>
          </a:xfrm>
          <a:prstGeom prst="rect">
            <a:avLst/>
          </a:prstGeom>
          <a:ln w="9360">
            <a:solidFill>
              <a:srgbClr val="007a77"/>
            </a:solidFill>
            <a:miter/>
          </a:ln>
        </p:spPr>
      </p:pic>
      <p:sp>
        <p:nvSpPr>
          <p:cNvPr id="1137" name="Text Box 200"/>
          <p:cNvSpPr/>
          <p:nvPr/>
        </p:nvSpPr>
        <p:spPr>
          <a:xfrm>
            <a:off x="468360" y="5493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在直线上面的□里填上假分数，在下面的□里填上带分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8" name="Text Box 201"/>
          <p:cNvSpPr/>
          <p:nvPr/>
        </p:nvSpPr>
        <p:spPr>
          <a:xfrm>
            <a:off x="3493800" y="2852640"/>
            <a:ext cx="346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80214"/>
                </a:solidFill>
                <a:uFillTx/>
                <a:latin typeface="Times New Roman"/>
                <a:ea typeface="楷体_GB2312"/>
              </a:rPr>
              <a:t>5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0214"/>
                </a:solidFill>
                <a:latin typeface="Times New Roman"/>
                <a:ea typeface="楷体_GB2312"/>
              </a:rPr>
              <a:t>3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139" name="Group 202"/>
          <p:cNvGrpSpPr/>
          <p:nvPr/>
        </p:nvGrpSpPr>
        <p:grpSpPr>
          <a:xfrm>
            <a:off x="2701440" y="4149720"/>
            <a:ext cx="562680" cy="885960"/>
            <a:chOff x="2701440" y="4149720"/>
            <a:chExt cx="562680" cy="885960"/>
          </a:xfrm>
        </p:grpSpPr>
        <p:sp>
          <p:nvSpPr>
            <p:cNvPr id="1140" name="Text Box 203"/>
            <p:cNvSpPr/>
            <p:nvPr/>
          </p:nvSpPr>
          <p:spPr>
            <a:xfrm>
              <a:off x="2917440" y="4149720"/>
              <a:ext cx="346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 u="sng">
                  <a:solidFill>
                    <a:srgbClr val="f80214"/>
                  </a:solidFill>
                  <a:uFillTx/>
                  <a:latin typeface="Times New Roman"/>
                  <a:ea typeface="楷体_GB2312"/>
                </a:rPr>
                <a:t>1</a:t>
              </a:r>
              <a:endParaRPr b="0" lang="en-US" sz="2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80214"/>
                  </a:solidFill>
                  <a:latin typeface="Times New Roman"/>
                  <a:ea typeface="楷体_GB2312"/>
                </a:rPr>
                <a:t>3</a:t>
              </a:r>
              <a:endParaRPr b="0" lang="en-US" sz="2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41" name="Text Box 204"/>
            <p:cNvSpPr/>
            <p:nvPr/>
          </p:nvSpPr>
          <p:spPr>
            <a:xfrm>
              <a:off x="2701440" y="429408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80214"/>
                  </a:solidFill>
                  <a:latin typeface="Times New Roman"/>
                  <a:ea typeface="楷体_GB2312"/>
                </a:rPr>
                <a:t>1</a:t>
              </a:r>
              <a:endParaRPr b="0" lang="en-US" sz="2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42" name="Group 205"/>
          <p:cNvGrpSpPr/>
          <p:nvPr/>
        </p:nvGrpSpPr>
        <p:grpSpPr>
          <a:xfrm>
            <a:off x="6805080" y="4149720"/>
            <a:ext cx="562680" cy="885960"/>
            <a:chOff x="6805080" y="4149720"/>
            <a:chExt cx="562680" cy="885960"/>
          </a:xfrm>
        </p:grpSpPr>
        <p:sp>
          <p:nvSpPr>
            <p:cNvPr id="1143" name="Text Box 206"/>
            <p:cNvSpPr/>
            <p:nvPr/>
          </p:nvSpPr>
          <p:spPr>
            <a:xfrm>
              <a:off x="7021080" y="4149720"/>
              <a:ext cx="346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 u="sng">
                  <a:solidFill>
                    <a:srgbClr val="f80214"/>
                  </a:solidFill>
                  <a:uFillTx/>
                  <a:latin typeface="Times New Roman"/>
                  <a:ea typeface="楷体_GB2312"/>
                </a:rPr>
                <a:t>1</a:t>
              </a:r>
              <a:endParaRPr b="0" lang="en-US" sz="2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80214"/>
                  </a:solidFill>
                  <a:latin typeface="Times New Roman"/>
                  <a:ea typeface="楷体_GB2312"/>
                </a:rPr>
                <a:t>3</a:t>
              </a:r>
              <a:endParaRPr b="0" lang="en-US" sz="2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44" name="Text Box 207"/>
            <p:cNvSpPr/>
            <p:nvPr/>
          </p:nvSpPr>
          <p:spPr>
            <a:xfrm>
              <a:off x="6805080" y="429408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80214"/>
                  </a:solidFill>
                  <a:latin typeface="Times New Roman"/>
                  <a:ea typeface="楷体_GB2312"/>
                </a:rPr>
                <a:t>3</a:t>
              </a:r>
              <a:endParaRPr b="0" lang="en-US" sz="2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145" name="Text Box 208"/>
          <p:cNvSpPr/>
          <p:nvPr/>
        </p:nvSpPr>
        <p:spPr>
          <a:xfrm>
            <a:off x="5581080" y="2852640"/>
            <a:ext cx="346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80214"/>
                </a:solidFill>
                <a:uFillTx/>
                <a:latin typeface="Times New Roman"/>
                <a:ea typeface="楷体_GB2312"/>
              </a:rPr>
              <a:t>8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0214"/>
                </a:solidFill>
                <a:latin typeface="Times New Roman"/>
                <a:ea typeface="楷体_GB2312"/>
              </a:rPr>
              <a:t>3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6" name="Text Box 209"/>
          <p:cNvSpPr/>
          <p:nvPr/>
        </p:nvSpPr>
        <p:spPr>
          <a:xfrm>
            <a:off x="6301800" y="2924280"/>
            <a:ext cx="346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80214"/>
                </a:solidFill>
                <a:uFillTx/>
                <a:latin typeface="Times New Roman"/>
                <a:ea typeface="楷体_GB2312"/>
              </a:rPr>
              <a:t>9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0214"/>
                </a:solidFill>
                <a:latin typeface="Times New Roman"/>
                <a:ea typeface="楷体_GB2312"/>
              </a:rPr>
              <a:t>3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7" name="Group 142"/>
          <p:cNvGrpSpPr/>
          <p:nvPr/>
        </p:nvGrpSpPr>
        <p:grpSpPr>
          <a:xfrm>
            <a:off x="5724360" y="3429000"/>
            <a:ext cx="2422440" cy="2886120"/>
            <a:chOff x="5724360" y="3429000"/>
            <a:chExt cx="2422440" cy="2886120"/>
          </a:xfrm>
        </p:grpSpPr>
        <p:pic>
          <p:nvPicPr>
            <p:cNvPr id="1148" name="Picture 138" descr="slide0005_image033"/>
            <p:cNvPicPr/>
            <p:nvPr/>
          </p:nvPicPr>
          <p:blipFill>
            <a:blip r:embed="rId1"/>
            <a:stretch/>
          </p:blipFill>
          <p:spPr>
            <a:xfrm>
              <a:off x="5724360" y="3429000"/>
              <a:ext cx="242244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9" name="Text Box 139"/>
            <p:cNvSpPr/>
            <p:nvPr/>
          </p:nvSpPr>
          <p:spPr>
            <a:xfrm>
              <a:off x="6176880" y="3894120"/>
              <a:ext cx="144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c5900"/>
                  </a:solidFill>
                  <a:latin typeface="Times New Roman"/>
                  <a:ea typeface="楷体_GB2312"/>
                </a:rPr>
                <a:t>想一想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150" name="Text Box 143"/>
          <p:cNvSpPr/>
          <p:nvPr/>
        </p:nvSpPr>
        <p:spPr>
          <a:xfrm>
            <a:off x="3457080" y="2142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相 遇 次 数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1" name="Text Box 144"/>
          <p:cNvSpPr/>
          <p:nvPr/>
        </p:nvSpPr>
        <p:spPr>
          <a:xfrm>
            <a:off x="179280" y="1052640"/>
            <a:ext cx="8713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　从正午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时时针与分针相遇，到午夜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时，时针与分针还能再相遇多少次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52" name="Picture 145" descr="shijian"/>
          <p:cNvPicPr/>
          <p:nvPr/>
        </p:nvPicPr>
        <p:blipFill>
          <a:blip r:embed="rId2"/>
          <a:srcRect l="0" t="0" r="0" b="31607"/>
          <a:stretch/>
        </p:blipFill>
        <p:spPr>
          <a:xfrm>
            <a:off x="0" y="2708280"/>
            <a:ext cx="6659640" cy="31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2:49:41Z</dcterms:created>
  <dc:creator/>
  <dc:description/>
  <dc:language>en-US</dc:language>
  <cp:lastModifiedBy>宋玉交</cp:lastModifiedBy>
  <dcterms:modified xsi:type="dcterms:W3CDTF">2015-02-14T19:08:47Z</dcterms:modified>
  <cp:revision>1</cp:revision>
  <dc:subject/>
  <dc:title>幻灯片 1</dc:title>
</cp:coreProperties>
</file>