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ashreg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CF0-6896-4DA6-8066-AF36B90C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001-C6EF-4D2A-83EB-9FBB0828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B03-7939-4315-B89D-6FDFFA5B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59D-C855-4807-83BD-9095B60F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295-7AE2-4843-BD2C-52536B5B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8C3-6928-48AB-BAED-F5A5E11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4C3B-0C56-41DB-835C-72B0C1E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BCE-4BE4-4054-B671-BC12B092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DB7-D1A0-4897-BF4F-396A6268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5C63-2F8E-4EDF-ADF6-857A6E3C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3CAE-0D10-45A9-B3A9-0548D45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EA9-01E6-4E57-BC9A-C275A761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0001-CF02-4D7B-9BFB-90B1E20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BA60-9B5C-40E9-98F4-B6C498C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F267-D3DE-4D2A-AE8D-717EEA7C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B7C0-0836-4696-90B0-6AD71EF8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D162-A110-40F7-801C-96E696B6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1561-F267-4D92-95EB-99852042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97D8-1301-46C7-85E6-C626773B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3AE5-7F81-4876-A15B-FD56CC8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C45F-4423-45FA-9FB3-24F585CE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DB01-C0E1-41A8-8BE2-12C888D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15B-C63F-48DD-9B3D-402464B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CB6D-0AED-4569-B411-BF399FA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AF3A-E8EE-4383-826E-6B8CFF86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0D37-EC5B-49F7-A006-AEAA387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ABBD-74B3-4F5D-BC5D-184F25D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61BD8-BB7D-4889-96A2-597905B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7C55-0185-4252-ABC6-2FB7DC42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8F5F-69F9-431B-ABAB-2A1CFD16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A6DE-EA0F-4E27-A7C9-8853762A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0478-26CF-4EC3-9472-FC4335EE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FC2D-5118-4082-90AC-A152A52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1FB-DE81-470E-984B-47E8F73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2F70-984A-43DC-898C-10D42DE7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78683-057F-43F7-A2D4-2CB6C16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8EA9-0747-4A0A-85FE-C408C9A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D824-8727-4707-8470-D0F3A03E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52582-EDE5-43B3-9B46-40936F0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28F5-79A9-4C4C-A065-1F5A352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1E36-0AC8-448F-81FA-F1B99230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27CC-51C7-400C-B817-0A210ABE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8E5C-EAB2-4FAB-8E28-47BFE70A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55E-D19F-4D17-A78A-2819CEDD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0CD-C2ED-4DEE-9882-9F9A3EEB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1EE-B5B4-4ED8-8B6B-1CD1CD0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C96-557D-4825-8BBA-57A37EF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531-57F1-4F04-ACD3-E6505CF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F3C-6B53-47EB-AE3A-DB2930D99B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A1A0-BD71-4DF7-A487-36F4F07CB3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40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40a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e840a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26560" y="1379160"/>
            <a:ext cx="74170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1D1-F13F-4CEC-8EF6-E324F7643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6D10-CC73-4D59-8A5D-8A237A1DA8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7" descr="图片133366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5"/>
          <p:cNvSpPr/>
          <p:nvPr/>
        </p:nvSpPr>
        <p:spPr>
          <a:xfrm>
            <a:off x="194940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1080" y="3352680"/>
            <a:ext cx="87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的 近 似 值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895480" y="2558880"/>
            <a:ext cx="3240360" cy="3240"/>
            <a:chOff x="2895480" y="2558880"/>
            <a:chExt cx="3240360" cy="3240"/>
          </a:xfrm>
        </p:grpSpPr>
        <p:sp>
          <p:nvSpPr>
            <p:cNvPr id="170" name="Line 10"/>
            <p:cNvSpPr/>
            <p:nvPr/>
          </p:nvSpPr>
          <p:spPr>
            <a:xfrm>
              <a:off x="2895480" y="2558880"/>
              <a:ext cx="3240360" cy="3240"/>
            </a:xfrm>
            <a:prstGeom prst="line">
              <a:avLst/>
            </a:prstGeom>
            <a:ln w="57240">
              <a:solidFill>
                <a:srgbClr val="8dd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895480" y="2558880"/>
              <a:ext cx="32403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66240" y="1812960"/>
            <a:ext cx="3925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除法</a:t>
            </a:r>
            <a:endParaRPr b="0" lang="en-US" sz="4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826920" y="171468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下面各题（得数保留一位小数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939960" y="2719440"/>
            <a:ext cx="66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8÷23=         52.7÷18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188240" y="4014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下面各题（得数保留两位小数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263600" y="487980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7.83÷2.3=      6.77÷3.5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912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我来试一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3330720" y="2766960"/>
            <a:ext cx="14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文本框 3"/>
          <p:cNvSpPr/>
          <p:nvPr/>
        </p:nvSpPr>
        <p:spPr>
          <a:xfrm>
            <a:off x="7223040" y="276696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.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895560" y="492768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文本框 5"/>
          <p:cNvSpPr/>
          <p:nvPr/>
        </p:nvSpPr>
        <p:spPr>
          <a:xfrm>
            <a:off x="7424640" y="492768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9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02920" y="1917360"/>
            <a:ext cx="6697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理解商的近似值实际意义，能根据实际需要决定商的保留位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912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547640" y="1504800"/>
            <a:ext cx="59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评选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节油标兵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小数五年级上册_页面_056"/>
          <p:cNvPicPr/>
          <p:nvPr/>
        </p:nvPicPr>
        <p:blipFill>
          <a:blip r:embed="rId2"/>
          <a:srcRect l="12595" t="39622" r="19667" b="39233"/>
          <a:stretch/>
        </p:blipFill>
        <p:spPr>
          <a:xfrm>
            <a:off x="755640" y="2384280"/>
            <a:ext cx="7632720" cy="3348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912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自学汇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9"/>
          <p:cNvSpPr/>
          <p:nvPr/>
        </p:nvSpPr>
        <p:spPr>
          <a:xfrm>
            <a:off x="971640" y="385920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116000" y="4724280"/>
            <a:ext cx="6913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得出结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看小数位数哪位能比较出大小就除到哪一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2360" y="2058480"/>
            <a:ext cx="8317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一算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师傅每天各节油多少千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9680" indent="-4996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：得数应该保留几位小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9680" indent="-4996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一比：谁是节油标兵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云形 1"/>
          <p:cNvSpPr/>
          <p:nvPr/>
        </p:nvSpPr>
        <p:spPr>
          <a:xfrm>
            <a:off x="4627440" y="550800"/>
            <a:ext cx="4103640" cy="2154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上台展示自己的式子，并讲一讲自己的做法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11120" y="1268280"/>
            <a:ext cx="671688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一说生活中哪些地方要用到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近似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116000" y="2320920"/>
            <a:ext cx="7848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一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4÷7=                25÷2.3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6÷2.7=              5÷4.2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311120" y="4013280"/>
            <a:ext cx="6840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打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字，平均每分大约打多少个字？（得数保留整数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检测中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3494160" y="285264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3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文本框 2"/>
          <p:cNvSpPr/>
          <p:nvPr/>
        </p:nvSpPr>
        <p:spPr>
          <a:xfrm>
            <a:off x="7740720" y="29242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.8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文本框 3"/>
          <p:cNvSpPr/>
          <p:nvPr/>
        </p:nvSpPr>
        <p:spPr>
          <a:xfrm>
            <a:off x="3780000" y="3357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文本框 4"/>
          <p:cNvSpPr/>
          <p:nvPr/>
        </p:nvSpPr>
        <p:spPr>
          <a:xfrm>
            <a:off x="7635960" y="335772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文本框 5"/>
          <p:cNvSpPr/>
          <p:nvPr/>
        </p:nvSpPr>
        <p:spPr>
          <a:xfrm>
            <a:off x="1866960" y="5411880"/>
            <a:ext cx="55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0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÷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9≈17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个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1366920" y="1311120"/>
            <a:ext cx="6408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燃气公司铺设天然气管道，上午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铺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3.5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下午用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铺了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93.5m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上午铺设的速度快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下午铺设的速度快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332000" y="4365720"/>
            <a:ext cx="662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两位小数除以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得到近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这个两位小数可能是哪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912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e84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e840a"/>
                </a:solidFill>
                <a:latin typeface="微软雅黑"/>
                <a:ea typeface="微软雅黑"/>
              </a:rPr>
              <a:t>能力提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1"/>
          <p:cNvSpPr/>
          <p:nvPr/>
        </p:nvSpPr>
        <p:spPr>
          <a:xfrm>
            <a:off x="1887480" y="3535200"/>
            <a:ext cx="57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上午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3.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5≈23.8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下午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3.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=23.375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米）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.86&gt;23.375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上午铺设的速度快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1116000" y="2639880"/>
            <a:ext cx="6985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同学们，你这节课有哪些收获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未标题-1"/>
          <p:cNvPicPr/>
          <p:nvPr/>
        </p:nvPicPr>
        <p:blipFill>
          <a:blip r:embed="rId2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/>
  <dcterms:modified xsi:type="dcterms:W3CDTF">2017-11-07T22:39:11Z</dcterms:modified>
  <cp:revision>0</cp:revision>
  <dc:subject> </dc:subject>
  <dc:title> </dc:title>
</cp:coreProperties>
</file>