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cashreg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0B75-1D2F-4B86-A0EB-D9D4B1113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1EDB-0B40-49B4-86D1-5F820B2E61F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850C-ECBA-400D-80BD-DB8F608AB5F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D07-8A56-4D96-894D-C504F685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053-724D-4054-9B9E-01D10828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BFB-264E-4590-BA8A-1AC8A1BE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35B-AC33-4F29-BD87-B5748EFD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A713-B76D-43AF-B0E4-03260D95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7C3C-80FA-4906-B82B-57F4BC77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DE70-89A6-4926-B312-ABFFD91D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AB21-0FC1-4989-99C9-82D5D3C7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CCE0-0F73-463B-8D34-799A0B92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E9E5-8E74-4D83-8C72-2A30D99E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E821-1D8C-49EC-89A6-9A1EC6FC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F34-769C-4755-A07C-78CA6EB4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A0BB-1BD1-4E42-B7A7-27B5C46B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7A28-0AE9-4412-A5E5-29844254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55F2-3589-4DF8-A712-2EFC5758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D099-7263-44DE-B4A9-FEB52957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DD9C-52A4-4D36-8F0B-E8009B53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FD7B-570E-44D3-8A18-BF021D1F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8F996-0178-4683-BED3-F692167E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913D-6812-4B77-B4D2-48730EF9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BA35-E30F-48B4-ABB8-407F08FD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50552-3F3B-4410-AB81-1C3F4769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EED-AB70-4D48-AE7B-ECB0AF30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3BE0-70A7-42E1-AC90-0481AE3C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AA669-FF2B-4E42-B5BF-D0A50F9D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A874-5BC4-44CE-B11F-CD5EDEC4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F892-DC19-4D8B-9DED-846226DF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B1E27-1B21-4F46-BF81-CCF1421B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3693-0F55-47B2-9F5D-2882F090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6DBD-F6F3-4C2F-8324-A67DA678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37EC-BB81-4DB5-919F-E72E4DAD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688A-94BF-4331-9D90-7E681947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ECBF5-0B68-486F-9911-B0B1A38B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59B-EBD1-4AA1-8A47-203E626F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49DC5-67B5-4F43-99DC-E355129B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2957-4588-491D-86F4-62DAF6D4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BB35-B748-4F07-97CB-46FFC80C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F0B6-3535-4A81-A08A-D15598F7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63779-C4FE-4CD8-B32A-90576ABA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1941-397D-419F-A87D-9C055D8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47EF-ED50-4D30-AEC3-A9F6B7D3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444C1-FDAE-4BC3-A0D4-B6D3DF2B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B69F-C58F-4CCC-8B62-6BCD6C0B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EE8-0551-40A1-9459-4B99E895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7F7-A1AE-49B0-9E2D-5E8285B5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506-2476-49F7-8824-F175DA1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C92-9043-4FBD-BA55-0FE9C504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503-062E-4C14-BCF9-E5467237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075D-17D0-47F0-8829-67D15917D2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9FE5-516E-48A0-AD22-5D16B19454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B4D-73ED-44B2-ABEA-FE775635E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E30B-58B9-466C-8F15-DA5ABD59DA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图片 7" descr="图片133366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5"/>
          <p:cNvSpPr/>
          <p:nvPr/>
        </p:nvSpPr>
        <p:spPr>
          <a:xfrm>
            <a:off x="193500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81080" y="3352680"/>
            <a:ext cx="87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整 理 与 复 习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2652840" y="1600200"/>
            <a:ext cx="609480" cy="743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95480" y="2558880"/>
            <a:ext cx="3240360" cy="3240"/>
            <a:chOff x="2895480" y="2558880"/>
            <a:chExt cx="3240360" cy="3240"/>
          </a:xfrm>
        </p:grpSpPr>
        <p:sp>
          <p:nvSpPr>
            <p:cNvPr id="177" name="Line 10"/>
            <p:cNvSpPr/>
            <p:nvPr/>
          </p:nvSpPr>
          <p:spPr>
            <a:xfrm>
              <a:off x="2895480" y="2558880"/>
              <a:ext cx="3240360" cy="3240"/>
            </a:xfrm>
            <a:prstGeom prst="line">
              <a:avLst/>
            </a:prstGeom>
            <a:ln w="57240">
              <a:solidFill>
                <a:srgbClr val="8dd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895480" y="2558880"/>
              <a:ext cx="32403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Rectangle 11"/>
          <p:cNvSpPr/>
          <p:nvPr/>
        </p:nvSpPr>
        <p:spPr>
          <a:xfrm>
            <a:off x="2881440" y="196200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966240" y="1812960"/>
            <a:ext cx="3925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三 单元    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除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789120" y="1484280"/>
            <a:ext cx="7716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数的小数部分，从某一位起，一个数字或者几个数字依次不断重复出现，这样的小数叫做</a:t>
            </a: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循环小数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循环小数的 小数部分，依次不断重复出现的数字，叫做这个循环小数的</a:t>
            </a: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循环节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部分的位数是有限的小数，叫做</a:t>
            </a: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限小数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部分的位数是无限的小数，叫做</a:t>
            </a: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无限小数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标题 1"/>
          <p:cNvSpPr/>
          <p:nvPr/>
        </p:nvSpPr>
        <p:spPr>
          <a:xfrm>
            <a:off x="519120" y="331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循环小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2"/>
          <p:cNvSpPr/>
          <p:nvPr/>
        </p:nvSpPr>
        <p:spPr>
          <a:xfrm>
            <a:off x="1567080" y="1315080"/>
            <a:ext cx="62809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可分成有限小数和无限小数（   ）  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   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小数是无限小数（   ）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810360" y="3180600"/>
            <a:ext cx="65516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限小数是循环小数 （    ）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   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3.456456…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写成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56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    ）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5626800" y="22766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5853960" y="3141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6673680" y="4108320"/>
            <a:ext cx="4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7678080" y="14130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1116000" y="5000760"/>
            <a:ext cx="68407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小数相除商是小数，两个整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除商是整数（    ）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4344480" y="5477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标题 1"/>
          <p:cNvSpPr/>
          <p:nvPr/>
        </p:nvSpPr>
        <p:spPr>
          <a:xfrm>
            <a:off x="496800" y="343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判断。错误的，请说出理由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042560" y="1719000"/>
            <a:ext cx="69850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数除以小数，商一定比被除数大。                　　               （     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数相除，除不尽商一定是循环小数。                      　  　    （     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小数一定比有限小数大。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7275600" y="21319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微软雅黑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7275600" y="36338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微软雅黑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7275600" y="45576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微软雅黑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标题 1"/>
          <p:cNvSpPr/>
          <p:nvPr/>
        </p:nvSpPr>
        <p:spPr>
          <a:xfrm>
            <a:off x="519120" y="40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判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246320" y="1557360"/>
            <a:ext cx="6781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解决实际问题时，我们不能机械的使用“四舍五入”，法要根据实际情况来确定是“舍”还是“入”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“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一法”（无论多余的数是多少，都向前一位进一）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尾法”（无论多余的数是多少都舍掉）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标题 1"/>
          <p:cNvSpPr/>
          <p:nvPr/>
        </p:nvSpPr>
        <p:spPr>
          <a:xfrm>
            <a:off x="519120" y="331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解决问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1187280" y="1989000"/>
            <a:ext cx="7848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在什么地方用到了进一法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在什么地方用到了去尾法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482760" y="870120"/>
            <a:ext cx="8140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堆煤重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6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吨，一辆卡车每次运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5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吨，至少需运多少次才能运完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604800" y="2951280"/>
            <a:ext cx="76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56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7.5≈8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次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：至少需运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次才能运完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4613400" y="2917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55760" y="856080"/>
            <a:ext cx="830736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妈妈要将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5kg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香油分装在一些玻璃瓶里，每瓶最多可盛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4kg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妈妈需要准备几个瓶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如果要出售这些香油，妈妈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共能装多少瓶出售？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文本框 1"/>
          <p:cNvSpPr/>
          <p:nvPr/>
        </p:nvSpPr>
        <p:spPr>
          <a:xfrm>
            <a:off x="1028880" y="4425840"/>
            <a:ext cx="721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5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0.4≈7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：妈妈需要准备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个瓶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5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0.4≈6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瓶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：妈妈一共能装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瓶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1332000" y="3284640"/>
            <a:ext cx="50878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16000" y="647640"/>
            <a:ext cx="698652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4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家庭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用水一共要交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4.6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，平均每户每月要交多少元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116000" y="2766960"/>
            <a:ext cx="70581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只信鸽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飞行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4km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一只雨燕每小时比信鸽多飞行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96.2km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雨燕飞行的速度是信鸽的几倍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文本框 1"/>
          <p:cNvSpPr/>
          <p:nvPr/>
        </p:nvSpPr>
        <p:spPr>
          <a:xfrm>
            <a:off x="1898640" y="2219400"/>
            <a:ext cx="56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504.6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=42.03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文本框 2"/>
          <p:cNvSpPr/>
          <p:nvPr/>
        </p:nvSpPr>
        <p:spPr>
          <a:xfrm>
            <a:off x="1898640" y="4854600"/>
            <a:ext cx="56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96.2+74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74=2.3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倍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7"/>
          <p:cNvGrpSpPr/>
          <p:nvPr/>
        </p:nvGrpSpPr>
        <p:grpSpPr>
          <a:xfrm>
            <a:off x="611280" y="1054080"/>
            <a:ext cx="7848360" cy="4749840"/>
            <a:chOff x="611280" y="1054080"/>
            <a:chExt cx="7848360" cy="4749840"/>
          </a:xfrm>
        </p:grpSpPr>
        <p:pic>
          <p:nvPicPr>
            <p:cNvPr id="242" name="Picture 5" descr="小数五年级上册_页面_066"/>
            <p:cNvPicPr/>
            <p:nvPr/>
          </p:nvPicPr>
          <p:blipFill>
            <a:blip r:embed="rId2"/>
            <a:srcRect l="8650" t="55398" r="9223" b="9227"/>
            <a:stretch/>
          </p:blipFill>
          <p:spPr>
            <a:xfrm>
              <a:off x="611280" y="1054080"/>
              <a:ext cx="784836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6"/>
            <p:cNvSpPr/>
            <p:nvPr/>
          </p:nvSpPr>
          <p:spPr>
            <a:xfrm>
              <a:off x="792720" y="1144800"/>
              <a:ext cx="436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4" name="文本框 2"/>
          <p:cNvSpPr/>
          <p:nvPr/>
        </p:nvSpPr>
        <p:spPr>
          <a:xfrm>
            <a:off x="2206800" y="5730840"/>
            <a:ext cx="56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.6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8.01≈17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小数五年级上册_页面_068"/>
          <p:cNvPicPr/>
          <p:nvPr/>
        </p:nvPicPr>
        <p:blipFill>
          <a:blip r:embed="rId2"/>
          <a:srcRect l="14059" t="50475" r="10293" b="20288"/>
          <a:stretch/>
        </p:blipFill>
        <p:spPr>
          <a:xfrm>
            <a:off x="755640" y="765000"/>
            <a:ext cx="7632720" cy="414360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1"/>
          <p:cNvSpPr/>
          <p:nvPr/>
        </p:nvSpPr>
        <p:spPr>
          <a:xfrm>
            <a:off x="1038240" y="5040360"/>
            <a:ext cx="691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文本框 1"/>
          <p:cNvSpPr/>
          <p:nvPr/>
        </p:nvSpPr>
        <p:spPr>
          <a:xfrm>
            <a:off x="1536840" y="4881600"/>
            <a:ext cx="54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53.34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54=21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英寸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2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54=106.68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11"/>
          <p:cNvSpPr/>
          <p:nvPr/>
        </p:nvSpPr>
        <p:spPr>
          <a:xfrm>
            <a:off x="1042920" y="1347840"/>
            <a:ext cx="669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你整理的知识结构图，和小组的同学说说，并进行补充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13"/>
          <p:cNvSpPr/>
          <p:nvPr/>
        </p:nvSpPr>
        <p:spPr>
          <a:xfrm>
            <a:off x="1990800" y="3098880"/>
            <a:ext cx="597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数除法的计算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除数是整数的小数除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14"/>
          <p:cNvSpPr/>
          <p:nvPr/>
        </p:nvSpPr>
        <p:spPr>
          <a:xfrm>
            <a:off x="1990800" y="47498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除数是小数的小数除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小数五年级上册_页面_068"/>
          <p:cNvPicPr/>
          <p:nvPr/>
        </p:nvPicPr>
        <p:blipFill>
          <a:blip r:embed="rId2"/>
          <a:srcRect l="11211" t="80962" r="76664" b="6527"/>
          <a:stretch/>
        </p:blipFill>
        <p:spPr>
          <a:xfrm>
            <a:off x="3924360" y="1557360"/>
            <a:ext cx="1224000" cy="1773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小数五年级上册_页面_068"/>
          <p:cNvPicPr/>
          <p:nvPr/>
        </p:nvPicPr>
        <p:blipFill>
          <a:blip r:embed="rId3"/>
          <a:srcRect l="25497" t="80962" r="10293" b="6527"/>
          <a:stretch/>
        </p:blipFill>
        <p:spPr>
          <a:xfrm>
            <a:off x="863640" y="3457440"/>
            <a:ext cx="752472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未标题-1"/>
          <p:cNvPicPr/>
          <p:nvPr/>
        </p:nvPicPr>
        <p:blipFill>
          <a:blip r:embed="rId2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8"/>
          <p:cNvSpPr/>
          <p:nvPr/>
        </p:nvSpPr>
        <p:spPr>
          <a:xfrm>
            <a:off x="692280" y="1474920"/>
            <a:ext cx="77943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整数的小数除法，按照整数除法的法则去除，商的小数点要和被除数的小数点对齐，如果除到被除数的末尾有余数，就在余数的后面添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续除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1116000" y="857160"/>
            <a:ext cx="680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小数的除法先移动除数的小数点，使它变成整数。除数的小数点向右移动几位，被除数的小数点也向右移动几位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数不够，在被除数的末尾用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补足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然后按照除数是整数的小数除法进行计算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26920" y="1142640"/>
            <a:ext cx="774072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0.132÷0.15=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       ）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8÷11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商用循环小数表示是（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保留两位小数是（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），保留三位小数是（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403.3×1.001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积有（   ）位小数，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002÷1.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商的最高位在（    ）位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284720" y="12366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3.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443640" y="12589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732720" y="220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0.7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4357800" y="2849400"/>
            <a:ext cx="12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0.7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443320" y="3498840"/>
            <a:ext cx="176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0.72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5508720" y="4437000"/>
            <a:ext cx="64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6500880" y="5048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7596360" y="2101680"/>
            <a:ext cx="5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3"/>
          <p:cNvSpPr/>
          <p:nvPr/>
        </p:nvSpPr>
        <p:spPr>
          <a:xfrm>
            <a:off x="1319040" y="1700280"/>
            <a:ext cx="67820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除法中，被除数不为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除数大于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商小于被除数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除数小于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商大于被除数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除数等于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商等于被除数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912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如何判断商和被除数的关系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5"/>
          <p:cNvSpPr/>
          <p:nvPr/>
        </p:nvSpPr>
        <p:spPr>
          <a:xfrm>
            <a:off x="1619280" y="1514520"/>
            <a:ext cx="571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6" descr="小数五年级上册_页面_068"/>
          <p:cNvPicPr/>
          <p:nvPr/>
        </p:nvPicPr>
        <p:blipFill>
          <a:blip r:embed="rId2"/>
          <a:srcRect l="16204" t="11550" r="53539" b="75378"/>
          <a:stretch/>
        </p:blipFill>
        <p:spPr>
          <a:xfrm>
            <a:off x="1938240" y="1790640"/>
            <a:ext cx="5400720" cy="3278160"/>
          </a:xfrm>
          <a:prstGeom prst="rect">
            <a:avLst/>
          </a:prstGeom>
          <a:ln w="0">
            <a:noFill/>
          </a:ln>
        </p:spPr>
      </p:pic>
      <p:sp>
        <p:nvSpPr>
          <p:cNvPr id="199" name="标题 1"/>
          <p:cNvSpPr/>
          <p:nvPr/>
        </p:nvSpPr>
        <p:spPr>
          <a:xfrm>
            <a:off x="519120" y="40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填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文本框 1"/>
          <p:cNvSpPr/>
          <p:nvPr/>
        </p:nvSpPr>
        <p:spPr>
          <a:xfrm>
            <a:off x="5133960" y="204948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文本框 2"/>
          <p:cNvSpPr/>
          <p:nvPr/>
        </p:nvSpPr>
        <p:spPr>
          <a:xfrm>
            <a:off x="5133960" y="266400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文本框 3"/>
          <p:cNvSpPr/>
          <p:nvPr/>
        </p:nvSpPr>
        <p:spPr>
          <a:xfrm>
            <a:off x="5133960" y="340992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8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文本框 4"/>
          <p:cNvSpPr/>
          <p:nvPr/>
        </p:nvSpPr>
        <p:spPr>
          <a:xfrm>
            <a:off x="5133960" y="402264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小数五年级上册_页面_068"/>
          <p:cNvPicPr/>
          <p:nvPr/>
        </p:nvPicPr>
        <p:blipFill>
          <a:blip r:embed="rId2"/>
          <a:srcRect l="59380" t="11550" r="14405" b="75378"/>
          <a:stretch/>
        </p:blipFill>
        <p:spPr>
          <a:xfrm>
            <a:off x="2050920" y="1916280"/>
            <a:ext cx="4680000" cy="3278160"/>
          </a:xfrm>
          <a:prstGeom prst="rect">
            <a:avLst/>
          </a:prstGeom>
          <a:ln w="0">
            <a:noFill/>
          </a:ln>
        </p:spPr>
      </p:pic>
      <p:sp>
        <p:nvSpPr>
          <p:cNvPr id="205" name="标题 1"/>
          <p:cNvSpPr/>
          <p:nvPr/>
        </p:nvSpPr>
        <p:spPr>
          <a:xfrm>
            <a:off x="519120" y="40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填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文本框 1"/>
          <p:cNvSpPr/>
          <p:nvPr/>
        </p:nvSpPr>
        <p:spPr>
          <a:xfrm>
            <a:off x="2556000" y="211284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文本框 2"/>
          <p:cNvSpPr/>
          <p:nvPr/>
        </p:nvSpPr>
        <p:spPr>
          <a:xfrm>
            <a:off x="5302080" y="2813040"/>
            <a:ext cx="11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7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文本框 3"/>
          <p:cNvSpPr/>
          <p:nvPr/>
        </p:nvSpPr>
        <p:spPr>
          <a:xfrm>
            <a:off x="2556000" y="416088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文本框 4"/>
          <p:cNvSpPr/>
          <p:nvPr/>
        </p:nvSpPr>
        <p:spPr>
          <a:xfrm>
            <a:off x="5302080" y="3548160"/>
            <a:ext cx="11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826920" y="1628640"/>
            <a:ext cx="76456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通常用什么方法取商的近似数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四舍五入”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商的近似数时，怎样保留商的小数位数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要除到比需要保留的小数位数多一位就可以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标题 1"/>
          <p:cNvSpPr/>
          <p:nvPr/>
        </p:nvSpPr>
        <p:spPr>
          <a:xfrm>
            <a:off x="519120" y="331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商的近似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/>
  <dcterms:modified xsi:type="dcterms:W3CDTF">2017-11-07T22:39:11Z</dcterms:modified>
  <cp:revision>0</cp:revision>
  <dc:subject> </dc:subject>
  <dc:title> </dc:title>
</cp:coreProperties>
</file>