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png" ContentType="image/png"/>
  <Override PartName="/ppt/media/chimes.wav" ContentType="audio/x-wav"/>
  <Override PartName="/ppt/media/image11.jpeg" ContentType="image/jpeg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4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056-4AC2-4F43-8E43-9C991C5F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625-D814-4491-8B90-D8A10CEB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571-9826-415D-B68F-35C924EA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BF8-F0F8-4045-95C6-DB4B91A7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EE7-BEE5-4463-ADD7-FA1561E3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B34-0218-43C1-9026-DA167518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D6C-5AFB-4804-A3FE-C22E0707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85D-8B7B-47F8-84DE-F6D0B6D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6B7-0C65-4AAD-A1C6-14337D6F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700-55EC-4146-AED6-FFA451DA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958-E18D-4B19-AA8C-4B097E3F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80F-D0F8-4F23-A425-ABB9D63E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5E6C-48D0-4C17-84E3-2DFABE831B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8371"/>
          <p:cNvSpPr txBox="1"/>
          <p:nvPr/>
        </p:nvSpPr>
        <p:spPr>
          <a:xfrm>
            <a:off x="179280" y="26028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et's act!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文本框 58372"/>
          <p:cNvSpPr/>
          <p:nvPr/>
        </p:nvSpPr>
        <p:spPr>
          <a:xfrm>
            <a:off x="2627280" y="1628640"/>
            <a:ext cx="626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ask1: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表演课本第一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ask2: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表演课本第二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ask3: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表演课本第三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文本框 58373"/>
          <p:cNvSpPr/>
          <p:nvPr/>
        </p:nvSpPr>
        <p:spPr>
          <a:xfrm>
            <a:off x="2703600" y="189000"/>
            <a:ext cx="5740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Work in four, choose one task to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四人一个小组，选择一个任务分角色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并且表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7169" descr="U260P33T2D77795F9DT20040827084449"/>
          <p:cNvPicPr/>
          <p:nvPr/>
        </p:nvPicPr>
        <p:blipFill>
          <a:blip r:embed="rId1"/>
          <a:stretch/>
        </p:blipFill>
        <p:spPr>
          <a:xfrm>
            <a:off x="1979640" y="189000"/>
            <a:ext cx="4978440" cy="350496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7170"/>
          <p:cNvSpPr/>
          <p:nvPr/>
        </p:nvSpPr>
        <p:spPr>
          <a:xfrm>
            <a:off x="2268360" y="357336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 tax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7172"/>
          <p:cNvSpPr/>
          <p:nvPr/>
        </p:nvSpPr>
        <p:spPr>
          <a:xfrm>
            <a:off x="1908000" y="4508640"/>
            <a:ext cx="66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lk, walk, wal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7173"/>
          <p:cNvSpPr/>
          <p:nvPr/>
        </p:nvSpPr>
        <p:spPr>
          <a:xfrm>
            <a:off x="1835280" y="515772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red, tired, ti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7174"/>
          <p:cNvSpPr/>
          <p:nvPr/>
        </p:nvSpPr>
        <p:spPr>
          <a:xfrm>
            <a:off x="1763640" y="587700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axi! Taxi!! Taxi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2468" descr="065cm"/>
          <p:cNvPicPr/>
          <p:nvPr/>
        </p:nvPicPr>
        <p:blipFill>
          <a:blip r:embed="rId1"/>
          <a:stretch/>
        </p:blipFill>
        <p:spPr>
          <a:xfrm>
            <a:off x="3348000" y="333360"/>
            <a:ext cx="2016000" cy="11527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62470" descr="无标题3"/>
          <p:cNvPicPr/>
          <p:nvPr/>
        </p:nvPicPr>
        <p:blipFill>
          <a:blip r:embed="rId2"/>
          <a:stretch/>
        </p:blipFill>
        <p:spPr>
          <a:xfrm>
            <a:off x="-2232000" y="400536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62474" descr="无标题3"/>
          <p:cNvPicPr/>
          <p:nvPr/>
        </p:nvPicPr>
        <p:blipFill>
          <a:blip r:embed="rId3"/>
          <a:stretch/>
        </p:blipFill>
        <p:spPr>
          <a:xfrm>
            <a:off x="3564000" y="3284640"/>
            <a:ext cx="2232000" cy="149364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2475"/>
          <p:cNvSpPr/>
          <p:nvPr/>
        </p:nvSpPr>
        <p:spPr>
          <a:xfrm>
            <a:off x="1619280" y="134136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can you s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62476"/>
          <p:cNvSpPr/>
          <p:nvPr/>
        </p:nvSpPr>
        <p:spPr>
          <a:xfrm>
            <a:off x="1692360" y="198900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see a…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图片 62477" descr="3270531"/>
          <p:cNvPicPr/>
          <p:nvPr/>
        </p:nvPicPr>
        <p:blipFill>
          <a:blip r:embed="rId4"/>
          <a:stretch/>
        </p:blipFill>
        <p:spPr>
          <a:xfrm>
            <a:off x="-3165480" y="2708280"/>
            <a:ext cx="3165480" cy="31654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2478" descr="3270531"/>
          <p:cNvPicPr/>
          <p:nvPr/>
        </p:nvPicPr>
        <p:blipFill>
          <a:blip r:embed="rId5"/>
          <a:stretch/>
        </p:blipFill>
        <p:spPr>
          <a:xfrm>
            <a:off x="2987640" y="2781360"/>
            <a:ext cx="3165480" cy="31654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62479" descr="无标题2"/>
          <p:cNvPicPr/>
          <p:nvPr/>
        </p:nvPicPr>
        <p:blipFill>
          <a:blip r:embed="rId6"/>
          <a:stretch/>
        </p:blipFill>
        <p:spPr>
          <a:xfrm>
            <a:off x="-3240000" y="3068640"/>
            <a:ext cx="3240000" cy="2338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62480" descr="无标题2"/>
          <p:cNvPicPr/>
          <p:nvPr/>
        </p:nvPicPr>
        <p:blipFill>
          <a:blip r:embed="rId7"/>
          <a:stretch/>
        </p:blipFill>
        <p:spPr>
          <a:xfrm>
            <a:off x="2843280" y="2708280"/>
            <a:ext cx="3240000" cy="2338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2481" descr="无标题4"/>
          <p:cNvPicPr/>
          <p:nvPr/>
        </p:nvPicPr>
        <p:blipFill>
          <a:blip r:embed="rId8"/>
          <a:stretch/>
        </p:blipFill>
        <p:spPr>
          <a:xfrm>
            <a:off x="-5149800" y="2205000"/>
            <a:ext cx="4943520" cy="30099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2482" descr="无标题4"/>
          <p:cNvPicPr/>
          <p:nvPr/>
        </p:nvPicPr>
        <p:blipFill>
          <a:blip r:embed="rId9"/>
          <a:stretch/>
        </p:blipFill>
        <p:spPr>
          <a:xfrm>
            <a:off x="1979640" y="2708280"/>
            <a:ext cx="4943520" cy="3009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2484" descr="1263764_214611095048_2"/>
          <p:cNvPicPr/>
          <p:nvPr/>
        </p:nvPicPr>
        <p:blipFill>
          <a:blip r:embed="rId10"/>
          <a:stretch/>
        </p:blipFill>
        <p:spPr>
          <a:xfrm>
            <a:off x="-4568760" y="220500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2485" descr="1263764_214611095048_2"/>
          <p:cNvPicPr/>
          <p:nvPr/>
        </p:nvPicPr>
        <p:blipFill>
          <a:blip r:embed="rId11"/>
          <a:srcRect l="0" t="0" r="3878" b="3374"/>
          <a:stretch/>
        </p:blipFill>
        <p:spPr>
          <a:xfrm>
            <a:off x="2268360" y="2781360"/>
            <a:ext cx="4392720" cy="33116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2486" descr="2252727904"/>
          <p:cNvPicPr/>
          <p:nvPr/>
        </p:nvPicPr>
        <p:blipFill>
          <a:blip r:embed="rId12"/>
          <a:stretch/>
        </p:blipFill>
        <p:spPr>
          <a:xfrm>
            <a:off x="-4824360" y="2133720"/>
            <a:ext cx="4824360" cy="3009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62487" descr="2252727904"/>
          <p:cNvPicPr/>
          <p:nvPr/>
        </p:nvPicPr>
        <p:blipFill>
          <a:blip r:embed="rId13"/>
          <a:stretch/>
        </p:blipFill>
        <p:spPr>
          <a:xfrm>
            <a:off x="1979640" y="2781360"/>
            <a:ext cx="4824360" cy="30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58 0.03492 C 0.13698 0.03007 0.18038 0.03469 0.22396 0.03677 C 0.36268 0.05389 0.51024 0.04579 0.64688 0.04695 C 0.70903 0.04811 0.77014 0.04926 0.83195 0.05296 C 0.86302 0.05782 0.84827 0.05597 0.87587 0.05921 C 0.90816 0.05736 0.94045 0.05689 0.97292 0.05504 C 0.98629 0.05412 1.01337 0.05111 1.01337 0.05134 C 1.025 0.04603 1.0382 0.04626 1.05035 0.04487 C 1.08872 0.03076 1.13472 0.03215 1.17379 0.03076 C 1.23542 0.01712 1.36233 0.03076 1.36233 0.03099 E">
                                      <p:cBhvr>
                                        <p:cTn id="28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87 0.02127 C 0.14687 0.03075 0.15365 0.03284 0.18247 0.03538 C 0.19549 0.03885 0.2066 0.04 0.22031 0.04139 C 0.29931 0.05851 0.37708 0.05434 0.45781 0.0555 C 0.49115 0.0629 0.52778 0.06544 0.56181 0.06753 C 0.58021 0.07076 0.59878 0.07146 0.61736 0.07377 C 0.65937 0.07284 0.70174 0.07284 0.74375 0.07169 C 0.74618 0.07169 0.74826 0.06984 0.75069 0.06961 C 0.77378 0.06776 0.81997 0.06568 0.81997 0.06591 C 0.92517 0.06753 1.02882 0.06544 1.13351 0.05735 C 1.1533 0.05203 1.16875 0.05249 1.1908 0.05157 C 1.24358 0.04324 1.29132 0.04255 1.34653 0.04139 C 1.36736 0.03954 1.37448 0.03769 1.39514 0.04139 C 1.40382 0.04301 1.41198 0.04949 1.42118 0.04949 E">
                                      <p:cBhvr>
                                        <p:cTn id="30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88 -0.00231 C 0.14166 0.00347 0.16736 0.01064 0.19149 0.01203 C 0.24861 0.01527 0.3625 0.01943 0.3625 0.01966 C 0.40052 0.02313 0.43767 0.04464 0.47534 0.04556 C 0.54878 0.04695 0.6217 0.04718 0.69479 0.04811 C 0.75104 0.05851 0.81406 0.05181 0.86892 0.05065 C 0.89739 0.04394 0.88281 0.04649 0.91198 0.04325 C 0.94514 0.03631 0.91128 0.04279 0.98246 0.03862 C 1.05781 0.03423 1.1309 0.0303 1.20659 0.02891 C 1.23628 0.02683 1.2658 0.0266 1.29566 0.02405 C 1.29965 0.02382 1.3033 0.02035 1.30729 0.01943 C 1.32934 0.01365 1.35225 0.01018 1.37448 0.0074 C 1.40555 0.00856 1.43854 0.01203 1.47014 0.01203 E">
                                      <p:cBhvr>
                                        <p:cTn id="31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6 -0.04093 C 0.25434 -0.03978 0.25972 -0.03769 0.27066 -0.03515 C 0.27673 -0.03353 0.29028 -0.03122 0.29028 -0.03099 C 0.30121 -0.02683 0.31215 -0.0259 0.32361 -0.02359 C 0.34757 -0.01827 0.37118 -0.01411 0.39496 -0.00948 C 0.48958 -0.01156 0.50486 -0.01341 0.60173 -0.01156 C 0.63229 -0.00832 0.66215 -0.00069 0.69253 0.00208 C 0.75972 0.02105 0.96215 0.01157 0.98333 0.0118 C 0.9993 0.01365 1.01562 0.01573 1.03142 0.01781 C 1.04514 0.01943 1.07239 0.02174 1.07239 0.02197 C 1.15451 0.02082 1.21215 0.02035 1.28628 0.0118 C 1.3033 0.00648 1.32066 0.00486 1.33802 0.00208 C 1.35416 -0.00694 1.37396 -0.00532 1.39149 -0.00786 C 1.43628 -0.00647 1.48055 -0.00393 1.52517 -0.00393 E">
                                      <p:cBhvr>
                                        <p:cTn id="33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43 -0.00833 C 0.23177 -0.00139 0.24688 0.00208 0.27414 0.0037 C 0.38039 0.03631 0.27622 0.00601 0.56563 0.00601 C 0.60868 0.00601 0.65191 0.00948 0.69497 0.01087 C 0.72813 0.01549 0.76077 0.01665 0.79427 0.01804 C 0.82414 0.02104 0.85382 0.02312 0.88334 0.02544 C 0.89896 0.02798 0.91493 0.02752 0.93056 0.03029 C 0.9408 0.03238 0.95105 0.03839 0.96198 0.04001 C 0.96893 0.0407 0.97605 0.04163 0.98264 0.04255 C 0.99341 0.04394 1.00365 0.04556 1.01407 0.04718 C 1.02032 0.0481 1.03177 0.04972 1.03177 0.05018 C 1.08594 0.04903 1.14011 0.04856 1.1941 0.04718 C 1.19775 0.04718 1.20122 0.04556 1.20434 0.04509 C 1.21337 0.04394 1.22205 0.04301 1.23073 0.04255 C 1.25452 0.0407 1.30243 0.03769 1.30243 0.03793 C 1.3507 0.02867 1.40157 0.03006 1.45052 0.02775 C 1.46407 0.02497 1.47726 0.01873 1.4908 0.01596 C 1.50105 0.0111 1.4941 0.01341 1.51164 0.01341 E">
                                      <p:cBhvr>
                                        <p:cTn id="34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32 0.15357 C 0.23907 0.1538 0.38907 0.15819 0.44219 0.15357 C 0.45764 0.15218 0.47466 0.1457 0.49011 0.1427 C 0.4974 0.14131 0.50469 0.13969 0.51198 0.1383 C 0.51563 0.13738 0.52275 0.13622 0.52275 0.13645 C 0.53907 0.12859 0.55521 0.12443 0.5724 0.12119 C 0.5908 0.11032 0.60834 0.11148 0.62813 0.11032 C 0.6566 0.105 0.6849 0.10361 0.71355 0.10153 C 0.76685 0.10269 0.81632 0.10384 0.86858 0.10801 C 0.92066 0.11888 0.97466 0.11888 1.02691 0.12119 C 1.09549 0.1279 1.05643 0.12489 1.19896 0.12119 C 1.22136 0.1205 1.24375 0.11124 1.2658 0.10801 C 1.30087 0.10269 1.33542 0.10269 1.37119 0.10153 C 1.42344 0.10292 1.44289 0.105 1.4875 0.10801 C 1.49428 0.10731 1.50122 0.10801 1.50764 0.10569 C 1.51216 0.10431 1.52014 0.09714 1.52014 0.09737 C 1.52066 0.09482 1.52066 0.09274 1.52153 0.09066 C 1.52292 0.08812 1.52639 0.08419 1.52639 0.08442 E">
                                      <p:cBhvr>
                                        <p:cTn id="37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 to the tape of Part A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Copybook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Talk about the vehicles you see with your friend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63489"/>
          <p:cNvSpPr/>
          <p:nvPr/>
        </p:nvSpPr>
        <p:spPr>
          <a:xfrm rot="20664000">
            <a:off x="902520" y="1915920"/>
            <a:ext cx="486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Goodby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63490"/>
          <p:cNvSpPr/>
          <p:nvPr/>
        </p:nvSpPr>
        <p:spPr>
          <a:xfrm rot="1030200">
            <a:off x="6732000" y="1628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by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8673" descr="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28674"/>
          <p:cNvSpPr/>
          <p:nvPr/>
        </p:nvSpPr>
        <p:spPr>
          <a:xfrm>
            <a:off x="1403280" y="333360"/>
            <a:ext cx="726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nit 2 Coming to scho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0966" descr="22"/>
          <p:cNvPicPr/>
          <p:nvPr/>
        </p:nvPicPr>
        <p:blipFill>
          <a:blip r:embed="rId1"/>
          <a:srcRect l="0" t="0" r="1716" b="6089"/>
          <a:stretch/>
        </p:blipFill>
        <p:spPr>
          <a:xfrm>
            <a:off x="468360" y="2060640"/>
            <a:ext cx="8209080" cy="424800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40962"/>
          <p:cNvSpPr/>
          <p:nvPr/>
        </p:nvSpPr>
        <p:spPr>
          <a:xfrm>
            <a:off x="0" y="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Point and s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40963"/>
          <p:cNvSpPr/>
          <p:nvPr/>
        </p:nvSpPr>
        <p:spPr>
          <a:xfrm>
            <a:off x="4643280" y="1341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I can se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ca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椭圆 40964"/>
          <p:cNvSpPr/>
          <p:nvPr/>
        </p:nvSpPr>
        <p:spPr>
          <a:xfrm>
            <a:off x="5651640" y="5084640"/>
            <a:ext cx="60948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40967"/>
          <p:cNvSpPr/>
          <p:nvPr/>
        </p:nvSpPr>
        <p:spPr>
          <a:xfrm>
            <a:off x="395280" y="90792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What can you se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049" descr="200486100130"/>
          <p:cNvPicPr/>
          <p:nvPr/>
        </p:nvPicPr>
        <p:blipFill>
          <a:blip r:embed="rId1"/>
          <a:stretch/>
        </p:blipFill>
        <p:spPr>
          <a:xfrm>
            <a:off x="2050920" y="189000"/>
            <a:ext cx="5545440" cy="352908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2050"/>
          <p:cNvSpPr/>
          <p:nvPr/>
        </p:nvSpPr>
        <p:spPr>
          <a:xfrm>
            <a:off x="2050920" y="357336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 c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2051"/>
          <p:cNvSpPr/>
          <p:nvPr/>
        </p:nvSpPr>
        <p:spPr>
          <a:xfrm>
            <a:off x="1835280" y="537372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 can se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 car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2052"/>
          <p:cNvSpPr/>
          <p:nvPr/>
        </p:nvSpPr>
        <p:spPr>
          <a:xfrm>
            <a:off x="468360" y="450864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n you see?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59395"/>
          <p:cNvSpPr/>
          <p:nvPr/>
        </p:nvSpPr>
        <p:spPr>
          <a:xfrm>
            <a:off x="1835280" y="299736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reen ca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图片 59396" descr="200486100130"/>
          <p:cNvPicPr/>
          <p:nvPr/>
        </p:nvPicPr>
        <p:blipFill>
          <a:blip r:embed="rId1"/>
          <a:stretch/>
        </p:blipFill>
        <p:spPr>
          <a:xfrm>
            <a:off x="250920" y="260280"/>
            <a:ext cx="4248000" cy="254016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59398"/>
          <p:cNvSpPr/>
          <p:nvPr/>
        </p:nvSpPr>
        <p:spPr>
          <a:xfrm>
            <a:off x="1908000" y="407664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a Ba B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59399"/>
          <p:cNvSpPr/>
          <p:nvPr/>
        </p:nvSpPr>
        <p:spPr>
          <a:xfrm>
            <a:off x="755640" y="5084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 can see a green ca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43009" descr="sfbus"/>
          <p:cNvPicPr/>
          <p:nvPr/>
        </p:nvPicPr>
        <p:blipFill>
          <a:blip r:embed="rId1"/>
          <a:stretch/>
        </p:blipFill>
        <p:spPr>
          <a:xfrm>
            <a:off x="1619280" y="0"/>
            <a:ext cx="6408720" cy="396072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43010"/>
          <p:cNvSpPr/>
          <p:nvPr/>
        </p:nvSpPr>
        <p:spPr>
          <a:xfrm>
            <a:off x="2556000" y="386064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 b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43011"/>
          <p:cNvSpPr/>
          <p:nvPr/>
        </p:nvSpPr>
        <p:spPr>
          <a:xfrm>
            <a:off x="2843280" y="5589720"/>
            <a:ext cx="516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an see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 b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43012"/>
          <p:cNvSpPr/>
          <p:nvPr/>
        </p:nvSpPr>
        <p:spPr>
          <a:xfrm>
            <a:off x="2050920" y="472428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can you se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43013"/>
          <p:cNvSpPr/>
          <p:nvPr/>
        </p:nvSpPr>
        <p:spPr>
          <a:xfrm>
            <a:off x="249840" y="4653000"/>
            <a:ext cx="245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, se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43014"/>
          <p:cNvSpPr/>
          <p:nvPr/>
        </p:nvSpPr>
        <p:spPr>
          <a:xfrm>
            <a:off x="687600" y="5589720"/>
            <a:ext cx="26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us,  bu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3073" descr="2252727904"/>
          <p:cNvPicPr/>
          <p:nvPr/>
        </p:nvPicPr>
        <p:blipFill>
          <a:blip r:embed="rId1"/>
          <a:stretch/>
        </p:blipFill>
        <p:spPr>
          <a:xfrm>
            <a:off x="1763640" y="189000"/>
            <a:ext cx="5904000" cy="368280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3074"/>
          <p:cNvSpPr/>
          <p:nvPr/>
        </p:nvSpPr>
        <p:spPr>
          <a:xfrm>
            <a:off x="2195640" y="34290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 minib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3075"/>
          <p:cNvSpPr/>
          <p:nvPr/>
        </p:nvSpPr>
        <p:spPr>
          <a:xfrm>
            <a:off x="2050920" y="55897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 minibu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3076"/>
          <p:cNvSpPr/>
          <p:nvPr/>
        </p:nvSpPr>
        <p:spPr>
          <a:xfrm>
            <a:off x="1258920" y="458136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mini, mini, a mini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5122"/>
          <p:cNvSpPr/>
          <p:nvPr/>
        </p:nvSpPr>
        <p:spPr>
          <a:xfrm>
            <a:off x="3995640" y="3716280"/>
            <a:ext cx="49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 school b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图片 5124" descr="3b87e950352ac65c684fbb36fbf2b21193138a29"/>
          <p:cNvPicPr/>
          <p:nvPr/>
        </p:nvPicPr>
        <p:blipFill>
          <a:blip r:embed="rId1"/>
          <a:srcRect l="5206" t="12241" r="0" b="0"/>
          <a:stretch/>
        </p:blipFill>
        <p:spPr>
          <a:xfrm>
            <a:off x="2050920" y="620640"/>
            <a:ext cx="5237280" cy="309564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5125"/>
          <p:cNvSpPr/>
          <p:nvPr/>
        </p:nvSpPr>
        <p:spPr>
          <a:xfrm>
            <a:off x="1979640" y="4653000"/>
            <a:ext cx="49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 to scho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5126"/>
          <p:cNvSpPr/>
          <p:nvPr/>
        </p:nvSpPr>
        <p:spPr>
          <a:xfrm>
            <a:off x="1979640" y="5516640"/>
            <a:ext cx="49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By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school b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5127"/>
          <p:cNvSpPr/>
          <p:nvPr/>
        </p:nvSpPr>
        <p:spPr>
          <a:xfrm>
            <a:off x="0" y="386064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hool , scho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098"/>
          <p:cNvSpPr/>
          <p:nvPr/>
        </p:nvSpPr>
        <p:spPr>
          <a:xfrm>
            <a:off x="4284720" y="112536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 bik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4100"/>
          <p:cNvSpPr/>
          <p:nvPr/>
        </p:nvSpPr>
        <p:spPr>
          <a:xfrm>
            <a:off x="4067280" y="350028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can see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a bi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4101"/>
          <p:cNvSpPr/>
          <p:nvPr/>
        </p:nvSpPr>
        <p:spPr>
          <a:xfrm>
            <a:off x="1187280" y="45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small and bla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4102" descr="1263764_214611095048_2"/>
          <p:cNvPicPr/>
          <p:nvPr/>
        </p:nvPicPr>
        <p:blipFill>
          <a:blip r:embed="rId1"/>
          <a:srcRect l="0" t="0" r="1810" b="7869"/>
          <a:stretch/>
        </p:blipFill>
        <p:spPr>
          <a:xfrm>
            <a:off x="611280" y="189000"/>
            <a:ext cx="3889440" cy="27367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4104"/>
          <p:cNvSpPr/>
          <p:nvPr/>
        </p:nvSpPr>
        <p:spPr>
          <a:xfrm>
            <a:off x="1187280" y="5589720"/>
            <a:ext cx="40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like the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bi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4105"/>
          <p:cNvSpPr/>
          <p:nvPr/>
        </p:nvSpPr>
        <p:spPr>
          <a:xfrm>
            <a:off x="1116000" y="350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ike, bik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01:07:09Z</dcterms:created>
  <dc:creator>hasee</dc:creator>
  <dc:description/>
  <dc:language>en-US</dc:language>
  <cp:lastModifiedBy>Administrator</cp:lastModifiedBy>
  <dcterms:modified xsi:type="dcterms:W3CDTF">2016-12-07T07:21:08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