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9.wmf" ContentType="image/x-wmf"/>
  <Override PartName="/ppt/media/image20.wmf" ContentType="image/x-wmf"/>
  <Override PartName="/ppt/media/image17.png" ContentType="image/png"/>
  <Override PartName="/ppt/media/image24.gif" ContentType="image/gif"/>
  <Override PartName="/ppt/media/image32.jpeg" ContentType="image/jpeg"/>
  <Override PartName="/ppt/media/image18.wmf" ContentType="image/x-wmf"/>
  <Override PartName="/ppt/media/type.wav" ContentType="audio/x-wav"/>
  <Override PartName="/ppt/media/image16.png" ContentType="image/png"/>
  <Override PartName="/ppt/media/bomb.wav" ContentType="audio/x-wav"/>
  <Override PartName="/ppt/media/image21.gif" ContentType="image/gif"/>
  <Override PartName="/ppt/media/image10.jpeg" ContentType="image/jpeg"/>
  <Override PartName="/ppt/media/image1.png" ContentType="image/png"/>
  <Override PartName="/ppt/media/image31.png" ContentType="image/png"/>
  <Override PartName="/ppt/media/image2.png" ContentType="image/png"/>
  <Override PartName="/ppt/media/image22.jpeg" ContentType="image/jpeg"/>
  <Override PartName="/ppt/media/cashreg.wav" ContentType="audio/x-wav"/>
  <Override PartName="/ppt/media/image9.png" ContentType="image/png"/>
  <Override PartName="/ppt/media/suction.wav" ContentType="audio/x-wav"/>
  <Override PartName="/ppt/media/image25.png" ContentType="image/png"/>
  <Override PartName="/ppt/media/image30.png" ContentType="image/png"/>
  <Override PartName="/ppt/media/applause.wav" ContentType="audio/x-wav"/>
  <Override PartName="/ppt/media/image5.png" ContentType="image/png"/>
  <Override PartName="/ppt/media/image33.png" ContentType="image/png"/>
  <Override PartName="/ppt/media/image15.wmf" ContentType="image/x-wmf"/>
  <Override PartName="/ppt/media/image14.jpeg" ContentType="image/jpeg"/>
  <Override PartName="/ppt/media/chimes.wav" ContentType="audio/x-wav"/>
  <Override PartName="/ppt/media/image36.gif" ContentType="image/gif"/>
  <Override PartName="/ppt/media/image29.png" ContentType="image/png"/>
  <Override PartName="/ppt/media/image6.png" ContentType="image/png"/>
  <Override PartName="/ppt/media/laser.wav" ContentType="audio/x-wav"/>
  <Override PartName="/ppt/media/image37.gif" ContentType="image/gif"/>
  <Override PartName="/ppt/media/image28.png" ContentType="image/png"/>
  <Override PartName="/ppt/media/image35.gif" ContentType="image/gif"/>
  <Override PartName="/ppt/media/image38.wmf" ContentType="image/x-wmf"/>
  <Override PartName="/ppt/media/whoosh.wav" ContentType="audio/x-wav"/>
  <Override PartName="/ppt/media/image27.gif" ContentType="image/gif"/>
  <Override PartName="/ppt/media/image7.png" ContentType="image/png"/>
  <Override PartName="/ppt/media/image8.png" ContentType="image/png"/>
  <Override PartName="/ppt/media/image39.jpeg" ContentType="image/jpeg"/>
  <Override PartName="/ppt/media/image11.png" ContentType="image/png"/>
  <Override PartName="/ppt/media/image3.gif" ContentType="image/gif"/>
  <Override PartName="/ppt/media/image2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4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377A-5CEC-4F73-BC73-B48636521F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408-0C73-4BFB-B39A-801B9910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770-8C9E-4829-A990-82DF2366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B04-F5A9-4901-804C-4ABBB3B6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6EA-8929-44CA-834C-82D4D427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114-091E-409D-8EDB-68B450CB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25C-121D-446A-8C65-8D27A45D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0AA-2E6E-49A8-84C7-D7DDAA7C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3B4-569E-438A-BCD7-4414017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B8C-A484-444D-85E4-864E8C31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10F-424D-41A8-AFAA-6E4DB30F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81E-4C15-4725-A3C6-4858E398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5D9-EE69-4320-87F7-FDAE47CD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B1A8-0C04-4D2F-AC86-B00420A8BA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2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audio" Target="../media/cashreg.wav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audio" Target="../media/cashreg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24.gif"/><Relationship Id="rId8" Type="http://schemas.openxmlformats.org/officeDocument/2006/relationships/audio" Target="../media/whoosh.wav"/><Relationship Id="rId9" Type="http://schemas.openxmlformats.org/officeDocument/2006/relationships/audio" Target="../media/type.wav"/><Relationship Id="rId10" Type="http://schemas.openxmlformats.org/officeDocument/2006/relationships/audio" Target="../media/suction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suction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audio" Target="../media/laser.wav"/><Relationship Id="rId4" Type="http://schemas.openxmlformats.org/officeDocument/2006/relationships/audio" Target="../media/cashreg.wav"/><Relationship Id="rId5" Type="http://schemas.openxmlformats.org/officeDocument/2006/relationships/audio" Target="../media/laser.wav"/><Relationship Id="rId6" Type="http://schemas.openxmlformats.org/officeDocument/2006/relationships/audio" Target="../media/cashreg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7.xml"/><Relationship Id="rId3" Type="http://schemas.openxmlformats.org/officeDocument/2006/relationships/image" Target="../media/image5.png"/><Relationship Id="rId4" Type="http://schemas.openxmlformats.org/officeDocument/2006/relationships/slide" Target="slide17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2.jpeg"/><Relationship Id="rId10" Type="http://schemas.openxmlformats.org/officeDocument/2006/relationships/audio" Target="../media/cashreg.wav"/><Relationship Id="rId11" Type="http://schemas.openxmlformats.org/officeDocument/2006/relationships/audio" Target="../media/bomb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audio" Target="../media/cashreg.wav"/><Relationship Id="rId18" Type="http://schemas.openxmlformats.org/officeDocument/2006/relationships/audio" Target="../media/bomb.wav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95640" y="404640"/>
            <a:ext cx="6688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Unit 4 In my classroom</a:t>
            </a:r>
            <a:endParaRPr b="1" lang="en-US" sz="4800" spc="1" strike="noStrike">
              <a:ln w="19080">
                <a:solidFill>
                  <a:srgbClr val="ff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4221000"/>
            <a:ext cx="460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A. Point and say</a:t>
            </a:r>
            <a:endParaRPr b="1" lang="en-US" sz="6600" spc="1" strike="noStrike">
              <a:ln w="1908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1295640" cy="901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1295280" cy="90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659640" y="1916280"/>
            <a:ext cx="1295280" cy="901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851280" y="1773360"/>
            <a:ext cx="1295280" cy="90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5219640" y="1341360"/>
            <a:ext cx="1295640" cy="901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68360" y="4365720"/>
            <a:ext cx="820908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宋体"/>
              </a:rPr>
              <a:t>There are________ books.</a:t>
            </a:r>
            <a:endParaRPr b="1" lang="en-US" sz="44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067280" y="4508640"/>
            <a:ext cx="211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fifteen</a:t>
            </a:r>
            <a:endParaRPr b="1" i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8569080" cy="285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0" y="6237360"/>
            <a:ext cx="4762440" cy="333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4381560" y="6237360"/>
            <a:ext cx="47624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9640" y="4581360"/>
            <a:ext cx="8209080" cy="9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宋体"/>
              </a:rPr>
              <a:t>There are________ pencils.</a:t>
            </a:r>
            <a:endParaRPr b="1" lang="en-US" sz="44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51280" y="4653000"/>
            <a:ext cx="2114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twelve</a:t>
            </a:r>
            <a:endParaRPr b="1" i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285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339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2160360" cy="1749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708360" y="1484280"/>
            <a:ext cx="2162160" cy="1368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156360" y="1341360"/>
            <a:ext cx="828720" cy="1524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6877080" y="1268280"/>
            <a:ext cx="828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411280" y="765000"/>
            <a:ext cx="3600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记忆之王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1304640" cy="1238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71640" y="3645000"/>
            <a:ext cx="2089080" cy="1727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4720" y="3645000"/>
            <a:ext cx="2089440" cy="1727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2924280"/>
            <a:ext cx="2089440" cy="17269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9800" y="4149720"/>
            <a:ext cx="1675800" cy="7034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81800" y="3429000"/>
            <a:ext cx="1564560" cy="7034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2880" y="4221000"/>
            <a:ext cx="1619280" cy="7034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3933720"/>
            <a:ext cx="1366920" cy="122400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3213000"/>
            <a:ext cx="1366920" cy="122400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43640" y="3933720"/>
            <a:ext cx="1366920" cy="122400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804000" y="620640"/>
            <a:ext cx="1800360" cy="133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38720" cy="369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905280" y="0"/>
            <a:ext cx="5238720" cy="369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0" y="6657840"/>
            <a:ext cx="4619520" cy="200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4572000" y="6669000"/>
            <a:ext cx="4619520" cy="200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8101080" y="2852640"/>
            <a:ext cx="10429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animEffect filter="checkerboard(across)" transition="out">
                                      <p:cBhvr additive="repl">
                                        <p:cTn id="5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Effect filter="checkerboard(across)" transition="out">
                                      <p:cBhvr additive="repl">
                                        <p:cTn id="5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Effect filter="checkerboard(across)" transition="out">
                                      <p:cBhvr additive="repl">
                                        <p:cTn id="5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42920" y="2637000"/>
            <a:ext cx="2089080" cy="17269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6160" y="3213000"/>
            <a:ext cx="2043000" cy="7034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2852640"/>
            <a:ext cx="1366920" cy="122400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429000"/>
            <a:ext cx="2089080" cy="1727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66880" y="3933720"/>
            <a:ext cx="1873800" cy="7034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3645000"/>
            <a:ext cx="1366920" cy="122400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0" y="2781360"/>
            <a:ext cx="2089080" cy="1727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86520" y="3284640"/>
            <a:ext cx="1564560" cy="7034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6360" y="2997360"/>
            <a:ext cx="1366920" cy="122364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5238720" cy="369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05280" y="189000"/>
            <a:ext cx="523872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6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6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66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247840" cy="1876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116000" y="404640"/>
            <a:ext cx="4249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小数学家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3500280"/>
            <a:ext cx="66960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+6=          3+8=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x6=          9+6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340000" y="2565360"/>
            <a:ext cx="3097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能算吗</a:t>
            </a: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940360" y="364500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99ff33"/>
                </a:solidFill>
                <a:latin typeface="宋体"/>
              </a:rPr>
              <a:t>11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99ff33"/>
              </a:solidFill>
              <a:latin typeface="宋体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43280" y="515772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99ff33"/>
                </a:solidFill>
                <a:latin typeface="宋体"/>
              </a:rPr>
              <a:t>12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99ff33"/>
              </a:solidFill>
              <a:latin typeface="宋体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871720" y="369252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99ff33"/>
                </a:solidFill>
                <a:latin typeface="宋体"/>
              </a:rPr>
              <a:t>13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99ff33"/>
              </a:solidFill>
              <a:latin typeface="宋体"/>
              <a:ea typeface="宋体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6362640"/>
            <a:ext cx="3333600" cy="495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700360" y="6362640"/>
            <a:ext cx="3333600" cy="495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10400" y="6362640"/>
            <a:ext cx="3333600" cy="495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8748720" y="3789360"/>
            <a:ext cx="395280" cy="2741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8748720" y="1119240"/>
            <a:ext cx="395280" cy="274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940360" y="515772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99ff33"/>
                </a:solidFill>
                <a:latin typeface="宋体"/>
              </a:rPr>
              <a:t>15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99ff33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12366" r="0" b="123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116000" y="278136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b04c4"/>
                </a:solidFill>
                <a:latin typeface="Times New Roman"/>
              </a:rPr>
              <a:t>Listen and circle the correct wor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56000" y="4437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a87c"/>
                </a:solidFill>
                <a:latin typeface="Times New Roman"/>
              </a:rPr>
              <a:t>听录音，圈出正确的单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2060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听力小能人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141800" y="765000"/>
            <a:ext cx="25686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Aft>
                <a:spcPts val="45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835280" y="2997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835280" y="4797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716360" y="4005360"/>
            <a:ext cx="216072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43280" y="765000"/>
            <a:ext cx="1800360" cy="648000"/>
          </a:xfrm>
          <a:prstGeom prst="ellipse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16360" y="2997360"/>
            <a:ext cx="1871640" cy="647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07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0" dur="1638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1452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0" dur="1614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55640" y="270828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肯定能快速地站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并大声说出单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1052640"/>
            <a:ext cx="73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Read loudly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890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过目不忘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148360" y="5092560"/>
            <a:ext cx="971280" cy="1765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5425920"/>
            <a:ext cx="865080" cy="1432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140360" y="5425920"/>
            <a:ext cx="865080" cy="1432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971640" y="5092560"/>
            <a:ext cx="971640" cy="1765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2987640" y="5092560"/>
            <a:ext cx="971640" cy="1765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6227640" y="5425920"/>
            <a:ext cx="865440" cy="1432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1979640" y="5425920"/>
            <a:ext cx="865080" cy="1432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7164360" y="5092560"/>
            <a:ext cx="971640" cy="1765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8278920" y="5425920"/>
            <a:ext cx="8650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369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905280" y="0"/>
            <a:ext cx="5238720" cy="369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0" y="6524640"/>
            <a:ext cx="4619520" cy="200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4524480" y="6541920"/>
            <a:ext cx="4619520" cy="200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0" y="361800"/>
            <a:ext cx="9144000" cy="64962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2268360" y="1700280"/>
            <a:ext cx="489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fourteen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050920" y="1628640"/>
            <a:ext cx="5759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leven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835280" y="1484280"/>
            <a:ext cx="6049800" cy="19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fifteen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835280" y="1773360"/>
            <a:ext cx="5545080" cy="15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Oranda Cn BT"/>
              </a:rPr>
              <a:t>twelv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Oranda Cn BT"/>
              <a:ea typeface="Oranda Cn B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268360" y="1844640"/>
            <a:ext cx="532944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0c2f0"/>
                  </a:solidFill>
                  <a:miter/>
                </a:ln>
                <a:solidFill>
                  <a:srgbClr val="f0c2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thirteen</a:t>
            </a:r>
            <a:endParaRPr b="1" i="1" lang="en-US" sz="1800" spc="1" strike="noStrike">
              <a:ln w="9360">
                <a:solidFill>
                  <a:srgbClr val="f0c2f0"/>
                </a:solidFill>
                <a:miter/>
              </a:ln>
              <a:solidFill>
                <a:srgbClr val="f0c2f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050920" y="1773360"/>
            <a:ext cx="5545440" cy="15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Oranda Cn BT"/>
              </a:rPr>
              <a:t>twelv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Oranda Cn BT"/>
              <a:ea typeface="Oranda Cn B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050920" y="1484280"/>
            <a:ext cx="6050160" cy="19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fifteen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xit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xit" presetID="5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xit" presetID="14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9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259640" y="1484280"/>
            <a:ext cx="223956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thir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fif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twe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four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e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1800" y="1488960"/>
            <a:ext cx="1273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195640" y="333360"/>
            <a:ext cx="352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连线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 rot="1461600">
            <a:off x="1042560" y="76320"/>
            <a:ext cx="405000" cy="1049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419640" y="1916280"/>
            <a:ext cx="2520720" cy="3168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32000" y="2997360"/>
            <a:ext cx="273528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132000" y="1915920"/>
            <a:ext cx="2735280" cy="21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64000" y="5084640"/>
            <a:ext cx="2448000" cy="115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276720" y="4220640"/>
            <a:ext cx="2590560" cy="20163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2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6572160"/>
            <a:ext cx="8569440" cy="285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692280"/>
            <a:ext cx="304560" cy="3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79280" y="134136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79280" y="227664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79280" y="314172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179280" y="458136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179280" y="537372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163440" y="609300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8675640" y="616572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8675640" y="551664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8675640" y="479736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4"/>
          <a:stretch/>
        </p:blipFill>
        <p:spPr>
          <a:xfrm>
            <a:off x="8675640" y="400536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5"/>
          <a:stretch/>
        </p:blipFill>
        <p:spPr>
          <a:xfrm>
            <a:off x="8675640" y="314172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6"/>
          <a:stretch/>
        </p:blipFill>
        <p:spPr>
          <a:xfrm>
            <a:off x="8675640" y="249228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7"/>
          <a:stretch/>
        </p:blipFill>
        <p:spPr>
          <a:xfrm>
            <a:off x="8675640" y="177336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8675640" y="1052640"/>
            <a:ext cx="304920" cy="36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9"/>
          <a:stretch/>
        </p:blipFill>
        <p:spPr>
          <a:xfrm>
            <a:off x="8675640" y="476280"/>
            <a:ext cx="304920" cy="36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619280" y="1557360"/>
            <a:ext cx="5832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et’s  sing a so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990160" y="1557360"/>
            <a:ext cx="26935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elev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twel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thir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ee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e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fif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e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451640" y="1125360"/>
            <a:ext cx="216000" cy="2705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451640" y="3860640"/>
            <a:ext cx="216000" cy="2705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216000" cy="2705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16000" cy="27054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2627280" y="1268280"/>
            <a:ext cx="3638520" cy="114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2627280" y="6524640"/>
            <a:ext cx="3638520" cy="114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846160" y="404640"/>
            <a:ext cx="2861280" cy="703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Let’s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964720" cy="6164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39640" y="692280"/>
            <a:ext cx="5958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1.Listen to the tape of Par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three times   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听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读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部分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2.Write: eleven, twelve, thirt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fourteen, fift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写</a:t>
            </a: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11—15</a:t>
            </a: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各一行</a:t>
            </a: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996633"/>
                </a:solidFill>
                <a:latin typeface="Arial"/>
              </a:rPr>
              <a:t>并写中文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61640" y="632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2050920" y="1773360"/>
            <a:ext cx="5112000" cy="22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Thank you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1" dur="3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animClr clrSpc="rgb">
                                      <p:cBhvr>
                                        <p:cTn id="982" dur="3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  <p:set>
                                      <p:cBhvr>
                                        <p:cTn id="983" dur="3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5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6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7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1773360"/>
            <a:ext cx="654120" cy="100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050920" y="1773360"/>
            <a:ext cx="654120" cy="100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059280" y="1700280"/>
            <a:ext cx="653760" cy="100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4067280" y="1700280"/>
            <a:ext cx="654120" cy="100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2195640" y="2781360"/>
            <a:ext cx="65376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1116000" y="2781360"/>
            <a:ext cx="654120" cy="100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4211640" y="2781360"/>
            <a:ext cx="654120" cy="100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5219640" y="1628640"/>
            <a:ext cx="654120" cy="1008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3203640" y="2708280"/>
            <a:ext cx="654120" cy="100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5219640" y="2708280"/>
            <a:ext cx="654120" cy="100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7596360" y="1557360"/>
            <a:ext cx="1168200" cy="180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32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393372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+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393372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=elev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1368360" cy="739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11280" y="2492280"/>
            <a:ext cx="1368720" cy="739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908000" y="1628640"/>
            <a:ext cx="1368720" cy="739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50920" y="2421000"/>
            <a:ext cx="1368360" cy="739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50920" y="1628640"/>
            <a:ext cx="1368360" cy="739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995640" y="1557360"/>
            <a:ext cx="1368360" cy="739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2987640" y="1628640"/>
            <a:ext cx="1368360" cy="73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1258920" y="2492280"/>
            <a:ext cx="1368360" cy="73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3492360" y="2421000"/>
            <a:ext cx="1368720" cy="73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4427640" y="2276640"/>
            <a:ext cx="1368360" cy="739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7020000" y="2421000"/>
            <a:ext cx="1368360" cy="73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7020000" y="1557360"/>
            <a:ext cx="1368360" cy="739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32000" y="3933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393372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+tw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393372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=twel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1295640" cy="1132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627280" y="1268280"/>
            <a:ext cx="1295280" cy="1132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80000" y="1268280"/>
            <a:ext cx="1295280" cy="1132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84360" y="2205000"/>
            <a:ext cx="1295280" cy="113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908000" y="2133720"/>
            <a:ext cx="1295640" cy="113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3203640" y="2133720"/>
            <a:ext cx="1295280" cy="113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755640" y="3141720"/>
            <a:ext cx="1295280" cy="1131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2050920" y="3141720"/>
            <a:ext cx="1295640" cy="1131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3348000" y="3068640"/>
            <a:ext cx="1295280" cy="113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250920" y="1268280"/>
            <a:ext cx="1295280" cy="113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7093080" y="1844640"/>
            <a:ext cx="1295280" cy="1131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7020000" y="1125360"/>
            <a:ext cx="1295280" cy="113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7093080" y="2565360"/>
            <a:ext cx="1295280" cy="1131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87280" y="450864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4508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+thr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450864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=thir</a:t>
            </a: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t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858600" cy="977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258920" y="1484280"/>
            <a:ext cx="858960" cy="977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124000" y="2131920"/>
            <a:ext cx="858960" cy="97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484360" y="1989000"/>
            <a:ext cx="858960" cy="97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556000" y="2708280"/>
            <a:ext cx="858600" cy="977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1547640" y="2349360"/>
            <a:ext cx="858960" cy="978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826920" y="2852640"/>
            <a:ext cx="858960" cy="978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611280" y="1844640"/>
            <a:ext cx="858600" cy="977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1979640" y="3141720"/>
            <a:ext cx="858960" cy="977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1187280" y="3357720"/>
            <a:ext cx="858960" cy="977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6804000" y="1628640"/>
            <a:ext cx="858960" cy="978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6732720" y="2205000"/>
            <a:ext cx="858600" cy="977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7524720" y="2276640"/>
            <a:ext cx="858960" cy="977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7596360" y="1484280"/>
            <a:ext cx="858600" cy="977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332000" y="443700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443700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+fo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436572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=four</a:t>
            </a: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t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67640" y="2708280"/>
            <a:ext cx="765000" cy="115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36000" y="1700280"/>
            <a:ext cx="765000" cy="115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26920" y="2565360"/>
            <a:ext cx="573120" cy="865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042920" y="1773360"/>
            <a:ext cx="573120" cy="865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979640" y="1700280"/>
            <a:ext cx="573120" cy="86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2987640" y="3429000"/>
            <a:ext cx="573120" cy="865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2268360" y="3429000"/>
            <a:ext cx="573120" cy="86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1619280" y="3429000"/>
            <a:ext cx="57312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971640" y="3429000"/>
            <a:ext cx="573120" cy="865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3059280" y="2492280"/>
            <a:ext cx="572760" cy="865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2627280" y="1628640"/>
            <a:ext cx="573120" cy="865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2340000" y="2565360"/>
            <a:ext cx="573120" cy="865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1619280" y="2637000"/>
            <a:ext cx="573120" cy="865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6443640" y="1557360"/>
            <a:ext cx="765360" cy="1152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6877080" y="2637000"/>
            <a:ext cx="765000" cy="1152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/>
          <a:stretch/>
        </p:blipFill>
        <p:spPr>
          <a:xfrm>
            <a:off x="6227640" y="2781360"/>
            <a:ext cx="765360" cy="1152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32000" y="429264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4292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+f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429264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=fif</a:t>
            </a: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t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138744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68360" y="3500280"/>
            <a:ext cx="820908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宋体"/>
              </a:rPr>
              <a:t>There are________rubbers.</a:t>
            </a:r>
            <a:endParaRPr b="1" lang="en-US" sz="44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780000" y="3500280"/>
            <a:ext cx="211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eleven</a:t>
            </a:r>
            <a:endParaRPr b="1" i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640" y="6308640"/>
            <a:ext cx="4267080" cy="295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00720" y="6308640"/>
            <a:ext cx="4267080" cy="295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8569080" cy="285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627280" y="1484280"/>
            <a:ext cx="1440000" cy="1004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 rot="1225800">
            <a:off x="4643280" y="907920"/>
            <a:ext cx="1008360" cy="863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 rot="1007400">
            <a:off x="4458960" y="1544400"/>
            <a:ext cx="906480" cy="79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 rot="697800">
            <a:off x="4284360" y="213372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5940360" y="1268280"/>
            <a:ext cx="19447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4365720"/>
            <a:ext cx="820908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宋体"/>
              </a:rPr>
              <a:t>There are________ stickers.</a:t>
            </a:r>
            <a:endParaRPr b="1" lang="en-US" sz="44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宋体"/>
              <a:ea typeface="宋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64000" y="4437000"/>
            <a:ext cx="2114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thirteen</a:t>
            </a:r>
            <a:endParaRPr b="1" i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285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8920" y="6308640"/>
            <a:ext cx="426708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81640" y="6302520"/>
            <a:ext cx="4267080" cy="295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rcRect l="34100" t="25676" r="45540" b="50004"/>
          <a:stretch/>
        </p:blipFill>
        <p:spPr>
          <a:xfrm>
            <a:off x="1332000" y="765000"/>
            <a:ext cx="988920" cy="1092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rcRect l="34100" t="25676" r="45540" b="50004"/>
          <a:stretch/>
        </p:blipFill>
        <p:spPr>
          <a:xfrm>
            <a:off x="2340000" y="549360"/>
            <a:ext cx="988920" cy="1092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rcRect l="34100" t="25676" r="45540" b="50004"/>
          <a:stretch/>
        </p:blipFill>
        <p:spPr>
          <a:xfrm>
            <a:off x="468360" y="1413000"/>
            <a:ext cx="988920" cy="1092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rcRect l="34100" t="25676" r="45540" b="50004"/>
          <a:stretch/>
        </p:blipFill>
        <p:spPr>
          <a:xfrm>
            <a:off x="1476360" y="1844640"/>
            <a:ext cx="988920" cy="1092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rcRect l="34100" t="25676" r="45540" b="50004"/>
          <a:stretch/>
        </p:blipFill>
        <p:spPr>
          <a:xfrm>
            <a:off x="2627280" y="1700280"/>
            <a:ext cx="988920" cy="1092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rcRect l="34100" t="25676" r="45540" b="50004"/>
          <a:stretch/>
        </p:blipFill>
        <p:spPr>
          <a:xfrm>
            <a:off x="3708360" y="1700280"/>
            <a:ext cx="988920" cy="1092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rcRect l="34100" t="25676" r="45540" b="50004"/>
          <a:stretch/>
        </p:blipFill>
        <p:spPr>
          <a:xfrm>
            <a:off x="4716360" y="1700280"/>
            <a:ext cx="989280" cy="1092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rcRect l="34100" t="25676" r="45540" b="50004"/>
          <a:stretch/>
        </p:blipFill>
        <p:spPr>
          <a:xfrm>
            <a:off x="5867280" y="1773360"/>
            <a:ext cx="989280" cy="1092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rcRect l="34100" t="25676" r="45540" b="50004"/>
          <a:stretch/>
        </p:blipFill>
        <p:spPr>
          <a:xfrm>
            <a:off x="7093080" y="1628640"/>
            <a:ext cx="988920" cy="1092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rcRect l="34100" t="25676" r="45540" b="50004"/>
          <a:stretch/>
        </p:blipFill>
        <p:spPr>
          <a:xfrm>
            <a:off x="3492360" y="549360"/>
            <a:ext cx="989280" cy="1092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4"/>
          <a:srcRect l="34100" t="25676" r="45540" b="50004"/>
          <a:stretch/>
        </p:blipFill>
        <p:spPr>
          <a:xfrm>
            <a:off x="6948360" y="620640"/>
            <a:ext cx="98928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5"/>
          <a:srcRect l="34100" t="25676" r="45540" b="50004"/>
          <a:stretch/>
        </p:blipFill>
        <p:spPr>
          <a:xfrm>
            <a:off x="5796000" y="620640"/>
            <a:ext cx="988920" cy="1092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6"/>
          <a:srcRect l="34100" t="25676" r="45540" b="50004"/>
          <a:stretch/>
        </p:blipFill>
        <p:spPr>
          <a:xfrm>
            <a:off x="4643280" y="549360"/>
            <a:ext cx="9892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7:15:25Z</dcterms:created>
  <dc:creator>FtpDown</dc:creator>
  <dc:description/>
  <dc:language>en-US</dc:language>
  <cp:lastModifiedBy>微软用户</cp:lastModifiedBy>
  <dcterms:modified xsi:type="dcterms:W3CDTF">2011-10-16T13:42:05Z</dcterms:modified>
  <cp:revision>15</cp:revision>
  <dc:subject/>
  <dc:title>幻灯片 1</dc:title>
</cp:coreProperties>
</file>