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F51-DB5D-49D4-A409-EFB27837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FBD-00A0-4A7C-B5E6-981DDED7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963-DE90-4E9A-BF5F-61276D78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846-CBCC-40B5-96D0-32B392F2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0FC-3014-4563-9F37-116D0DD3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3AD-37CA-4BC6-A585-471DD916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024-9371-4A3D-9874-0EF531D4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A67-107E-459E-AD33-C296A80F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E2B-BED7-45EB-BE0F-DCEDFC9F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E6F-6B3B-4B78-B8D3-9D2C530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5C8-CD34-4318-A953-1920D765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96F-A029-4872-A538-C17A91F0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7F37-CE8E-47CB-9FCF-FC2F39D119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5903"/>
          <a:stretch/>
        </p:blipFill>
        <p:spPr>
          <a:xfrm>
            <a:off x="0" y="0"/>
            <a:ext cx="9290160" cy="645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1989000"/>
            <a:ext cx="514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t's winter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280" y="404640"/>
            <a:ext cx="30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Module 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76720" cy="4103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116000" y="4941720"/>
            <a:ext cx="662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e wear jackets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176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350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148360" y="1628640"/>
            <a:ext cx="2376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T-shir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3708360" cy="3357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5076720" y="4365720"/>
            <a:ext cx="2951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unglass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0" b="11660"/>
          <a:stretch/>
        </p:blipFill>
        <p:spPr>
          <a:xfrm>
            <a:off x="0" y="-387360"/>
            <a:ext cx="9144000" cy="907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50920" y="-387360"/>
            <a:ext cx="3816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It's summer.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8326"/>
          <a:stretch/>
        </p:blipFill>
        <p:spPr>
          <a:xfrm>
            <a:off x="250920" y="2852640"/>
            <a:ext cx="2305080" cy="367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24000" y="692280"/>
            <a:ext cx="38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e wear T-shirts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835280" cy="4005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00720" y="692280"/>
            <a:ext cx="395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nd sunglasses.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rcRect l="0" t="0" r="0" b="8326"/>
          <a:stretch/>
        </p:blipFill>
        <p:spPr>
          <a:xfrm>
            <a:off x="2124000" y="2852640"/>
            <a:ext cx="230364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364000" y="2852640"/>
            <a:ext cx="21225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4681440" cy="3933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492360" y="4365720"/>
            <a:ext cx="2519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weat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0" b="3850"/>
          <a:stretch/>
        </p:blipFill>
        <p:spPr>
          <a:xfrm>
            <a:off x="-3005280" y="0"/>
            <a:ext cx="1214928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708360" cy="3154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708360" cy="3154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826920" y="3203640"/>
            <a:ext cx="784872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e wear sweaters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00000" y="907920"/>
            <a:ext cx="511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t's winter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2708280"/>
            <a:ext cx="338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e wea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64000" y="3501000"/>
            <a:ext cx="15127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_________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03640" y="2852640"/>
            <a:ext cx="115092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59640" y="3426480"/>
            <a:ext cx="151272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___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8212320" y="25779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ff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419640" y="2852640"/>
            <a:ext cx="136656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coat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372360" y="2781360"/>
            <a:ext cx="1728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glov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237816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84720" y="3716280"/>
            <a:ext cx="22338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4360" y="54936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t's spring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1280" y="2637000"/>
            <a:ext cx="734544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e wear_______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51280" y="3860640"/>
            <a:ext cx="2233440" cy="2333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232360" cy="2305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00720" y="2781360"/>
            <a:ext cx="251928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jacket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1280" y="476280"/>
            <a:ext cx="410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t's summer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9280" y="2492280"/>
            <a:ext cx="867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e wear____and_____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56000" y="364500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264360" y="3645000"/>
            <a:ext cx="2879640" cy="1968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348000" y="2852640"/>
            <a:ext cx="1757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T-Shirt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88000" y="2708280"/>
            <a:ext cx="2087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unglass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3890"/>
          <a:stretch/>
        </p:blipFill>
        <p:spPr>
          <a:xfrm>
            <a:off x="0" y="0"/>
            <a:ext cx="9252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404640"/>
            <a:ext cx="439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t's autumn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2276640"/>
            <a:ext cx="70563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e wear _______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2376360" cy="3154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592360" cy="3357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00720" y="2492280"/>
            <a:ext cx="24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weater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484360" y="4311720"/>
            <a:ext cx="2160720" cy="25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夏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3798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960720" cy="3300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859280" y="1413000"/>
            <a:ext cx="244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co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288144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859280" y="4005360"/>
            <a:ext cx="244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glov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0" b="7065"/>
          <a:stretch/>
        </p:blipFill>
        <p:spPr>
          <a:xfrm>
            <a:off x="-181080" y="-963720"/>
            <a:ext cx="14022360" cy="7561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179280" y="3213000"/>
            <a:ext cx="316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coat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5375160"/>
            <a:ext cx="29509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gloves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/>
          <p:nvPr/>
        </p:nvSpPr>
        <p:spPr>
          <a:xfrm>
            <a:off x="3296520" y="4221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0"/>
            <a:ext cx="3960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It's winter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284000" y="260280"/>
            <a:ext cx="80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4581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932360" y="2421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jak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3:28:42Z</dcterms:created>
  <dc:creator/>
  <dc:description/>
  <dc:language>en-US</dc:language>
  <cp:lastModifiedBy>User</cp:lastModifiedBy>
  <dcterms:modified xsi:type="dcterms:W3CDTF">2014-05-10T06:09:13Z</dcterms:modified>
  <cp:revision>1</cp:revision>
  <dc:subject/>
  <dc:title>幻灯片 1</dc:title>
</cp:coreProperties>
</file>