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A9F-A588-4BA1-8A91-246F8A4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B08-8E4B-4448-887A-D4B1C61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87A-926C-4556-BE0C-1CAB748D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C07-4958-4996-A7CA-D89024E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EC3-1A9C-424C-9931-0676B04B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982-0F6C-4BDF-B8A1-2EF72CA6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ECA-9789-4EF0-86E6-00CD0DB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146-2CCF-4943-BF91-F5AB103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AF5-0B3C-4156-ADFC-C0644368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506-4C73-47A6-99F6-81CAA8D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8EE-C3D0-453F-93D8-409E000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479-583B-47B9-8155-F2248FF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D13B-E62A-485A-8C49-D98937AF3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8360" y="1752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895480"/>
            <a:ext cx="529596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t's Saturday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92444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480" y="380880"/>
            <a:ext cx="4583520" cy="1008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stay in b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2438280"/>
            <a:ext cx="4633920" cy="3478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09840" y="554040"/>
            <a:ext cx="4995000" cy="7642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Sunday to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360" y="1528920"/>
            <a:ext cx="67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don’t have to g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89476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 you do on Satur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67080" y="1827360"/>
            <a:ext cx="4595760" cy="457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4010040" cy="356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257800" y="3124080"/>
            <a:ext cx="3048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chool !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753080" cy="396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429000" y="3962520"/>
            <a:ext cx="4191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No school !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3320" y="456480"/>
            <a:ext cx="876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do you like to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70296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No school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1320" y="236844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School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534120"/>
            <a:ext cx="73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how me your “TV show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用所学的英文来展示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240" y="160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以致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09680" y="2133720"/>
            <a:ext cx="4648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Goodbye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911160"/>
            <a:ext cx="6414840" cy="481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04920"/>
            <a:ext cx="24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5391000" cy="390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280" y="114228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mor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6172200" cy="46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36576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Get u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6143760" cy="456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8640" y="380520"/>
            <a:ext cx="4105080" cy="8251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read a boo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6143760" cy="45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01880" y="304200"/>
            <a:ext cx="6270480" cy="825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 see a rabbit on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TV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957920" cy="391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2960" y="203040"/>
            <a:ext cx="3948120" cy="1008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watch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670680"/>
            <a:ext cx="4797000" cy="1008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stay hom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4133880" cy="264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05720" y="571500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2952720" cy="268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838080"/>
            <a:ext cx="4419720" cy="32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8320" y="2133720"/>
            <a:ext cx="4495680" cy="1828800"/>
          </a:xfrm>
          <a:prstGeom prst="wedgeRoundRectCallout">
            <a:avLst>
              <a:gd name="adj1" fmla="val 1907"/>
              <a:gd name="adj2" fmla="val 68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 like this sho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18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