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D7D-7139-41E5-B19D-DFFFBAB6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DDD-B0AB-4C68-B513-CFE51F51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5BF-CE08-426E-BD57-53E2EDE0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33D-D8CF-4932-B6AC-E1B1217C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264-6654-4E5E-9BE7-A0B3B5E2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EFF-E637-42C5-9187-C5BC1902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B43-A949-4E16-846B-429D0C1C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355-201D-4943-8ED2-CC219694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A3B-20FC-4330-9D42-CC5231BE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22F-7366-4DB0-A961-F6E8903C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6E7-7EFD-4CCD-B205-96113B05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837-203F-41AC-8A2E-3D37302C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A843-C77C-46E2-83AF-1DC4122989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file:///It%20is%20time%20for%20lunch.mp3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0640" y="6858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冀教版（一起）二年级英语下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3720" y="2666880"/>
            <a:ext cx="4952880" cy="22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姚体"/>
              </a:rPr>
              <a:t>What's for lunch?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5110200" cy="3557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73040" y="457200"/>
            <a:ext cx="196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e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6324840" cy="383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33720" y="83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3760" y="5790240"/>
            <a:ext cx="847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We make lunch in the kitch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1400" y="5333400"/>
            <a:ext cx="90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 need some meat and vegetab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14600" y="2133720"/>
            <a:ext cx="6162840" cy="4486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4800" y="1751400"/>
            <a:ext cx="6580080" cy="7642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my favourite food is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80" y="532800"/>
            <a:ext cx="887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What’s your favourite food?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713320" y="456840"/>
            <a:ext cx="12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、统计家人喜欢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90720" y="1295280"/>
          <a:ext cx="6476760" cy="4959360"/>
        </p:xfrm>
        <a:graphic>
          <a:graphicData uri="http://schemas.openxmlformats.org/drawingml/2006/table">
            <a:tbl>
              <a:tblPr/>
              <a:tblGrid>
                <a:gridCol w="2153880"/>
                <a:gridCol w="432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 fa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 / her favourite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 f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 grand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165480" cy="4691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7880" y="3200400"/>
            <a:ext cx="44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t’s time for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685800"/>
            <a:ext cx="2666880" cy="838080"/>
          </a:xfrm>
          <a:prstGeom prst="wedgeRoundRectCallout">
            <a:avLst>
              <a:gd name="adj1" fmla="val -41129"/>
              <a:gd name="adj2" fmla="val 92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听歌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283356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里每天中午做的饭菜，你能说出几种饭菜的英文名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4600" y="6858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学以致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495680" y="3886200"/>
            <a:ext cx="3857760" cy="227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28800" y="205740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彩云"/>
              </a:rPr>
              <a:t>Goodbye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81080" y="16765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38280" y="533520"/>
            <a:ext cx="24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0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6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32800" y="43164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4762440" cy="4019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2381040" cy="4372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20400" y="685800"/>
            <a:ext cx="191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ju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28920" y="200016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7600" y="45720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5357880" cy="388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7080" y="533520"/>
            <a:ext cx="403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umpl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4647960" cy="417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60680" y="355680"/>
            <a:ext cx="214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5333760" cy="488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640" y="457200"/>
            <a:ext cx="199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5257800" cy="3953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19480" y="203040"/>
            <a:ext cx="41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vege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5-28T07:20:3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