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15D-023B-431F-9937-F3326D41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7AF-C993-4909-BD2F-A00E4085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485-628C-419F-BC2B-94B0D5D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72F-ADAD-462E-B023-B5467DA5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A88-4D5E-4919-AABF-D8399B8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CA4-AE19-425E-B181-E738AE74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AD7-0915-442E-99F8-4855A83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EED-01EA-417E-9601-7AF59C3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CA3-620D-4C3D-9210-550DCD59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D99-A47A-416A-94C8-38B576C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4A4-473C-42B4-A2CD-40C1F26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81E-866D-4922-8E5C-CC9AB6B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FF57-0AB8-4FB3-A283-035F7EB20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05680" y="1111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冀教版（一起）二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50532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sson 21 Let's visit the neighbours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038840" cy="397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43400" y="3505320"/>
            <a:ext cx="438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lay compu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2135160"/>
            <a:ext cx="5248440" cy="4046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1294560"/>
            <a:ext cx="66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 family lives beside my fam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6086520" cy="441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160" y="121824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like to play c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4848120" cy="3660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7080" y="1387080"/>
            <a:ext cx="32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like toy c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305400" cy="4495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1680" y="108216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live in Room 1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5410080" cy="399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42040" y="129492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visit my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5771880" cy="4829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93960" y="108216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play on the compu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124080" cy="2845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280" y="1371240"/>
            <a:ext cx="61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s are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a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0" t="0" r="40454" b="0"/>
          <a:stretch/>
        </p:blipFill>
        <p:spPr>
          <a:xfrm>
            <a:off x="380880" y="2743200"/>
            <a:ext cx="28195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11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8720" y="3352320"/>
            <a:ext cx="67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icture is ____  the des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335268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276360" cy="32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90000" y="16758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hair is  ____  the des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2666880" cy="2457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37800" y="4876200"/>
            <a:ext cx="64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s are____the des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560" y="16002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8040" y="4800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724280" cy="352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67600" y="4723920"/>
            <a:ext cx="57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all is ____  the chai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8720" y="4724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4013280" cy="403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24480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7160" y="1599840"/>
            <a:ext cx="74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ird is flying above the woo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7520" y="2666520"/>
            <a:ext cx="77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lane is flying below the clou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5720" y="35809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is a book on the des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4640" y="4571640"/>
            <a:ext cx="71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is a bridge over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0600" y="5486040"/>
            <a:ext cx="62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side her m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9072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要句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33720" y="1828800"/>
            <a:ext cx="4952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Goodby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387600" cy="358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2486160" cy="249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990720"/>
            <a:ext cx="300528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914400"/>
            <a:ext cx="4809960" cy="485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7476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343400" cy="283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572000" cy="26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477120" cy="289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46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48520" y="4876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994040" cy="261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3280" y="213372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8T07:18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