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5EA-6E00-4F72-9A93-CED800EE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7B4-AD5B-4B4D-9656-DB8F2E4E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E1F-D1D6-4E63-B3BF-4337AD99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55D-AFB4-4DD6-83D6-042F5B7A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0B0-B963-43C3-84B7-F95EF09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7B2-9D7B-430E-95E7-7C00467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4EE-6B4A-4F20-BED2-F49C14BF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D87-AFF9-4E4F-BA0D-27A8A15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4A1-06E2-4A9C-958A-284EBDA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2EC-B54A-4EF9-8435-998E3026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73F-E093-49AF-93C8-74896C6C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E44-2ECB-46FD-BC8D-C88A429E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C07D-CF01-4FE9-A41E-9B503AC450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2920" y="1447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冀教版（一起）二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3581280"/>
            <a:ext cx="6400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Lesson 31 words where I liv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9400" y="28944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ru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6240" y="114264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13712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30840" y="30474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228564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ran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68840" y="4266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n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4952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a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3526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48320" y="19810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396252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4290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437920" y="27432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038120" y="1828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114800" cy="3900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7080" y="2674800"/>
            <a:ext cx="174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des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105160" cy="2666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26280" y="10746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era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5353200" cy="173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31000" y="160812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rul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6200" y="35046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15393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5760" y="20728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s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8760" y="367308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5840" y="396144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8840" y="2133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nc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840" y="495252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ra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6280" y="51206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437920" y="2743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419360" y="205704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2819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8098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809880" y="41911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09320" y="39625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35805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尽可能多的说出与生活息息相关的名词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295280"/>
            <a:ext cx="13906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练习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8360" y="251424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ed light! Stop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8000" y="3504600"/>
            <a:ext cx="37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een light! Go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2760" y="4647600"/>
            <a:ext cx="42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ellow light! Wai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14400"/>
            <a:ext cx="1905120" cy="9144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熟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57400" y="2133720"/>
            <a:ext cx="4710240" cy="28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Goodbye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304920"/>
            <a:ext cx="201924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Review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687600" y="167544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oo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242892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8480" y="3474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ru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352680"/>
            <a:ext cx="2581200" cy="220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560" y="15228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choo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2819520" cy="22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20760" y="434232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rk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3495600" cy="264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1219320"/>
            <a:ext cx="3086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趣味操练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24576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谁说出的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chool and frui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单词最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3286080" cy="268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16800" y="2819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4781520" cy="364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9960" y="23623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800600" cy="385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9800" y="137160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an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4343400" cy="3973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3280" y="25146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384984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3400" y="3124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rap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23408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an you say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8T07:15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