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5.png" ContentType="image/png"/>
  <Override PartName="/ppt/media/image19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7.png" ContentType="image/png"/>
  <Override PartName="/ppt/media/image34.jpeg" ContentType="image/jpeg"/>
  <Override PartName="/ppt/media/image36.png" ContentType="image/png"/>
  <Override PartName="/ppt/media/image29.jpeg" ContentType="image/jpeg"/>
  <Override PartName="/ppt/media/image7.gif" ContentType="image/gif"/>
  <Override PartName="/ppt/media/image38.jpeg" ContentType="image/jpeg"/>
  <Override PartName="/ppt/media/image6.gif" ContentType="image/gif"/>
  <Override PartName="/ppt/media/image13.jpeg" ContentType="image/jpeg"/>
  <Override PartName="/ppt/media/Clicked.WAV" ContentType="audio/x-wav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33.gif" ContentType="image/gif"/>
  <Override PartName="/ppt/media/image26.png" ContentType="image/png"/>
  <Override PartName="/ppt/media/image2.jpeg" ContentType="image/jpeg"/>
  <Override PartName="/ppt/media/image22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AAC-E76D-47B7-BF89-3B26C173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1E5-4646-44A8-B607-0EB0974E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A7E-6A5A-4978-AFB5-8BA1A4C3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ED7-4FB5-4A0C-94D8-2E72C9D2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4DA-2FBB-4779-9E6F-57484DEC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E53-1104-443A-A394-BFB32D49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B43-1259-4003-AC43-050FC9A8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96F-279C-468C-A1B9-83B3B649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4F9-80C3-47DF-8BEA-EAA02960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877-4CED-4AC4-A675-5C97ADA5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19A-2648-44BD-A4FA-4A1A3F78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F8C-B771-40F2-BA18-72C600B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2B7-C066-447E-A2FA-C1B404C3C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hyperlink" Target="http://hkrs.virtualave.net/mtr_urban/isl-022.jpg" TargetMode="External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7.gif"/><Relationship Id="rId4" Type="http://schemas.openxmlformats.org/officeDocument/2006/relationships/hyperlink" Target="http://hkrs.virtualave.net/mtr_urban/isl-022.jpg" TargetMode="External"/><Relationship Id="rId5" Type="http://schemas.openxmlformats.org/officeDocument/2006/relationships/image" Target="../media/image28.jpeg"/><Relationship Id="rId6" Type="http://schemas.openxmlformats.org/officeDocument/2006/relationships/image" Target="../media/image25.pn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5.jpeg"/><Relationship Id="rId5" Type="http://schemas.openxmlformats.org/officeDocument/2006/relationships/image" Target="../media/image20.jpeg"/><Relationship Id="rId6" Type="http://schemas.openxmlformats.org/officeDocument/2006/relationships/audio" Target="../media/Clicked.WAV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chool bus"/>
          <p:cNvPicPr/>
          <p:nvPr/>
        </p:nvPicPr>
        <p:blipFill>
          <a:blip r:embed="rId2"/>
          <a:stretch/>
        </p:blipFill>
        <p:spPr>
          <a:xfrm>
            <a:off x="468360" y="4149720"/>
            <a:ext cx="1903320" cy="1989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539640" y="1268280"/>
            <a:ext cx="8137800" cy="394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UNIT FIVE HOW DO YOU GO TO SCHOOL 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Lesson 17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课件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1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345680" y="5481720"/>
            <a:ext cx="5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5"/>
          <p:cNvSpPr/>
          <p:nvPr/>
        </p:nvSpPr>
        <p:spPr>
          <a:xfrm>
            <a:off x="36360" y="3808440"/>
            <a:ext cx="9144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A: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B: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Well, I ride my bike to the subway st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take the sub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655640" y="1639800"/>
            <a:ext cx="7093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your partner how you get to school. Imagine you use two types of transport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矩形 22" descr=""/>
          <p:cNvPicPr/>
          <p:nvPr/>
        </p:nvPicPr>
        <p:blipFill>
          <a:blip r:embed="rId2"/>
          <a:srcRect l="9355" t="15281" r="11516" b="13378"/>
          <a:stretch/>
        </p:blipFill>
        <p:spPr>
          <a:xfrm>
            <a:off x="431640" y="271440"/>
            <a:ext cx="395928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grandpa"/>
          <p:cNvPicPr/>
          <p:nvPr/>
        </p:nvPicPr>
        <p:blipFill>
          <a:blip r:embed="rId2"/>
          <a:stretch/>
        </p:blipFill>
        <p:spPr>
          <a:xfrm>
            <a:off x="5724360" y="2205000"/>
            <a:ext cx="1609920" cy="2274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4b2[1]"/>
          <p:cNvPicPr/>
          <p:nvPr/>
        </p:nvPicPr>
        <p:blipFill>
          <a:blip r:embed="rId3"/>
          <a:stretch/>
        </p:blipFill>
        <p:spPr>
          <a:xfrm>
            <a:off x="719280" y="4522680"/>
            <a:ext cx="1752480" cy="171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sl-022.jpg (73878 bytes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43280" y="486900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7" descr=""/>
          <p:cNvPicPr/>
          <p:nvPr/>
        </p:nvPicPr>
        <p:blipFill>
          <a:blip r:embed="rId6"/>
          <a:stretch/>
        </p:blipFill>
        <p:spPr>
          <a:xfrm>
            <a:off x="6696000" y="4581360"/>
            <a:ext cx="1600200" cy="17290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>
            <a:off x="2541600" y="5661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5894280" y="522144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矩形 9" descr=""/>
          <p:cNvPicPr/>
          <p:nvPr/>
        </p:nvPicPr>
        <p:blipFill>
          <a:blip r:embed="rId7"/>
          <a:srcRect l="5667" t="26822" r="16954" b="519"/>
          <a:stretch/>
        </p:blipFill>
        <p:spPr>
          <a:xfrm>
            <a:off x="539640" y="333360"/>
            <a:ext cx="3600720" cy="126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570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How does grandpa get to the park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First, he … to 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Next, he … to 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 Finally he …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71640" y="1555920"/>
            <a:ext cx="7451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get to the park, first grandpa rides his bik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ubway station. Next he takes the subway to the bus station. Finally he gets to the pa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4167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How does Nina go to the library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First, she…t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Next, she…t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 Then she…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4941720"/>
            <a:ext cx="8305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 go to the library, first Nina 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 to ...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Next she  to … Then sh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2"/>
          <a:stretch/>
        </p:blipFill>
        <p:spPr>
          <a:xfrm>
            <a:off x="2286000" y="3311640"/>
            <a:ext cx="146196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image3[1]"/>
          <p:cNvPicPr/>
          <p:nvPr/>
        </p:nvPicPr>
        <p:blipFill>
          <a:blip r:embed="rId3"/>
          <a:stretch/>
        </p:blipFill>
        <p:spPr>
          <a:xfrm>
            <a:off x="304920" y="3387600"/>
            <a:ext cx="1322280" cy="1236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isl-022.jpg (73878 bytes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3311640"/>
            <a:ext cx="1600200" cy="144756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7" descr=""/>
          <p:cNvPicPr/>
          <p:nvPr/>
        </p:nvPicPr>
        <p:blipFill>
          <a:blip r:embed="rId6"/>
          <a:stretch/>
        </p:blipFill>
        <p:spPr>
          <a:xfrm>
            <a:off x="7010280" y="3387600"/>
            <a:ext cx="1692360" cy="1395360"/>
          </a:xfrm>
          <a:prstGeom prst="rect">
            <a:avLst/>
          </a:prstGeom>
          <a:ln w="0">
            <a:noFill/>
          </a:ln>
        </p:spPr>
      </p:pic>
      <p:sp>
        <p:nvSpPr>
          <p:cNvPr id="130" name="Line 8"/>
          <p:cNvSpPr/>
          <p:nvPr/>
        </p:nvSpPr>
        <p:spPr>
          <a:xfrm>
            <a:off x="1600200" y="4073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3733920" y="4073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6324480" y="41497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girl"/>
          <p:cNvPicPr/>
          <p:nvPr/>
        </p:nvPicPr>
        <p:blipFill>
          <a:blip r:embed="rId7"/>
          <a:stretch/>
        </p:blipFill>
        <p:spPr>
          <a:xfrm>
            <a:off x="6227640" y="1125360"/>
            <a:ext cx="1440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矩形 2" descr=""/>
          <p:cNvPicPr/>
          <p:nvPr/>
        </p:nvPicPr>
        <p:blipFill>
          <a:blip r:embed="rId2"/>
          <a:srcRect l="0" t="26208" r="13251" b="8617"/>
          <a:stretch/>
        </p:blipFill>
        <p:spPr>
          <a:xfrm>
            <a:off x="250920" y="189000"/>
            <a:ext cx="3492360" cy="90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E:\图片库\地点房子\1644.tif"/>
          <p:cNvPicPr/>
          <p:nvPr/>
        </p:nvPicPr>
        <p:blipFill>
          <a:blip r:embed="rId3"/>
          <a:stretch/>
        </p:blipFill>
        <p:spPr>
          <a:xfrm>
            <a:off x="5291280" y="1555920"/>
            <a:ext cx="3240000" cy="1392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:\图片库\地点房子\g0217.tif"/>
          <p:cNvPicPr/>
          <p:nvPr/>
        </p:nvPicPr>
        <p:blipFill>
          <a:blip r:embed="rId4"/>
          <a:stretch/>
        </p:blipFill>
        <p:spPr>
          <a:xfrm>
            <a:off x="682560" y="3902040"/>
            <a:ext cx="2016360" cy="16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E:\图片库\地点房子\大河有船图KH.tif"/>
          <p:cNvPicPr/>
          <p:nvPr/>
        </p:nvPicPr>
        <p:blipFill>
          <a:blip r:embed="rId5"/>
          <a:stretch/>
        </p:blipFill>
        <p:spPr>
          <a:xfrm>
            <a:off x="611280" y="1295280"/>
            <a:ext cx="1871640" cy="1700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6"/>
          <p:cNvSpPr/>
          <p:nvPr/>
        </p:nvSpPr>
        <p:spPr>
          <a:xfrm>
            <a:off x="3425760" y="3075120"/>
            <a:ext cx="10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sailing2"/>
          <p:cNvPicPr/>
          <p:nvPr/>
        </p:nvPicPr>
        <p:blipFill>
          <a:blip r:embed="rId6"/>
          <a:stretch/>
        </p:blipFill>
        <p:spPr>
          <a:xfrm>
            <a:off x="2987640" y="1339920"/>
            <a:ext cx="2016000" cy="1662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image3.club.sohu.com/pic/f8/39/hunan76d03750127bc93b.jpg"/>
          <p:cNvPicPr/>
          <p:nvPr/>
        </p:nvPicPr>
        <p:blipFill>
          <a:blip r:embed="rId7"/>
          <a:srcRect l="0" t="0" r="0" b="13072"/>
          <a:stretch/>
        </p:blipFill>
        <p:spPr>
          <a:xfrm>
            <a:off x="5867280" y="3932280"/>
            <a:ext cx="2160720" cy="1595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a2.att.hudong.com/40/54/01300000631262126699549212413_s.jpg"/>
          <p:cNvPicPr/>
          <p:nvPr/>
        </p:nvPicPr>
        <p:blipFill>
          <a:blip r:embed="rId8"/>
          <a:stretch/>
        </p:blipFill>
        <p:spPr>
          <a:xfrm>
            <a:off x="3083040" y="3932280"/>
            <a:ext cx="2423880" cy="16174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6"/>
          <p:cNvSpPr/>
          <p:nvPr/>
        </p:nvSpPr>
        <p:spPr>
          <a:xfrm>
            <a:off x="1042920" y="31399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6012000" y="306720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971640" y="5661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vill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417840" y="5661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vill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6084720" y="5667480"/>
            <a:ext cx="2087640" cy="6426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rope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74920" y="1096920"/>
            <a:ext cx="7200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the picture and title below. Guess what the passage is ab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矩形 3" descr=""/>
          <p:cNvPicPr/>
          <p:nvPr/>
        </p:nvPicPr>
        <p:blipFill>
          <a:blip r:embed="rId2"/>
          <a:srcRect l="8220" t="18446" r="10937" b="15275"/>
          <a:stretch/>
        </p:blipFill>
        <p:spPr>
          <a:xfrm>
            <a:off x="250920" y="44280"/>
            <a:ext cx="3457440" cy="1052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1476360" y="24717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Crossing the River to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E:\图片库\人物\2383.tif"/>
          <p:cNvPicPr/>
          <p:nvPr/>
        </p:nvPicPr>
        <p:blipFill>
          <a:blip r:embed="rId3"/>
          <a:stretch/>
        </p:blipFill>
        <p:spPr>
          <a:xfrm>
            <a:off x="108000" y="4581360"/>
            <a:ext cx="1692360" cy="20019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719280" y="3213000"/>
            <a:ext cx="4716360" cy="1657440"/>
            <a:chOff x="719280" y="3213000"/>
            <a:chExt cx="4716360" cy="1657440"/>
          </a:xfrm>
        </p:grpSpPr>
        <p:sp>
          <p:nvSpPr>
            <p:cNvPr id="152" name="云形标注 7"/>
            <p:cNvSpPr/>
            <p:nvPr/>
          </p:nvSpPr>
          <p:spPr>
            <a:xfrm>
              <a:off x="719280" y="3213000"/>
              <a:ext cx="4716360" cy="1657440"/>
            </a:xfrm>
            <a:prstGeom prst="cloudCallout">
              <a:avLst>
                <a:gd name="adj1" fmla="val -25023"/>
                <a:gd name="adj2" fmla="val 80652"/>
              </a:avLst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8"/>
            <p:cNvSpPr/>
            <p:nvPr/>
          </p:nvSpPr>
          <p:spPr>
            <a:xfrm>
              <a:off x="1403640" y="3502080"/>
              <a:ext cx="360036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How do students go to school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724360" y="3132000"/>
            <a:ext cx="2970360" cy="358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835280" y="723960"/>
            <a:ext cx="6049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passage and answer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矩形 5" descr=""/>
          <p:cNvPicPr/>
          <p:nvPr/>
        </p:nvPicPr>
        <p:blipFill>
          <a:blip r:embed="rId2"/>
          <a:stretch/>
        </p:blipFill>
        <p:spPr>
          <a:xfrm>
            <a:off x="2484360" y="2276640"/>
            <a:ext cx="3959280" cy="1014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684360" y="3327480"/>
            <a:ext cx="7991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Liang ling go to school every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75564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goes on a ropeway to cross the river 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2786040" y="928800"/>
            <a:ext cx="3816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omework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547640" y="2565360"/>
            <a:ext cx="63360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extbook dialogu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0c92"/>
                </a:solidFill>
                <a:latin typeface="Times New Roman"/>
              </a:rPr>
              <a:t>2. Answer: </a:t>
            </a:r>
            <a:r>
              <a:rPr b="1" lang="en-US" sz="3200" spc="-1" strike="noStrike">
                <a:solidFill>
                  <a:srgbClr val="160c92"/>
                </a:solidFill>
                <a:latin typeface="Times New Roman"/>
              </a:rPr>
              <a:t>How do your parents go to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132000" y="549360"/>
            <a:ext cx="5297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自行车"/>
          <p:cNvPicPr/>
          <p:nvPr/>
        </p:nvPicPr>
        <p:blipFill>
          <a:blip r:embed="rId2"/>
          <a:stretch/>
        </p:blipFill>
        <p:spPr>
          <a:xfrm>
            <a:off x="611280" y="1441440"/>
            <a:ext cx="2087640" cy="139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公共汽车"/>
          <p:cNvPicPr/>
          <p:nvPr/>
        </p:nvPicPr>
        <p:blipFill>
          <a:blip r:embed="rId3"/>
          <a:stretch/>
        </p:blipFill>
        <p:spPr>
          <a:xfrm>
            <a:off x="755640" y="3933720"/>
            <a:ext cx="1727280" cy="1247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270960" y="172872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e a 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607000" y="173520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o by bik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917080" y="465300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941080" y="443700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o by b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10" descr=""/>
          <p:cNvPicPr/>
          <p:nvPr/>
        </p:nvPicPr>
        <p:blipFill>
          <a:blip r:embed="rId4"/>
          <a:srcRect l="9066" t="26678" r="12903" b="9911"/>
          <a:stretch/>
        </p:blipFill>
        <p:spPr>
          <a:xfrm>
            <a:off x="106200" y="171360"/>
            <a:ext cx="2521080" cy="112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132000" y="549360"/>
            <a:ext cx="5297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矩形 10" descr=""/>
          <p:cNvPicPr/>
          <p:nvPr/>
        </p:nvPicPr>
        <p:blipFill>
          <a:blip r:embed="rId2"/>
          <a:srcRect l="9066" t="26678" r="12903" b="9911"/>
          <a:stretch/>
        </p:blipFill>
        <p:spPr>
          <a:xfrm>
            <a:off x="106200" y="171360"/>
            <a:ext cx="2521080" cy="11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train2.gif (11074 bytes)"/>
          <p:cNvPicPr/>
          <p:nvPr/>
        </p:nvPicPr>
        <p:blipFill>
          <a:blip r:embed="rId3"/>
          <a:stretch/>
        </p:blipFill>
        <p:spPr>
          <a:xfrm>
            <a:off x="612720" y="2349360"/>
            <a:ext cx="6327720" cy="8510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30880" y="3357720"/>
            <a:ext cx="28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726160" y="350208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o by tra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ar2.gif (48408 bytes)"/>
          <p:cNvPicPr/>
          <p:nvPr/>
        </p:nvPicPr>
        <p:blipFill>
          <a:blip r:embed="rId4"/>
          <a:stretch/>
        </p:blipFill>
        <p:spPr>
          <a:xfrm>
            <a:off x="179280" y="4154400"/>
            <a:ext cx="3205440" cy="2803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447000" y="569592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6013800" y="568944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o by c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3734280" y="144000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7000" y="223200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o by subw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subway01"/>
          <p:cNvPicPr/>
          <p:nvPr/>
        </p:nvPicPr>
        <p:blipFill>
          <a:blip r:embed="rId2"/>
          <a:stretch/>
        </p:blipFill>
        <p:spPr>
          <a:xfrm>
            <a:off x="852480" y="1436760"/>
            <a:ext cx="2089080" cy="16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u=2807917036,2159172381&amp;fm=0&amp;gp=0"/>
          <p:cNvPicPr/>
          <p:nvPr/>
        </p:nvPicPr>
        <p:blipFill>
          <a:blip r:embed="rId3"/>
          <a:stretch/>
        </p:blipFill>
        <p:spPr>
          <a:xfrm>
            <a:off x="853920" y="3313080"/>
            <a:ext cx="1729080" cy="15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u=1076090737,92862059&amp;fm=0&amp;gp=0"/>
          <p:cNvPicPr/>
          <p:nvPr/>
        </p:nvPicPr>
        <p:blipFill>
          <a:blip r:embed="rId4"/>
          <a:stretch/>
        </p:blipFill>
        <p:spPr>
          <a:xfrm>
            <a:off x="925560" y="5184720"/>
            <a:ext cx="1531800" cy="1629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7"/>
          <p:cNvSpPr/>
          <p:nvPr/>
        </p:nvSpPr>
        <p:spPr>
          <a:xfrm>
            <a:off x="3589200" y="38894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 / go o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727360" y="561672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go by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51624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364000" y="5162400"/>
            <a:ext cx="27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矩形 10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753080" cy="1773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6120" y="20653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572000" y="2065320"/>
            <a:ext cx="4011480" cy="281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826920" y="5229360"/>
            <a:ext cx="33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way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elcome"/>
          <p:cNvPicPr/>
          <p:nvPr/>
        </p:nvPicPr>
        <p:blipFill>
          <a:blip r:embed="rId2"/>
          <a:stretch/>
        </p:blipFill>
        <p:spPr>
          <a:xfrm>
            <a:off x="179280" y="98100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welcome"/>
          <p:cNvPicPr/>
          <p:nvPr/>
        </p:nvPicPr>
        <p:blipFill>
          <a:blip r:embed="rId3"/>
          <a:stretch/>
        </p:blipFill>
        <p:spPr>
          <a:xfrm>
            <a:off x="395280" y="1413000"/>
            <a:ext cx="641520" cy="64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welcome"/>
          <p:cNvPicPr/>
          <p:nvPr/>
        </p:nvPicPr>
        <p:blipFill>
          <a:blip r:embed="rId4"/>
          <a:stretch/>
        </p:blipFill>
        <p:spPr>
          <a:xfrm>
            <a:off x="755640" y="620640"/>
            <a:ext cx="641520" cy="641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5148360" y="5229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F2004070423061300000"/>
          <p:cNvPicPr/>
          <p:nvPr/>
        </p:nvPicPr>
        <p:blipFill>
          <a:blip r:embed="rId5"/>
          <a:stretch/>
        </p:blipFill>
        <p:spPr>
          <a:xfrm>
            <a:off x="324000" y="1484280"/>
            <a:ext cx="4032000" cy="3110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521240" y="1557360"/>
            <a:ext cx="4298760" cy="27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60020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y bu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09680" y="16002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 to school by bus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51814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walk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76720" y="525780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I walk to school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52578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walk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57400" y="236232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 on holiday by ship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23623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y ship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057400" y="320040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 on holiday by plane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32767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plan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7621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y car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66880" y="7621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 to school by car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41911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y bik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14600" y="41911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I go to work by bike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476360" y="920880"/>
            <a:ext cx="6840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tch the words with the pi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990800"/>
            <a:ext cx="8351640" cy="1410120"/>
          </a:xfrm>
          <a:prstGeom prst="rect">
            <a:avLst/>
          </a:prstGeom>
          <a:solidFill>
            <a:srgbClr val="ffcc99"/>
          </a:solidFill>
          <a:ln w="7632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___ bus stop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___ bus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___ train station    4. __ subway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973080" y="200016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971640" y="26478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003640" y="264780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21440" y="2000160"/>
            <a:ext cx="50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800520"/>
            <a:ext cx="9144000" cy="186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1577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77080" y="2421000"/>
            <a:ext cx="2266920" cy="1506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2781360"/>
            <a:ext cx="775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I ride my bike t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subway st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484280"/>
            <a:ext cx="2340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幼圆"/>
              </a:rPr>
              <a:t>home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幼圆"/>
              <a:ea typeface="幼圆"/>
            </a:endParaRPr>
          </a:p>
        </p:txBody>
      </p:sp>
      <p:sp>
        <p:nvSpPr>
          <p:cNvPr id="105" name=""/>
          <p:cNvSpPr txBox="1"/>
          <p:nvPr/>
        </p:nvSpPr>
        <p:spPr>
          <a:xfrm rot="560400">
            <a:off x="7175160" y="3645000"/>
            <a:ext cx="19684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Basemic Symbol"/>
              </a:rPr>
              <a:t>school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Basemic Symbol"/>
              <a:ea typeface="Basemic Symbol"/>
            </a:endParaRPr>
          </a:p>
        </p:txBody>
      </p:sp>
      <p:sp>
        <p:nvSpPr>
          <p:cNvPr id="106" name=""/>
          <p:cNvSpPr/>
          <p:nvPr/>
        </p:nvSpPr>
        <p:spPr>
          <a:xfrm rot="2161200">
            <a:off x="6816240" y="1585800"/>
            <a:ext cx="1440000" cy="432000"/>
          </a:xfrm>
          <a:prstGeom prst="rightArrow">
            <a:avLst>
              <a:gd name="adj1" fmla="val 50000"/>
              <a:gd name="adj2" fmla="val 83333"/>
            </a:avLst>
          </a:prstGeom>
          <a:solidFill>
            <a:srgbClr val="ff00ff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F2004070423061300000"/>
          <p:cNvPicPr/>
          <p:nvPr/>
        </p:nvPicPr>
        <p:blipFill>
          <a:blip r:embed="rId4"/>
          <a:stretch/>
        </p:blipFill>
        <p:spPr>
          <a:xfrm>
            <a:off x="4572000" y="26028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84360" y="1484280"/>
            <a:ext cx="1943280" cy="432000"/>
          </a:xfrm>
          <a:prstGeom prst="rightArrow">
            <a:avLst>
              <a:gd name="adj1" fmla="val 50000"/>
              <a:gd name="adj2" fmla="val 112458"/>
            </a:avLst>
          </a:prstGeom>
          <a:solidFill>
            <a:srgbClr val="ff00ff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941720"/>
            <a:ext cx="77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Then</a:t>
            </a: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 I take the subway 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260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very f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http://www.shaoerw.com/img/slimg/dw/images/333.jpg"/>
          <p:cNvPicPr/>
          <p:nvPr/>
        </p:nvPicPr>
        <p:blipFill>
          <a:blip r:embed="rId5"/>
          <a:stretch/>
        </p:blipFill>
        <p:spPr>
          <a:xfrm>
            <a:off x="2771640" y="0"/>
            <a:ext cx="1152720" cy="14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3:39:59Z</dcterms:created>
  <dc:creator/>
  <dc:description/>
  <dc:language>en-US</dc:language>
  <cp:lastModifiedBy/>
  <dcterms:modified xsi:type="dcterms:W3CDTF">2015-06-27T10:39:03Z</dcterms:modified>
  <cp:revision>1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