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0BA-EF36-482C-93B7-714DF77F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6359-1DEB-4D68-A556-7FF796CE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E5E-20DA-446F-8B1E-DA01BBF7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729-079B-4EE3-9365-7FF59644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FDE-D08C-41B2-93CA-6EC0F54A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87D-7EB9-44CF-A957-A387939D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431-BB1E-40D2-A0EA-FE1FAD21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15E8-1EA9-4AF5-B9A2-59F7F50F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F09-7C80-4332-8898-5626BF38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EDA-5711-47FC-AE8A-236152D4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FAE-1B50-4B2C-82B5-3305ECD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5B7-2F29-4535-80EF-B27DFD64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FC92-5185-4C49-AFC4-86E6B8381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7.jpeg"/><Relationship Id="rId7" Type="http://schemas.openxmlformats.org/officeDocument/2006/relationships/image" Target="../media/image15.jpeg"/><Relationship Id="rId8" Type="http://schemas.openxmlformats.org/officeDocument/2006/relationships/image" Target="../media/image8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7.jpeg"/><Relationship Id="rId7" Type="http://schemas.openxmlformats.org/officeDocument/2006/relationships/image" Target="../media/image15.jpeg"/><Relationship Id="rId8" Type="http://schemas.openxmlformats.org/officeDocument/2006/relationships/image" Target="../media/image8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676520"/>
            <a:ext cx="7134120" cy="39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UNIT FIVE HOW DO YOU GO TO SCHOOL </a:t>
            </a:r>
            <a:endParaRPr b="1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Lesson 18</a:t>
            </a:r>
            <a:endParaRPr b="1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课件</a:t>
            </a:r>
            <a:r>
              <a:rPr b="1" lang="en-US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1</a:t>
            </a:r>
            <a:endParaRPr b="1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15000" y="36576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769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you get to school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06040" y="2071800"/>
            <a:ext cx="4643640" cy="392904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ake a train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744560" y="3284640"/>
            <a:ext cx="52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ake a shi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to schoo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731960" y="450216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ake a sub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to schoo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728720" y="2590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o to schoo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763640" y="380988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o to schoo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736640" y="51814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o to schoo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i="1" lang="en-US" sz="3200" spc="-1" strike="noStrike">
                <a:solidFill>
                  <a:srgbClr val="f51d1d"/>
                </a:solidFill>
                <a:latin typeface="Times New Roman"/>
              </a:rPr>
              <a:t>sub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132000" y="404640"/>
            <a:ext cx="2795760" cy="6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Franklin Gothic Medium"/>
              </a:rPr>
              <a:t>Grammar 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52400" y="1214280"/>
            <a:ext cx="7715160" cy="5211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do you get to school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是怎么上学去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疑问副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常用来提问方式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含有动词交通方式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ke the subwa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乘坐地铁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ke the trai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乘火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lk (go on foot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步行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ke the bu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乘公交汽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可以用介词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y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表示乘坐方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bus, by subway, by ship, by bike, by plane/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4"/>
          <p:cNvSpPr/>
          <p:nvPr/>
        </p:nvSpPr>
        <p:spPr>
          <a:xfrm>
            <a:off x="684360" y="1411200"/>
            <a:ext cx="7673760" cy="10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857160" y="2224080"/>
            <a:ext cx="7696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Bo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takes the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au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wal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Yang L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takes the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Ma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takes the sub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Jo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1571760" y="3081240"/>
            <a:ext cx="2928960" cy="1284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1785960" y="5084640"/>
            <a:ext cx="2786040" cy="46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 flipV="1">
            <a:off x="1619280" y="3223800"/>
            <a:ext cx="3024000" cy="2436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1619280" y="3789360"/>
            <a:ext cx="2808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 flipV="1">
            <a:off x="2484360" y="3789360"/>
            <a:ext cx="1943280" cy="641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755640" y="1484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: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e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Bo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t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755640" y="1916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: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H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k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bu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547640" y="40464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Pair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How does Bob get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928520"/>
            <a:ext cx="5857920" cy="1428840"/>
          </a:xfrm>
          <a:prstGeom prst="rect">
            <a:avLst/>
          </a:prstGeom>
          <a:solidFill>
            <a:srgbClr val="bbe0e3"/>
          </a:solidFill>
          <a:ln w="57240">
            <a:solidFill>
              <a:srgbClr val="00b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c443"/>
                </a:solidFill>
                <a:latin typeface="Arial"/>
                <a:ea typeface="Arial Unicode MS"/>
              </a:rPr>
              <a:t>takes the train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 Unicode MS"/>
              </a:rPr>
              <a:t> to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 Unicode MS"/>
              </a:rPr>
              <a:t>goes to school </a:t>
            </a:r>
            <a:r>
              <a:rPr b="1" lang="en-US" sz="3600" spc="-1" strike="noStrike">
                <a:solidFill>
                  <a:srgbClr val="f51d1d"/>
                </a:solidFill>
                <a:latin typeface="Arial"/>
                <a:ea typeface="Arial Unicode MS"/>
              </a:rPr>
              <a:t>by trai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116000" y="35002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es Mary get to school?</a:t>
            </a:r>
            <a:br>
              <a:rPr sz="3200"/>
            </a:br>
            <a:r>
              <a:rPr b="1" i="1" lang="en-US" sz="3200" spc="-1" strike="noStrike">
                <a:solidFill>
                  <a:srgbClr val="f51d1d"/>
                </a:solidFill>
                <a:latin typeface="Times New Roman"/>
                <a:ea typeface="Arial Unicode MS"/>
              </a:rPr>
              <a:t>Sh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214280" y="4643280"/>
            <a:ext cx="5786640" cy="14770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c443"/>
                </a:solidFill>
                <a:latin typeface="Times New Roman"/>
                <a:ea typeface="Arial Unicode MS"/>
              </a:rPr>
              <a:t>takes the subway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to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1214280" y="53578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goes to school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y sub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187280" y="1197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51d1d"/>
                </a:solidFill>
                <a:latin typeface="Times New Roman"/>
                <a:ea typeface="Arial Unicode MS"/>
              </a:rPr>
              <a:t>H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Pai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626436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es Maria go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 goes home by subway.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 takes the subwa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292720" y="4743360"/>
            <a:ext cx="31687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900000" y="620640"/>
            <a:ext cx="70786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es Maria go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 goes home …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 …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338472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826920" y="549360"/>
            <a:ext cx="73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es Maria go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 goes home ….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 …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492360" y="3284640"/>
            <a:ext cx="38102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826920" y="549360"/>
            <a:ext cx="626436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es Maria go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 goes home ….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 …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195640" y="328464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14400" y="3124080"/>
            <a:ext cx="637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完成课后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诵单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0" y="1295280"/>
            <a:ext cx="38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nk you very much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53 -0.02451 C -0.11233 0.05202 0.00504 0.43306 0.03837 0.43422 C 0.0717 0.43538 0.05365 0.07699 0.05764 -0.01711 E">
                                      <p:cBhvr>
                                        <p:cTn id="523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71680" y="5000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ok and say what i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0388"/>
          <p:cNvPicPr/>
          <p:nvPr/>
        </p:nvPicPr>
        <p:blipFill>
          <a:blip r:embed="rId2"/>
          <a:stretch/>
        </p:blipFill>
        <p:spPr>
          <a:xfrm>
            <a:off x="1258920" y="1628640"/>
            <a:ext cx="2438280" cy="1160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1793880" y="2814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20053291414669"/>
          <p:cNvPicPr/>
          <p:nvPr/>
        </p:nvPicPr>
        <p:blipFill>
          <a:blip r:embed="rId3"/>
          <a:stretch/>
        </p:blipFill>
        <p:spPr>
          <a:xfrm>
            <a:off x="5435640" y="1484280"/>
            <a:ext cx="2133720" cy="1405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5435640" y="3068640"/>
            <a:ext cx="23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tor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0246"/>
          <p:cNvPicPr/>
          <p:nvPr/>
        </p:nvPicPr>
        <p:blipFill>
          <a:blip r:embed="rId4"/>
          <a:stretch/>
        </p:blipFill>
        <p:spPr>
          <a:xfrm>
            <a:off x="900000" y="4076640"/>
            <a:ext cx="2514600" cy="1359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4"/>
          <p:cNvSpPr/>
          <p:nvPr/>
        </p:nvSpPr>
        <p:spPr>
          <a:xfrm>
            <a:off x="1484280" y="55576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0073"/>
          <p:cNvPicPr/>
          <p:nvPr/>
        </p:nvPicPr>
        <p:blipFill>
          <a:blip r:embed="rId5"/>
          <a:stretch/>
        </p:blipFill>
        <p:spPr>
          <a:xfrm>
            <a:off x="5435640" y="4221000"/>
            <a:ext cx="2438280" cy="1025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9"/>
          <p:cNvSpPr/>
          <p:nvPr/>
        </p:nvSpPr>
        <p:spPr>
          <a:xfrm>
            <a:off x="5796000" y="5589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266544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03280" y="393372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0498"/>
          <p:cNvPicPr/>
          <p:nvPr/>
        </p:nvPicPr>
        <p:blipFill>
          <a:blip r:embed="rId4"/>
          <a:stretch/>
        </p:blipFill>
        <p:spPr>
          <a:xfrm>
            <a:off x="5940360" y="1341360"/>
            <a:ext cx="2476440" cy="1293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6"/>
          <p:cNvSpPr/>
          <p:nvPr/>
        </p:nvSpPr>
        <p:spPr>
          <a:xfrm>
            <a:off x="6588000" y="285264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0094"/>
          <p:cNvPicPr/>
          <p:nvPr/>
        </p:nvPicPr>
        <p:blipFill>
          <a:blip r:embed="rId5"/>
          <a:stretch/>
        </p:blipFill>
        <p:spPr>
          <a:xfrm>
            <a:off x="6012000" y="4221000"/>
            <a:ext cx="1981080" cy="131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2"/>
          <p:cNvSpPr/>
          <p:nvPr/>
        </p:nvSpPr>
        <p:spPr>
          <a:xfrm>
            <a:off x="6516720" y="5661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979640" y="29973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1835280" y="566100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b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084720" y="3429000"/>
            <a:ext cx="7164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276720" y="4724280"/>
            <a:ext cx="7128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http://tbn3.google.cn/images?q=tbn:szuLAK4IwfdWxM:"/>
          <p:cNvPicPr/>
          <p:nvPr/>
        </p:nvPicPr>
        <p:blipFill>
          <a:blip r:embed="rId2"/>
          <a:srcRect l="-931" t="4760" r="0" b="0"/>
          <a:stretch/>
        </p:blipFill>
        <p:spPr>
          <a:xfrm>
            <a:off x="3121200" y="635040"/>
            <a:ext cx="2244600" cy="127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http://tbn1.google.cn/images?q=tbn:88PZKsXehupo3M:"/>
          <p:cNvPicPr/>
          <p:nvPr/>
        </p:nvPicPr>
        <p:blipFill>
          <a:blip r:embed="rId3"/>
          <a:stretch/>
        </p:blipFill>
        <p:spPr>
          <a:xfrm>
            <a:off x="571680" y="257184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http://tbn0.google.cn/images?q=tbn:9KtcMLx5Ro1TbM:"/>
          <p:cNvPicPr/>
          <p:nvPr/>
        </p:nvPicPr>
        <p:blipFill>
          <a:blip r:embed="rId4"/>
          <a:stretch/>
        </p:blipFill>
        <p:spPr>
          <a:xfrm>
            <a:off x="6215040" y="2571840"/>
            <a:ext cx="1932120" cy="1441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http://tbn2.google.cn/images?q=tbn:BUu2DjMzDmmPHM:"/>
          <p:cNvPicPr/>
          <p:nvPr/>
        </p:nvPicPr>
        <p:blipFill>
          <a:blip r:embed="rId5"/>
          <a:srcRect l="0" t="6047" r="4592" b="-13750"/>
          <a:stretch/>
        </p:blipFill>
        <p:spPr>
          <a:xfrm>
            <a:off x="4502160" y="4732200"/>
            <a:ext cx="1157400" cy="1406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1989000"/>
            <a:ext cx="194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de a b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198900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a 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4720" y="2060640"/>
            <a:ext cx="2303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the sub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076640"/>
            <a:ext cx="194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a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4149720"/>
            <a:ext cx="194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a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4149720"/>
            <a:ext cx="194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a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6093000"/>
            <a:ext cx="252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/ drive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6093000"/>
            <a:ext cx="129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2233440" cy="1450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3132000" y="2565360"/>
            <a:ext cx="2232000" cy="1487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157800" y="549360"/>
            <a:ext cx="1943280" cy="1457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1692360" y="4724280"/>
            <a:ext cx="1800000" cy="13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72"/>
          <p:cNvSpPr/>
          <p:nvPr/>
        </p:nvSpPr>
        <p:spPr>
          <a:xfrm>
            <a:off x="3492360" y="1197000"/>
            <a:ext cx="3200400" cy="1371600"/>
          </a:xfrm>
          <a:prstGeom prst="cloudCallout">
            <a:avLst>
              <a:gd name="adj1" fmla="val 75597"/>
              <a:gd name="adj2" fmla="val 90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1c06"/>
                </a:solidFill>
                <a:latin typeface="Monotype Corsiva"/>
              </a:rPr>
              <a:t>I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walk </a:t>
            </a:r>
            <a:r>
              <a:rPr b="1" i="1" lang="en-US" sz="3600" spc="-1" strike="noStrike">
                <a:solidFill>
                  <a:srgbClr val="061c06"/>
                </a:solidFill>
                <a:latin typeface="Monotype Corsiva"/>
              </a:rPr>
              <a:t>to school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6"/>
          <p:cNvSpPr/>
          <p:nvPr/>
        </p:nvSpPr>
        <p:spPr>
          <a:xfrm>
            <a:off x="1332000" y="4653000"/>
            <a:ext cx="3786120" cy="1447920"/>
          </a:xfrm>
          <a:prstGeom prst="cloudCallout">
            <a:avLst>
              <a:gd name="adj1" fmla="val -41412"/>
              <a:gd name="adj2" fmla="val -946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I </a:t>
            </a: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ride my bike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to school 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7"/>
          <p:cNvSpPr/>
          <p:nvPr/>
        </p:nvSpPr>
        <p:spPr>
          <a:xfrm>
            <a:off x="611280" y="4046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ow do you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4"/>
          <p:cNvSpPr/>
          <p:nvPr/>
        </p:nvSpPr>
        <p:spPr>
          <a:xfrm>
            <a:off x="3857760" y="2714760"/>
            <a:ext cx="3571920" cy="1600200"/>
          </a:xfrm>
          <a:prstGeom prst="cloudCallout">
            <a:avLst>
              <a:gd name="adj1" fmla="val 58222"/>
              <a:gd name="adj2" fmla="val 745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I </a:t>
            </a: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take a bus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to school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0" descr="http://tbn2.google.cn/images?q=tbn:BUu2DjMzDmmPHM:"/>
          <p:cNvPicPr/>
          <p:nvPr/>
        </p:nvPicPr>
        <p:blipFill>
          <a:blip r:embed="rId2"/>
          <a:srcRect l="1093" t="5116" r="0" b="0"/>
          <a:stretch/>
        </p:blipFill>
        <p:spPr>
          <a:xfrm>
            <a:off x="7537320" y="1335240"/>
            <a:ext cx="1202040" cy="1238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2233800" cy="1451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http://tbn1.google.cn/images?q=tbn:88PZKsXehupo3M:"/>
          <p:cNvPicPr/>
          <p:nvPr/>
        </p:nvPicPr>
        <p:blipFill>
          <a:blip r:embed="rId4"/>
          <a:stretch/>
        </p:blipFill>
        <p:spPr>
          <a:xfrm>
            <a:off x="6659640" y="4941720"/>
            <a:ext cx="200016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2"/>
          <p:cNvSpPr/>
          <p:nvPr/>
        </p:nvSpPr>
        <p:spPr>
          <a:xfrm>
            <a:off x="3924360" y="1052640"/>
            <a:ext cx="4419720" cy="1143000"/>
          </a:xfrm>
          <a:prstGeom prst="wedgeEllipseCallout">
            <a:avLst>
              <a:gd name="adj1" fmla="val -74472"/>
              <a:gd name="adj2" fmla="val 2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I </a:t>
            </a: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take a ship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to  schoo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4"/>
          <p:cNvSpPr/>
          <p:nvPr/>
        </p:nvSpPr>
        <p:spPr>
          <a:xfrm>
            <a:off x="1295280" y="3505320"/>
            <a:ext cx="3733920" cy="1295280"/>
          </a:xfrm>
          <a:prstGeom prst="wedgeEllipseCallout">
            <a:avLst>
              <a:gd name="adj1" fmla="val -41537"/>
              <a:gd name="adj2" fmla="val 60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I </a:t>
            </a: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take a train  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to schoo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5"/>
          <p:cNvSpPr/>
          <p:nvPr/>
        </p:nvSpPr>
        <p:spPr>
          <a:xfrm>
            <a:off x="4495680" y="2590920"/>
            <a:ext cx="4267440" cy="1295280"/>
          </a:xfrm>
          <a:prstGeom prst="wedgeEllipseCallout">
            <a:avLst>
              <a:gd name="adj1" fmla="val 17449"/>
              <a:gd name="adj2" fmla="val 11274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I </a:t>
            </a: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take a subway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to  schoo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1787400" y="285840"/>
            <a:ext cx="52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ow do you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2" descr="http://tbn3.google.cn/images?q=tbn:szuLAK4IwfdWxM:"/>
          <p:cNvPicPr/>
          <p:nvPr/>
        </p:nvPicPr>
        <p:blipFill>
          <a:blip r:embed="rId2"/>
          <a:srcRect l="-4147" t="11853" r="0" b="0"/>
          <a:stretch/>
        </p:blipFill>
        <p:spPr>
          <a:xfrm>
            <a:off x="519120" y="1717560"/>
            <a:ext cx="2314440" cy="1182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55640" y="5013360"/>
            <a:ext cx="2448000" cy="1631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156360" y="465300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5640" y="1989000"/>
            <a:ext cx="194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de a b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55640" y="198900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198900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a 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56360" y="1989000"/>
            <a:ext cx="230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the sub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4149720"/>
            <a:ext cx="194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a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4149720"/>
            <a:ext cx="194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a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00720" y="4149720"/>
            <a:ext cx="194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a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6165720"/>
            <a:ext cx="252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/ drive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0" y="6165720"/>
            <a:ext cx="129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084720" y="3429000"/>
            <a:ext cx="7164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276720" y="4724280"/>
            <a:ext cx="7128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24000" y="429264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3276720" y="6093000"/>
            <a:ext cx="180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4360" y="4143240"/>
            <a:ext cx="148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348000" y="414972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348000" y="1989000"/>
            <a:ext cx="171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227640" y="1989000"/>
            <a:ext cx="2341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sub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6300720" y="4149720"/>
            <a:ext cx="165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324000" y="6021360"/>
            <a:ext cx="244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2" descr="http://tbn3.google.cn/images?q=tbn:szuLAK4IwfdWxM:"/>
          <p:cNvPicPr/>
          <p:nvPr/>
        </p:nvPicPr>
        <p:blipFill>
          <a:blip r:embed="rId2"/>
          <a:srcRect l="959" t="11386" r="0" b="0"/>
          <a:stretch/>
        </p:blipFill>
        <p:spPr>
          <a:xfrm>
            <a:off x="3165480" y="723960"/>
            <a:ext cx="2200320" cy="1190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http://tbn1.google.cn/images?q=tbn:88PZKsXehupo3M:"/>
          <p:cNvPicPr/>
          <p:nvPr/>
        </p:nvPicPr>
        <p:blipFill>
          <a:blip r:embed="rId3"/>
          <a:stretch/>
        </p:blipFill>
        <p:spPr>
          <a:xfrm>
            <a:off x="571680" y="257184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http://tbn0.google.cn/images?q=tbn:9KtcMLx5Ro1TbM:"/>
          <p:cNvPicPr/>
          <p:nvPr/>
        </p:nvPicPr>
        <p:blipFill>
          <a:blip r:embed="rId4"/>
          <a:stretch/>
        </p:blipFill>
        <p:spPr>
          <a:xfrm>
            <a:off x="6215040" y="2571840"/>
            <a:ext cx="1932120" cy="144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http://tbn2.google.cn/images?q=tbn:BUu2DjMzDmmPHM:"/>
          <p:cNvPicPr/>
          <p:nvPr/>
        </p:nvPicPr>
        <p:blipFill>
          <a:blip r:embed="rId5"/>
          <a:srcRect l="250" t="3547" r="0" b="0"/>
          <a:stretch/>
        </p:blipFill>
        <p:spPr>
          <a:xfrm>
            <a:off x="3432240" y="4761000"/>
            <a:ext cx="1211040" cy="1258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2233440" cy="1450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3132000" y="2637000"/>
            <a:ext cx="2232000" cy="1487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157800" y="549360"/>
            <a:ext cx="1943280" cy="1457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539640" y="4724280"/>
            <a:ext cx="1800360" cy="1336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4859280" y="53006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y: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乘坐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某种交通工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30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c92"/>
                </a:solidFill>
                <a:latin typeface="Arial"/>
              </a:rPr>
              <a:t>两种方法表达交通方式</a:t>
            </a:r>
            <a:r>
              <a:rPr b="1" lang="en-US" sz="44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00000" y="2060640"/>
            <a:ext cx="7199280" cy="3600360"/>
            <a:chOff x="900000" y="2060640"/>
            <a:chExt cx="7199280" cy="3600360"/>
          </a:xfrm>
        </p:grpSpPr>
        <p:pic>
          <p:nvPicPr>
            <p:cNvPr id="122" name="Rectangle 3" descr=""/>
            <p:cNvPicPr/>
            <p:nvPr/>
          </p:nvPicPr>
          <p:blipFill>
            <a:blip r:embed="rId2"/>
            <a:stretch/>
          </p:blipFill>
          <p:spPr>
            <a:xfrm>
              <a:off x="900000" y="2060640"/>
              <a:ext cx="719928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905400" y="2063160"/>
              <a:ext cx="7188120" cy="35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ke a bus / by bus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乘公共汽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de a bike / by bike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骑自行车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ke the subway / by subway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乘地铁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ke a car / by car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乘坐小汽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6737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you get to sch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5545440" cy="385740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l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o school </a:t>
            </a:r>
            <a:r>
              <a:rPr b="1" lang="en-US" sz="3200" spc="-1" strike="noStrike">
                <a:solidFill>
                  <a:srgbClr val="092ddf"/>
                </a:solidFill>
                <a:latin typeface="Arial"/>
              </a:rPr>
              <a:t>on f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ide my/a/the bi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o school </a:t>
            </a:r>
            <a:r>
              <a:rPr b="1" lang="en-US" sz="3200" spc="-1" strike="noStrike">
                <a:solidFill>
                  <a:srgbClr val="1057e4"/>
                </a:solidFill>
                <a:latin typeface="Arial"/>
              </a:rPr>
              <a:t>by 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ake a /the bu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o school</a:t>
            </a:r>
            <a:r>
              <a:rPr b="1" lang="en-US" sz="3200" spc="-1" strike="noStrike">
                <a:solidFill>
                  <a:srgbClr val="092ddf"/>
                </a:solidFill>
                <a:latin typeface="Arial"/>
              </a:rPr>
              <a:t> b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8"/>
          <p:cNvSpPr/>
          <p:nvPr/>
        </p:nvSpPr>
        <p:spPr>
          <a:xfrm>
            <a:off x="785880" y="1500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11:48:33Z</dcterms:created>
  <dc:creator/>
  <dc:description/>
  <dc:language>en-US</dc:language>
  <cp:lastModifiedBy/>
  <dcterms:modified xsi:type="dcterms:W3CDTF">2015-06-27T10:44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  <property fmtid="{D5CDD505-2E9C-101B-9397-08002B2CF9AE}" pid="3" name="Version">
    <vt:r8>1</vt:r8>
  </property>
</Properties>
</file>