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13.png" ContentType="image/png"/>
  <Override PartName="/ppt/media/image1.wmf" ContentType="image/x-wmf"/>
  <Override PartName="/ppt/media/image8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392-4828-424A-97DC-9AE86C2C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7618-96C0-4015-9804-CB9BAC88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706D-B749-4EDC-A8CA-045D07A2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201-4F89-4C58-A381-2D854747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3C9-E1C8-4341-9E0E-060DF477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136-E5F2-4F72-A144-358E90A4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45F-420D-4515-ACCF-05710FD3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79D-ECEE-4996-BC4C-5710DE25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2AD-C180-467E-A2E1-8FB1FBDE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332-30CD-4799-AB7C-B2C60BA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06D-4874-48BD-83EB-8476141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F4D-FE1E-40C1-87E0-E7B662C0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08FF-4835-4C53-8415-37AFC52760E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B392-89F4-47E7-A2D6-E5CF87FB43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2" descr=""/>
          <p:cNvPicPr/>
          <p:nvPr/>
        </p:nvPicPr>
        <p:blipFill>
          <a:blip r:embed="rId1"/>
          <a:stretch/>
        </p:blipFill>
        <p:spPr>
          <a:xfrm>
            <a:off x="-12600" y="-11160"/>
            <a:ext cx="916128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4"/>
          <p:cNvSpPr/>
          <p:nvPr/>
        </p:nvSpPr>
        <p:spPr>
          <a:xfrm>
            <a:off x="-93600" y="3860640"/>
            <a:ext cx="9936000" cy="32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-20520" y="1844640"/>
            <a:ext cx="9208800" cy="1886040"/>
          </a:xfrm>
          <a:prstGeom prst="rect">
            <a:avLst/>
          </a:prstGeom>
          <a:solidFill>
            <a:srgbClr val="c0c0c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4"/>
          <p:cNvSpPr/>
          <p:nvPr/>
        </p:nvSpPr>
        <p:spPr>
          <a:xfrm>
            <a:off x="-318960" y="1700280"/>
            <a:ext cx="9936000" cy="1440"/>
          </a:xfrm>
          <a:prstGeom prst="line">
            <a:avLst/>
          </a:prstGeom>
          <a:ln w="12600">
            <a:solidFill>
              <a:srgbClr val="7f7f7f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533600" y="2463840"/>
            <a:ext cx="60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Lesson  20    Li Ming’s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Object 2" descr=""/>
          <p:cNvPicPr/>
          <p:nvPr/>
        </p:nvPicPr>
        <p:blipFill>
          <a:blip r:embed="rId1"/>
          <a:stretch/>
        </p:blipFill>
        <p:spPr>
          <a:xfrm>
            <a:off x="1440" y="-60480"/>
            <a:ext cx="9156960" cy="68677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840" y="126720"/>
            <a:ext cx="399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Let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’s cha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370240" y="1270080"/>
            <a:ext cx="428760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Family,famil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this is my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Student, studen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I am a stu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Teacher, teach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my father is a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Doctor, docto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Arial"/>
              </a:rPr>
              <a:t>my mother is a do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6480" y="-38160"/>
            <a:ext cx="9156600" cy="686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817640" y="195120"/>
            <a:ext cx="5707080" cy="4025880"/>
          </a:xfrm>
          <a:prstGeom prst="rect">
            <a:avLst/>
          </a:prstGeom>
          <a:ln w="0">
            <a:noFill/>
          </a:ln>
        </p:spPr>
      </p:pic>
      <p:sp>
        <p:nvSpPr>
          <p:cNvPr id="84" name="Line 3"/>
          <p:cNvSpPr/>
          <p:nvPr/>
        </p:nvSpPr>
        <p:spPr>
          <a:xfrm flipH="1">
            <a:off x="2076120" y="3789360"/>
            <a:ext cx="1584360" cy="8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 flipH="1" flipV="1">
            <a:off x="5940360" y="3789360"/>
            <a:ext cx="1333440" cy="1006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9640" y="4518000"/>
            <a:ext cx="175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</a:rPr>
              <a:t>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877080" y="451800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</a:rPr>
              <a:t>or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39640" y="1989000"/>
            <a:ext cx="175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</a:rPr>
              <a:t>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24000" y="3149640"/>
            <a:ext cx="175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</a:rPr>
              <a:t>al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723080" y="1989000"/>
            <a:ext cx="13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7524720" y="314964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6000" spc="-1" strike="noStrike">
                <a:solidFill>
                  <a:srgbClr val="800000"/>
                </a:solidFill>
                <a:latin typeface="Arial"/>
              </a:rPr>
              <a:t>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6480" y="-38160"/>
            <a:ext cx="9156600" cy="68691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Look and say. Tall or sh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40040" y="1417680"/>
            <a:ext cx="4937040" cy="38973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4427640" y="53960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690560" y="5373720"/>
            <a:ext cx="17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2" descr=""/>
          <p:cNvPicPr/>
          <p:nvPr/>
        </p:nvPicPr>
        <p:blipFill>
          <a:blip r:embed="rId1"/>
          <a:stretch/>
        </p:blipFill>
        <p:spPr>
          <a:xfrm>
            <a:off x="6480" y="-38160"/>
            <a:ext cx="9156600" cy="6869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195640" y="537372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5068800" y="5373720"/>
            <a:ext cx="172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84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Look and say. T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 or sh</a:t>
            </a:r>
            <a:r>
              <a:rPr b="0" i="1" lang="zh-CN" sz="40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201564-120gz0444069"/>
          <p:cNvPicPr/>
          <p:nvPr/>
        </p:nvPicPr>
        <p:blipFill>
          <a:blip r:embed="rId2"/>
          <a:stretch/>
        </p:blipFill>
        <p:spPr>
          <a:xfrm>
            <a:off x="1547640" y="1413000"/>
            <a:ext cx="2351160" cy="4089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lexbannykh080200240"/>
          <p:cNvPicPr/>
          <p:nvPr/>
        </p:nvPicPr>
        <p:blipFill>
          <a:blip r:embed="rId3"/>
          <a:stretch/>
        </p:blipFill>
        <p:spPr>
          <a:xfrm>
            <a:off x="5068800" y="405288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ject 2" descr=""/>
          <p:cNvPicPr/>
          <p:nvPr/>
        </p:nvPicPr>
        <p:blipFill>
          <a:blip r:embed="rId1"/>
          <a:stretch/>
        </p:blipFill>
        <p:spPr>
          <a:xfrm>
            <a:off x="-33480" y="-3816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1979640" y="355680"/>
            <a:ext cx="4753080" cy="3504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2268360" y="4581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are a happy famil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Object 5" descr=""/>
          <p:cNvPicPr/>
          <p:nvPr/>
        </p:nvPicPr>
        <p:blipFill>
          <a:blip r:embed="rId3"/>
          <a:stretch/>
        </p:blipFill>
        <p:spPr>
          <a:xfrm>
            <a:off x="6480" y="-38160"/>
            <a:ext cx="9156600" cy="6869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84080" y="507960"/>
            <a:ext cx="67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Draw your father. He is t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1943280" y="1454040"/>
            <a:ext cx="5581440" cy="3127320"/>
          </a:xfrm>
          <a:prstGeom prst="flowChartAlternateProcess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1795320" y="522288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99"/>
                </a:solidFill>
                <a:latin typeface="Arial"/>
              </a:rPr>
              <a:t>This is my father. He is t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-33480" y="-3816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1979640" y="355680"/>
            <a:ext cx="475308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68360" y="4581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are a happy family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Object 5" descr=""/>
          <p:cNvPicPr/>
          <p:nvPr/>
        </p:nvPicPr>
        <p:blipFill>
          <a:blip r:embed="rId3"/>
          <a:stretch/>
        </p:blipFill>
        <p:spPr>
          <a:xfrm>
            <a:off x="6480" y="-38160"/>
            <a:ext cx="9156600" cy="686916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784080" y="507960"/>
            <a:ext cx="67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0000"/>
                </a:solidFill>
                <a:latin typeface="Arial"/>
              </a:rPr>
              <a:t>Draw your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mother. She is sh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1539720" y="1454040"/>
            <a:ext cx="5581800" cy="3127320"/>
          </a:xfrm>
          <a:prstGeom prst="flowChartAlternateProcess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92400" y="5130720"/>
            <a:ext cx="698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3399"/>
                </a:solidFill>
                <a:latin typeface="Arial"/>
              </a:rPr>
              <a:t>This is my </a:t>
            </a: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mother. She is sh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6480" y="-50760"/>
            <a:ext cx="9156600" cy="6867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a0023"/>
          <p:cNvPicPr/>
          <p:nvPr/>
        </p:nvPicPr>
        <p:blipFill>
          <a:blip r:embed="rId2"/>
          <a:stretch/>
        </p:blipFill>
        <p:spPr>
          <a:xfrm>
            <a:off x="1143000" y="762120"/>
            <a:ext cx="90324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2590920" y="990720"/>
            <a:ext cx="5867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alk about your fam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6" descr="未标题-1.jpg"/>
          <p:cNvPicPr/>
          <p:nvPr/>
        </p:nvPicPr>
        <p:blipFill>
          <a:blip r:embed="rId3"/>
          <a:stretch/>
        </p:blipFill>
        <p:spPr>
          <a:xfrm>
            <a:off x="2038320" y="1755720"/>
            <a:ext cx="61927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6480" y="-52560"/>
            <a:ext cx="9156600" cy="6869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617400" y="930240"/>
            <a:ext cx="7743960" cy="5643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954000" y="295200"/>
            <a:ext cx="30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Let’s s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ject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5160" cy="68706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73240" y="571320"/>
            <a:ext cx="31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00000" y="2279160"/>
            <a:ext cx="73389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roduce your family to your teacher or your fri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细黑"/>
              </a:rPr>
              <a:t>向你的老师或朋友介绍你的家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Object 2" descr=""/>
          <p:cNvPicPr/>
          <p:nvPr/>
        </p:nvPicPr>
        <p:blipFill>
          <a:blip r:embed="rId1"/>
          <a:stretch/>
        </p:blipFill>
        <p:spPr>
          <a:xfrm>
            <a:off x="-6480" y="0"/>
            <a:ext cx="9155160" cy="6870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2"/>
          <p:cNvSpPr/>
          <p:nvPr/>
        </p:nvSpPr>
        <p:spPr>
          <a:xfrm>
            <a:off x="3708360" y="2104920"/>
            <a:ext cx="419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16d82"/>
                </a:solidFill>
                <a:latin typeface="汉仪细等线简"/>
                <a:ea typeface="汉仪细等线简"/>
              </a:rPr>
              <a:t>谢谢观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1"/>
          <a:stretch/>
        </p:blipFill>
        <p:spPr>
          <a:xfrm>
            <a:off x="0" y="144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313080" y="1268280"/>
            <a:ext cx="51055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ther,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ther, mothe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m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my fami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005622152059715"/>
          <p:cNvPicPr/>
          <p:nvPr/>
        </p:nvPicPr>
        <p:blipFill>
          <a:blip r:embed="rId2"/>
          <a:stretch/>
        </p:blipFill>
        <p:spPr>
          <a:xfrm>
            <a:off x="7350120" y="4797360"/>
            <a:ext cx="1793880" cy="1793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1508040"/>
            <a:ext cx="3313080" cy="28227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62000" y="343080"/>
            <a:ext cx="580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0000"/>
                </a:solidFill>
                <a:latin typeface="Comic Sans MS"/>
              </a:rPr>
              <a:t>Let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i="1" lang="zh-CN" sz="4400" spc="-1" strike="noStrike">
                <a:solidFill>
                  <a:srgbClr val="ff0000"/>
                </a:solidFill>
                <a:latin typeface="Comic Sans MS"/>
              </a:rPr>
              <a:t>s sing a song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ject 2" descr=""/>
          <p:cNvPicPr/>
          <p:nvPr/>
        </p:nvPicPr>
        <p:blipFill>
          <a:blip r:embed="rId1"/>
          <a:stretch/>
        </p:blipFill>
        <p:spPr>
          <a:xfrm>
            <a:off x="6480" y="-2376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ddles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09480" y="1676520"/>
            <a:ext cx="792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She works in a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 teaches(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教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) Engli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a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o is sh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hhan1"/>
          <p:cNvPicPr/>
          <p:nvPr/>
        </p:nvPicPr>
        <p:blipFill>
          <a:blip r:embed="rId2"/>
          <a:stretch/>
        </p:blipFill>
        <p:spPr>
          <a:xfrm>
            <a:off x="609480" y="2565360"/>
            <a:ext cx="2009880" cy="3048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429000" y="5029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he is a 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Comic Sans MS"/>
              </a:rPr>
              <a:t>teacher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19080" y="1584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87200" y="1011240"/>
            <a:ext cx="9531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.  She works in a hospital(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医院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e helps you when you are sick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is sh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838080" y="327672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he is  a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doc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5468760" y="2276640"/>
            <a:ext cx="2624400" cy="3240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838080" y="160200"/>
            <a:ext cx="77724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ddles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bject 2" descr=""/>
          <p:cNvPicPr/>
          <p:nvPr/>
        </p:nvPicPr>
        <p:blipFill>
          <a:blip r:embed="rId1"/>
          <a:stretch/>
        </p:blipFill>
        <p:spPr>
          <a:xfrm>
            <a:off x="-6480" y="-38160"/>
            <a:ext cx="9155160" cy="6869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.  I am 9 years o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go to school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very day(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每天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o am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90720" y="388620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am a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student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5651640" y="1341360"/>
            <a:ext cx="2719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ject 2" descr=""/>
          <p:cNvPicPr/>
          <p:nvPr/>
        </p:nvPicPr>
        <p:blipFill>
          <a:blip r:embed="rId1"/>
          <a:stretch/>
        </p:blipFill>
        <p:spPr>
          <a:xfrm>
            <a:off x="-33480" y="-3816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1042920" y="95400"/>
            <a:ext cx="7129440" cy="4267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971640" y="4653000"/>
            <a:ext cx="72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is my famil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live in Ch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-33480" y="-3816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1403280" y="138240"/>
            <a:ext cx="6408720" cy="4397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2895480" y="4797360"/>
            <a:ext cx="46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’m a st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y name is Li 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-33480" y="-3816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755640" y="260280"/>
            <a:ext cx="5040360" cy="339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683400" y="0"/>
            <a:ext cx="1771560" cy="6597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84360" y="3860640"/>
            <a:ext cx="5040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y father is a t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a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e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is name is Li Da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e is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tall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ject 2" descr=""/>
          <p:cNvPicPr/>
          <p:nvPr/>
        </p:nvPicPr>
        <p:blipFill>
          <a:blip r:embed="rId1"/>
          <a:stretch/>
        </p:blipFill>
        <p:spPr>
          <a:xfrm>
            <a:off x="-33480" y="-52560"/>
            <a:ext cx="9155160" cy="686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900000" y="0"/>
            <a:ext cx="5543640" cy="3987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999120" y="404640"/>
            <a:ext cx="1258920" cy="39531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258920" y="4221000"/>
            <a:ext cx="6337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My mother is a d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t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Her name is Liu Yu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0" i="1" lang="en-US" sz="3600" spc="-1" strike="noStrike">
                <a:solidFill>
                  <a:srgbClr val="ff3300"/>
                </a:solidFill>
                <a:latin typeface="Arial"/>
              </a:rPr>
              <a:t>short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2:36:21Z</dcterms:created>
  <dc:creator/>
  <dc:description/>
  <dc:language>en-US</dc:language>
  <cp:lastModifiedBy>Administrator</cp:lastModifiedBy>
  <dcterms:modified xsi:type="dcterms:W3CDTF">2017-10-25T07:16:1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