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E4C-6B43-4548-B238-FE383339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442-335E-439D-B869-35D6F486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7ED-D501-4295-87A7-6F96CAFF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952-25A0-4AA3-969E-BD902BD3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9EE-4D2D-489A-ACFF-A76F868F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E94-3E30-4623-B8FB-10A72307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6C3-AC4C-4961-95B4-349AF0A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D61-FC26-424D-A6E9-62A50216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628-858A-453A-A6E9-A8C7B9F9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349-8C5D-4D7A-A856-88FD8E04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F7D-33E8-4C5E-A33A-D09E1208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C4A-2B1A-47B5-8DCC-D927E9DA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ccec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8E74-6C24-49AB-A448-FD190B2C9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4"/>
          <p:cNvSpPr/>
          <p:nvPr/>
        </p:nvSpPr>
        <p:spPr>
          <a:xfrm>
            <a:off x="-93600" y="3860640"/>
            <a:ext cx="9936000" cy="32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-20520" y="1844640"/>
            <a:ext cx="9208800" cy="18860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-318960" y="1700280"/>
            <a:ext cx="9936000" cy="14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214720" y="2463840"/>
            <a:ext cx="45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Comic Sans MS"/>
              </a:rPr>
              <a:t>Unit4</a:t>
            </a:r>
            <a:r>
              <a:rPr b="1" i="1" lang="zh-CN" sz="28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i="1" lang="en-US" sz="2800" spc="-1" strike="noStrike">
                <a:solidFill>
                  <a:srgbClr val="ff0066"/>
                </a:solidFill>
                <a:latin typeface="Comic Sans MS"/>
              </a:rPr>
              <a:t>Again, Plea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XB$B]%8C50440P]MQUXTGD6"/>
          <p:cNvPicPr/>
          <p:nvPr/>
        </p:nvPicPr>
        <p:blipFill>
          <a:blip r:embed="rId1"/>
          <a:stretch/>
        </p:blipFill>
        <p:spPr>
          <a:xfrm>
            <a:off x="2987640" y="189000"/>
            <a:ext cx="5113440" cy="6262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24000" y="476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list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>
            <a:hlinkClick r:id="" action="ppaction://hlinkshowjump?jump=previousslide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XB$B]%8C50440P]MQUXTGD6"/>
          <p:cNvPicPr/>
          <p:nvPr/>
        </p:nvPicPr>
        <p:blipFill>
          <a:blip r:embed="rId1"/>
          <a:stretch/>
        </p:blipFill>
        <p:spPr>
          <a:xfrm>
            <a:off x="2987640" y="189000"/>
            <a:ext cx="5113440" cy="6262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2400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XB$B]%8C50440P]MQUXTGD6"/>
          <p:cNvPicPr/>
          <p:nvPr/>
        </p:nvPicPr>
        <p:blipFill>
          <a:blip r:embed="rId1"/>
          <a:stretch/>
        </p:blipFill>
        <p:spPr>
          <a:xfrm>
            <a:off x="2987640" y="189000"/>
            <a:ext cx="5113440" cy="6262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0920" y="549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Group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XB$B]%8C50440P]MQUXTGD6"/>
          <p:cNvPicPr/>
          <p:nvPr/>
        </p:nvPicPr>
        <p:blipFill>
          <a:blip r:embed="rId1"/>
          <a:stretch/>
        </p:blipFill>
        <p:spPr>
          <a:xfrm>
            <a:off x="2987640" y="189000"/>
            <a:ext cx="5113440" cy="6262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50920" y="549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a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8913960" cy="4181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250920" y="476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Read and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258920" y="2708280"/>
            <a:ext cx="1297080" cy="1512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4284720" y="2637000"/>
            <a:ext cx="3600360" cy="165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1187280" y="2637000"/>
            <a:ext cx="3672000" cy="18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>
            <a:off x="5508360" y="2708280"/>
            <a:ext cx="1150920" cy="158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4356000" y="2707920"/>
            <a:ext cx="3311640" cy="180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535960" cy="4514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395280" y="476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isten and circ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7"/>
          <p:cNvSpPr/>
          <p:nvPr/>
        </p:nvSpPr>
        <p:spPr>
          <a:xfrm>
            <a:off x="395280" y="260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Read and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1403280" y="907920"/>
            <a:ext cx="5916600" cy="5721480"/>
            <a:chOff x="1403280" y="907920"/>
            <a:chExt cx="5916600" cy="5721480"/>
          </a:xfrm>
        </p:grpSpPr>
        <p:grpSp>
          <p:nvGrpSpPr>
            <p:cNvPr id="101" name="Group 6"/>
            <p:cNvGrpSpPr/>
            <p:nvPr/>
          </p:nvGrpSpPr>
          <p:grpSpPr>
            <a:xfrm>
              <a:off x="1403280" y="907920"/>
              <a:ext cx="5916600" cy="5721480"/>
              <a:chOff x="1403280" y="907920"/>
              <a:chExt cx="5916600" cy="5721480"/>
            </a:xfrm>
          </p:grpSpPr>
          <p:pic>
            <p:nvPicPr>
              <p:cNvPr id="102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3280" y="907920"/>
                <a:ext cx="5838840" cy="410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3280" y="5229360"/>
                <a:ext cx="5916600" cy="140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Oval 8"/>
            <p:cNvSpPr/>
            <p:nvPr/>
          </p:nvSpPr>
          <p:spPr>
            <a:xfrm>
              <a:off x="5651640" y="1268280"/>
              <a:ext cx="43308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0"/>
          <p:cNvSpPr/>
          <p:nvPr/>
        </p:nvSpPr>
        <p:spPr>
          <a:xfrm>
            <a:off x="1979640" y="4292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724360" y="1268280"/>
            <a:ext cx="2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536400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156360" y="4365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320364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u=1538498098,564730241&amp;fm=23&amp;gp=0"/>
          <p:cNvPicPr/>
          <p:nvPr/>
        </p:nvPicPr>
        <p:blipFill>
          <a:blip r:embed="rId1"/>
          <a:stretch/>
        </p:blipFill>
        <p:spPr>
          <a:xfrm>
            <a:off x="1763640" y="1628640"/>
            <a:ext cx="5553000" cy="3745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763640" y="54936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Introduce your own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9"/>
          <p:cNvSpPr/>
          <p:nvPr/>
        </p:nvSpPr>
        <p:spPr>
          <a:xfrm>
            <a:off x="3419640" y="105264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 father is a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s name is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 is _______(tall/shor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26920" y="1052640"/>
            <a:ext cx="2087640" cy="17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492360" y="3500280"/>
            <a:ext cx="3962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 mother is a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r name is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 is _______(tall/shor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826920" y="3284640"/>
            <a:ext cx="2087640" cy="17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042920" y="537372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teacher   worker   bus driver   doctor 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611280" y="333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raw and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203640" y="148428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 brother is a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s name is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 is ______(tall/shor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187280" y="1557360"/>
            <a:ext cx="165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3640" y="350028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 sister is a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r name is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 is ______(tall/shor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258920" y="3429000"/>
            <a:ext cx="165564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042920" y="53737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teacher   worker   bus driver   doctor 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39640" y="47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Let’s s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755640" y="1141560"/>
            <a:ext cx="784368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80320" cy="5172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826920" y="476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raw and introduce your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2209680" y="777960"/>
            <a:ext cx="4724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noFill/>
                <a:latin typeface="宋体"/>
              </a:rPr>
              <a:t>Homework </a:t>
            </a:r>
            <a:endParaRPr b="0" lang="en-US" sz="1800" spc="-1" strike="noStrike">
              <a:ln w="0">
                <a:noFill/>
              </a:ln>
              <a:noFill/>
              <a:latin typeface="宋体"/>
              <a:ea typeface="宋体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476360" y="312732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roduce your family to your friends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用英语向朋友们介绍你的家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708360" y="210492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6d82"/>
                </a:solidFill>
                <a:latin typeface="汉仪细等线简"/>
                <a:ea typeface="汉仪细等线简"/>
              </a:rPr>
              <a:t>谢谢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003"/>
          <p:cNvPicPr/>
          <p:nvPr/>
        </p:nvPicPr>
        <p:blipFill>
          <a:blip r:embed="rId1"/>
          <a:srcRect l="0" t="-1691" r="5085" b="0"/>
          <a:stretch/>
        </p:blipFill>
        <p:spPr>
          <a:xfrm>
            <a:off x="1828800" y="1295280"/>
            <a:ext cx="4267080" cy="3429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8" name="Text Box 5"/>
          <p:cNvSpPr/>
          <p:nvPr/>
        </p:nvSpPr>
        <p:spPr>
          <a:xfrm>
            <a:off x="684360" y="333360"/>
            <a:ext cx="50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This is Li Ming’s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116000" y="50846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my family. We live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971800" cy="260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333600" cy="269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3209760" cy="2657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9"/>
          <p:cNvGrpSpPr/>
          <p:nvPr/>
        </p:nvGrpSpPr>
        <p:grpSpPr>
          <a:xfrm>
            <a:off x="5003640" y="3573360"/>
            <a:ext cx="3181680" cy="2343240"/>
            <a:chOff x="5003640" y="3573360"/>
            <a:chExt cx="3181680" cy="2343240"/>
          </a:xfrm>
        </p:grpSpPr>
        <p:pic>
          <p:nvPicPr>
            <p:cNvPr id="54" name="Picture 7" descr=""/>
            <p:cNvPicPr/>
            <p:nvPr/>
          </p:nvPicPr>
          <p:blipFill>
            <a:blip r:embed="rId4"/>
            <a:stretch/>
          </p:blipFill>
          <p:spPr>
            <a:xfrm>
              <a:off x="5076720" y="3573360"/>
              <a:ext cx="273528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8" descr=""/>
            <p:cNvPicPr/>
            <p:nvPr/>
          </p:nvPicPr>
          <p:blipFill>
            <a:blip r:embed="rId5"/>
            <a:stretch/>
          </p:blipFill>
          <p:spPr>
            <a:xfrm>
              <a:off x="5003640" y="5516640"/>
              <a:ext cx="3181680" cy="39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002"/>
          <p:cNvPicPr/>
          <p:nvPr/>
        </p:nvPicPr>
        <p:blipFill>
          <a:blip r:embed="rId1"/>
          <a:stretch/>
        </p:blipFill>
        <p:spPr>
          <a:xfrm>
            <a:off x="1835280" y="1268280"/>
            <a:ext cx="4952880" cy="3714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7" name="Text Box 5"/>
          <p:cNvSpPr/>
          <p:nvPr/>
        </p:nvSpPr>
        <p:spPr>
          <a:xfrm>
            <a:off x="324000" y="33336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This is Jenny’s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547640" y="5300640"/>
            <a:ext cx="62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my family. We live in Ca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9"/>
          <p:cNvGrpSpPr/>
          <p:nvPr/>
        </p:nvGrpSpPr>
        <p:grpSpPr>
          <a:xfrm>
            <a:off x="900000" y="189000"/>
            <a:ext cx="2376720" cy="3239640"/>
            <a:chOff x="900000" y="189000"/>
            <a:chExt cx="2376720" cy="3239640"/>
          </a:xfrm>
        </p:grpSpPr>
        <p:pic>
          <p:nvPicPr>
            <p:cNvPr id="60" name="Picture 6" descr="029"/>
            <p:cNvPicPr/>
            <p:nvPr/>
          </p:nvPicPr>
          <p:blipFill>
            <a:blip r:embed="rId1"/>
            <a:srcRect l="17785" t="0" r="26664" b="0"/>
            <a:stretch/>
          </p:blipFill>
          <p:spPr>
            <a:xfrm>
              <a:off x="1221480" y="189000"/>
              <a:ext cx="1557360" cy="21034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61" name="Picture 8" descr=""/>
            <p:cNvPicPr/>
            <p:nvPr/>
          </p:nvPicPr>
          <p:blipFill>
            <a:blip r:embed="rId2"/>
            <a:stretch/>
          </p:blipFill>
          <p:spPr>
            <a:xfrm>
              <a:off x="900000" y="2302200"/>
              <a:ext cx="2376720" cy="112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11"/>
          <p:cNvGrpSpPr/>
          <p:nvPr/>
        </p:nvGrpSpPr>
        <p:grpSpPr>
          <a:xfrm>
            <a:off x="4427640" y="260280"/>
            <a:ext cx="3024000" cy="3024000"/>
            <a:chOff x="4427640" y="260280"/>
            <a:chExt cx="3024000" cy="3024000"/>
          </a:xfrm>
        </p:grpSpPr>
        <p:pic>
          <p:nvPicPr>
            <p:cNvPr id="63" name="Picture 7" descr="030"/>
            <p:cNvPicPr/>
            <p:nvPr/>
          </p:nvPicPr>
          <p:blipFill>
            <a:blip r:embed="rId3"/>
            <a:srcRect l="4767" t="0" r="4767" b="0"/>
            <a:stretch/>
          </p:blipFill>
          <p:spPr>
            <a:xfrm>
              <a:off x="4698000" y="260280"/>
              <a:ext cx="2500560" cy="1992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64" name="Picture 10" descr=""/>
            <p:cNvPicPr/>
            <p:nvPr/>
          </p:nvPicPr>
          <p:blipFill>
            <a:blip r:embed="rId4"/>
            <a:stretch/>
          </p:blipFill>
          <p:spPr>
            <a:xfrm>
              <a:off x="4427640" y="2271600"/>
              <a:ext cx="3024000" cy="101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Group 13"/>
          <p:cNvGrpSpPr/>
          <p:nvPr/>
        </p:nvGrpSpPr>
        <p:grpSpPr>
          <a:xfrm>
            <a:off x="4572000" y="3573360"/>
            <a:ext cx="3238560" cy="3084480"/>
            <a:chOff x="4572000" y="3573360"/>
            <a:chExt cx="3238560" cy="3084480"/>
          </a:xfrm>
        </p:grpSpPr>
        <p:pic>
          <p:nvPicPr>
            <p:cNvPr id="66" name="Picture 8" descr="031"/>
            <p:cNvPicPr/>
            <p:nvPr/>
          </p:nvPicPr>
          <p:blipFill>
            <a:blip r:embed="rId5"/>
            <a:srcRect l="6820" t="0" r="6820" b="0"/>
            <a:stretch/>
          </p:blipFill>
          <p:spPr>
            <a:xfrm>
              <a:off x="4932360" y="3573360"/>
              <a:ext cx="2666880" cy="23162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67" name="Picture 12" descr=""/>
            <p:cNvPicPr/>
            <p:nvPr/>
          </p:nvPicPr>
          <p:blipFill>
            <a:blip r:embed="rId6"/>
            <a:stretch/>
          </p:blipFill>
          <p:spPr>
            <a:xfrm>
              <a:off x="4572000" y="5877000"/>
              <a:ext cx="3238560" cy="78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15"/>
          <p:cNvGrpSpPr/>
          <p:nvPr/>
        </p:nvGrpSpPr>
        <p:grpSpPr>
          <a:xfrm>
            <a:off x="826920" y="3573360"/>
            <a:ext cx="2952720" cy="3095280"/>
            <a:chOff x="826920" y="3573360"/>
            <a:chExt cx="2952720" cy="3095280"/>
          </a:xfrm>
        </p:grpSpPr>
        <p:pic>
          <p:nvPicPr>
            <p:cNvPr id="69" name="Picture 9" descr="032"/>
            <p:cNvPicPr/>
            <p:nvPr/>
          </p:nvPicPr>
          <p:blipFill>
            <a:blip r:embed="rId7"/>
            <a:srcRect l="17953" t="0" r="15385" b="0"/>
            <a:stretch/>
          </p:blipFill>
          <p:spPr>
            <a:xfrm>
              <a:off x="1205640" y="3573360"/>
              <a:ext cx="2001960" cy="229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70" name="Picture 14" descr=""/>
            <p:cNvPicPr/>
            <p:nvPr/>
          </p:nvPicPr>
          <p:blipFill>
            <a:blip r:embed="rId8"/>
            <a:stretch/>
          </p:blipFill>
          <p:spPr>
            <a:xfrm>
              <a:off x="826920" y="5891760"/>
              <a:ext cx="2952720" cy="77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4" descr="033"/>
          <p:cNvPicPr/>
          <p:nvPr/>
        </p:nvPicPr>
        <p:blipFill>
          <a:blip r:embed="rId1"/>
          <a:srcRect l="12198" t="0" r="14639" b="0"/>
          <a:stretch/>
        </p:blipFill>
        <p:spPr>
          <a:xfrm>
            <a:off x="2700360" y="1052640"/>
            <a:ext cx="3232080" cy="3313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2" name="Text Box 5"/>
          <p:cNvSpPr/>
          <p:nvPr/>
        </p:nvSpPr>
        <p:spPr>
          <a:xfrm>
            <a:off x="2282760" y="4859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2"/>
          <a:stretch/>
        </p:blipFill>
        <p:spPr>
          <a:xfrm>
            <a:off x="2556000" y="4581360"/>
            <a:ext cx="3744720" cy="5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496040" cy="3895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826920" y="54936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This is Danny’s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84360" y="40464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isten and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826920" y="170028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 How old is Dan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What does Danny’s father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 Is Danny’s mother a teac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042920" y="2349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e is 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116000" y="3645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e is a police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187280" y="5084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No, she is a bus d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2:35:54Z</dcterms:created>
  <dc:creator/>
  <dc:description/>
  <dc:language>en-US</dc:language>
  <cp:lastModifiedBy>Administrator</cp:lastModifiedBy>
  <dcterms:modified xsi:type="dcterms:W3CDTF">2017-10-25T07:18:2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