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B0A-C4BB-4167-BD71-8D4D5149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EB3-964B-48F6-9E8F-81854798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6B3-68F6-4ED8-A7D5-0CA3F6B9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D02-CBF9-465E-8C77-5A0C8955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641-3D26-4FC3-954A-82073F4B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810-92AF-4390-9B38-44AB5410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9CC-F021-474A-B3CA-7A31A285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25C-ADF3-45C2-8A69-70ED11CA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309-052E-4881-8A04-C5E7F8AD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651-DC64-4166-B381-620A905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980-B63E-4DFB-AAB3-2283F60B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C92-AFC0-48D2-8AD1-CF843091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3C03-313E-440D-AF1E-F89A8CBFC5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4"/>
          <p:cNvSpPr/>
          <p:nvPr/>
        </p:nvSpPr>
        <p:spPr>
          <a:xfrm>
            <a:off x="-93600" y="3860640"/>
            <a:ext cx="9936000" cy="32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-20520" y="1844640"/>
            <a:ext cx="9208800" cy="18860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-318960" y="1700280"/>
            <a:ext cx="9936000" cy="14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742480" y="246384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Unit 2  Again, Pl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094880" cy="3457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09840" y="981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Introduce your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678880" cy="3524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469080" y="549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isten and talk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859120" y="1114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418600" cy="3981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69080" y="549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isten and talk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35960" cy="3514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69080" y="549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isten and talk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74120" cy="3448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826920" y="9079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et’s dub(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配音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70720" cy="402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Text Box 3"/>
          <p:cNvSpPr/>
          <p:nvPr/>
        </p:nvSpPr>
        <p:spPr>
          <a:xfrm>
            <a:off x="826920" y="90792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et’s dub (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配音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858996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Text Box 3"/>
          <p:cNvSpPr/>
          <p:nvPr/>
        </p:nvSpPr>
        <p:spPr>
          <a:xfrm>
            <a:off x="755640" y="836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et’s dub(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配音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609480" y="533520"/>
            <a:ext cx="2819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round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Homework:</a:t>
            </a:r>
            <a:endParaRPr b="1" lang="en-US" sz="1800" spc="1" strike="noStrike">
              <a:ln w="9360">
                <a:solidFill>
                  <a:srgbClr val="993366"/>
                </a:solidFill>
                <a:round/>
              </a:ln>
              <a:solidFill>
                <a:srgbClr val="993366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90720" y="2514600"/>
            <a:ext cx="58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1. Write the 26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90720" y="35053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2. Find more friends and sing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ABC” song to your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708360" y="210492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6d82"/>
                </a:solidFill>
                <a:latin typeface="汉仪细等线简"/>
                <a:ea typeface="汉仪细等线简"/>
              </a:rPr>
              <a:t>谢谢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5" descr=""/>
          <p:cNvPicPr/>
          <p:nvPr/>
        </p:nvPicPr>
        <p:blipFill>
          <a:blip r:embed="rId2"/>
          <a:stretch/>
        </p:blipFill>
        <p:spPr>
          <a:xfrm>
            <a:off x="93600" y="1600200"/>
            <a:ext cx="9042480" cy="4614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650880" y="55728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Let’s s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304920" y="22860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round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Read and write:</a:t>
            </a:r>
            <a:endParaRPr b="1" lang="en-US" sz="1800" spc="1" strike="noStrike">
              <a:ln w="9360">
                <a:solidFill>
                  <a:srgbClr val="993366"/>
                </a:solidFill>
                <a:round/>
              </a:ln>
              <a:solidFill>
                <a:srgbClr val="993366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" name="图片 5" descr="2单元-3.tif"/>
          <p:cNvPicPr/>
          <p:nvPr/>
        </p:nvPicPr>
        <p:blipFill>
          <a:blip r:embed="rId1"/>
          <a:stretch/>
        </p:blipFill>
        <p:spPr>
          <a:xfrm>
            <a:off x="1143000" y="1447920"/>
            <a:ext cx="648828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1065240"/>
            <a:ext cx="9144000" cy="5792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611280" y="26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et’s ch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1970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2133720"/>
            <a:ext cx="9066240" cy="4276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68720" y="765000"/>
            <a:ext cx="32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Write and col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457200" y="609480"/>
            <a:ext cx="76212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Times New Roman"/>
              </a:rPr>
              <a:t>Aa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2895480" y="1676520"/>
            <a:ext cx="9144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Times New Roman"/>
              </a:rPr>
              <a:t>Bb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3886200" y="1066680"/>
            <a:ext cx="68580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3300"/>
                </a:solidFill>
                <a:latin typeface="Times New Roman"/>
              </a:rPr>
              <a:t>Cc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1828800" y="1447920"/>
            <a:ext cx="83808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Times New Roman"/>
              </a:rPr>
              <a:t>Dd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4343400" y="2971800"/>
            <a:ext cx="685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Times New Roman"/>
              </a:rPr>
              <a:t>Ee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3352680" y="2666880"/>
            <a:ext cx="8384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Times New Roman"/>
              </a:rPr>
              <a:t>Ff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5867280" y="1828800"/>
            <a:ext cx="8384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Times New Roman"/>
              </a:rPr>
              <a:t>Gg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WordArt 11"/>
          <p:cNvSpPr txBox="1"/>
          <p:nvPr/>
        </p:nvSpPr>
        <p:spPr>
          <a:xfrm>
            <a:off x="8305920" y="1981080"/>
            <a:ext cx="83808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latin typeface="Times New Roman"/>
              </a:rPr>
              <a:t>Hh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5" name="WordArt 12"/>
          <p:cNvSpPr txBox="1"/>
          <p:nvPr/>
        </p:nvSpPr>
        <p:spPr>
          <a:xfrm>
            <a:off x="609480" y="1828800"/>
            <a:ext cx="685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Times New Roman"/>
              </a:rPr>
              <a:t>Ii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6" name="WordArt 13"/>
          <p:cNvSpPr txBox="1"/>
          <p:nvPr/>
        </p:nvSpPr>
        <p:spPr>
          <a:xfrm>
            <a:off x="4800600" y="685800"/>
            <a:ext cx="685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Times New Roman"/>
              </a:rPr>
              <a:t>Jj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WordArt 14"/>
          <p:cNvSpPr txBox="1"/>
          <p:nvPr/>
        </p:nvSpPr>
        <p:spPr>
          <a:xfrm>
            <a:off x="457200" y="3124080"/>
            <a:ext cx="83808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3300"/>
                </a:solidFill>
                <a:latin typeface="Times New Roman"/>
              </a:rPr>
              <a:t>Kk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WordArt 15"/>
          <p:cNvSpPr txBox="1"/>
          <p:nvPr/>
        </p:nvSpPr>
        <p:spPr>
          <a:xfrm>
            <a:off x="2590920" y="3276720"/>
            <a:ext cx="685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Times New Roman"/>
              </a:rPr>
              <a:t>Ll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69" name="WordArt 16"/>
          <p:cNvSpPr txBox="1"/>
          <p:nvPr/>
        </p:nvSpPr>
        <p:spPr>
          <a:xfrm>
            <a:off x="7086600" y="2362320"/>
            <a:ext cx="9144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Times New Roman"/>
              </a:rPr>
              <a:t>Mm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WordArt 17"/>
          <p:cNvSpPr txBox="1"/>
          <p:nvPr/>
        </p:nvSpPr>
        <p:spPr>
          <a:xfrm>
            <a:off x="7772400" y="380880"/>
            <a:ext cx="106668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Times New Roman"/>
              </a:rPr>
              <a:t>Nn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1" name="WordArt 18"/>
          <p:cNvSpPr txBox="1"/>
          <p:nvPr/>
        </p:nvSpPr>
        <p:spPr>
          <a:xfrm>
            <a:off x="5257800" y="3886200"/>
            <a:ext cx="9907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Times New Roman"/>
              </a:rPr>
              <a:t>Oo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2" name="WordArt 19"/>
          <p:cNvSpPr txBox="1"/>
          <p:nvPr/>
        </p:nvSpPr>
        <p:spPr>
          <a:xfrm>
            <a:off x="6858000" y="1219320"/>
            <a:ext cx="9144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Times New Roman"/>
              </a:rPr>
              <a:t>Pp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WordArt 20"/>
          <p:cNvSpPr txBox="1"/>
          <p:nvPr/>
        </p:nvSpPr>
        <p:spPr>
          <a:xfrm>
            <a:off x="6934320" y="4038480"/>
            <a:ext cx="91440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3300"/>
                </a:solidFill>
                <a:latin typeface="Times New Roman"/>
              </a:rPr>
              <a:t>Qq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WordArt 21"/>
          <p:cNvSpPr txBox="1"/>
          <p:nvPr/>
        </p:nvSpPr>
        <p:spPr>
          <a:xfrm>
            <a:off x="3962520" y="4038480"/>
            <a:ext cx="68580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Times New Roman"/>
              </a:rPr>
              <a:t>R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5" name="WordArt 22"/>
          <p:cNvSpPr txBox="1"/>
          <p:nvPr/>
        </p:nvSpPr>
        <p:spPr>
          <a:xfrm>
            <a:off x="2971800" y="228600"/>
            <a:ext cx="685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Times New Roman"/>
              </a:rPr>
              <a:t>Ss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WordArt 23"/>
          <p:cNvSpPr txBox="1"/>
          <p:nvPr/>
        </p:nvSpPr>
        <p:spPr>
          <a:xfrm>
            <a:off x="5029200" y="2362320"/>
            <a:ext cx="685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Times New Roman"/>
              </a:rPr>
              <a:t>Tt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7" name="WordArt 24"/>
          <p:cNvSpPr txBox="1"/>
          <p:nvPr/>
        </p:nvSpPr>
        <p:spPr>
          <a:xfrm>
            <a:off x="5943600" y="2895480"/>
            <a:ext cx="99072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Times New Roman"/>
              </a:rPr>
              <a:t>Uu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25"/>
          <p:cNvSpPr txBox="1"/>
          <p:nvPr/>
        </p:nvSpPr>
        <p:spPr>
          <a:xfrm>
            <a:off x="1676520" y="228600"/>
            <a:ext cx="685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3300"/>
                </a:solidFill>
                <a:latin typeface="Times New Roman"/>
              </a:rPr>
              <a:t>Vv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WordArt 26"/>
          <p:cNvSpPr txBox="1"/>
          <p:nvPr/>
        </p:nvSpPr>
        <p:spPr>
          <a:xfrm>
            <a:off x="5867280" y="304920"/>
            <a:ext cx="9907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latin typeface="Times New Roman"/>
              </a:rPr>
              <a:t>Ww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27"/>
          <p:cNvSpPr txBox="1"/>
          <p:nvPr/>
        </p:nvSpPr>
        <p:spPr>
          <a:xfrm>
            <a:off x="1600200" y="2590920"/>
            <a:ext cx="685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latin typeface="Times New Roman"/>
              </a:rPr>
              <a:t>Xx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28"/>
          <p:cNvSpPr txBox="1"/>
          <p:nvPr/>
        </p:nvSpPr>
        <p:spPr>
          <a:xfrm>
            <a:off x="1600200" y="3809880"/>
            <a:ext cx="99072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Times New Roman"/>
              </a:rPr>
              <a:t>Y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29"/>
          <p:cNvSpPr txBox="1"/>
          <p:nvPr/>
        </p:nvSpPr>
        <p:spPr>
          <a:xfrm>
            <a:off x="8153280" y="3581280"/>
            <a:ext cx="68580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Times New Roman"/>
              </a:rPr>
              <a:t>Zz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3" name="AutoShape 30"/>
          <p:cNvSpPr/>
          <p:nvPr/>
        </p:nvSpPr>
        <p:spPr>
          <a:xfrm>
            <a:off x="533520" y="5029200"/>
            <a:ext cx="8381880" cy="1447920"/>
          </a:xfrm>
          <a:prstGeom prst="wedgeEllipseCallout">
            <a:avLst>
              <a:gd name="adj1" fmla="val -50796"/>
              <a:gd name="adj2" fmla="val 61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: What’s this?                B: It’s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E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: What colour is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E  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B: It is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gree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323280" y="76500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Listen and cir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694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323280" y="76500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Listen and cir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7694640" cy="3657600"/>
          </a:xfrm>
          <a:prstGeom prst="rect">
            <a:avLst/>
          </a:prstGeom>
          <a:ln w="0">
            <a:noFill/>
          </a:ln>
        </p:spPr>
      </p:pic>
      <p:sp>
        <p:nvSpPr>
          <p:cNvPr id="88" name="Oval 4"/>
          <p:cNvSpPr/>
          <p:nvPr/>
        </p:nvSpPr>
        <p:spPr>
          <a:xfrm>
            <a:off x="6877080" y="2349360"/>
            <a:ext cx="1008000" cy="115092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2124000" y="2276640"/>
            <a:ext cx="1727280" cy="11523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1258920" y="4149720"/>
            <a:ext cx="1009440" cy="107964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5724360" y="3860640"/>
            <a:ext cx="1152720" cy="122400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457200" y="457200"/>
            <a:ext cx="3657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round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Let's sing a song!</a:t>
            </a:r>
            <a:endParaRPr b="1" lang="en-US" sz="1800" spc="1" strike="noStrike">
              <a:ln w="9360">
                <a:solidFill>
                  <a:srgbClr val="993366"/>
                </a:solidFill>
                <a:round/>
              </a:ln>
              <a:solidFill>
                <a:srgbClr val="993366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1089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2:37:25Z</dcterms:created>
  <dc:creator/>
  <dc:description/>
  <dc:language>en-US</dc:language>
  <cp:lastModifiedBy>Administrator</cp:lastModifiedBy>
  <dcterms:modified xsi:type="dcterms:W3CDTF">2017-10-25T06:56:4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