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C35-FA74-4488-8154-96D0EF33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700-C15A-4D9B-ADF8-C73DBFC8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C25-3380-47AD-B480-8E25D965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C2B-AEF0-4B92-BAA9-11DF816C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21C-7406-4913-A235-E3DB1D4D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4A4-C7E5-40D8-BF10-A10B6668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3FC-5050-4052-A7B2-AB6493C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413-8F6D-479F-AE79-9DF531D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76A-17BC-447C-B314-3DC485CB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5D4-57D5-4ED5-8F84-155FEEF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965-617A-4ADA-A36F-9BEE70A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F87-1E70-448B-A9F5-DC4E002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F042-6A95-488D-8D41-FB44B1E17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38400" y="246384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Unit 3 Again, Plea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236000" cy="3011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50920" y="26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lis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79280" y="333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ad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71640" y="15573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5764320" cy="266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4248360" cy="266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4449600" cy="2665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6372360" y="1484280"/>
            <a:ext cx="2520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hat’s the ma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I feel 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, I hurt my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564000" y="155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050920" y="4941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932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5440" y="1662120"/>
            <a:ext cx="8494560" cy="3533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11280" y="47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du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285840" y="1604880"/>
            <a:ext cx="8574120" cy="3648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611280" y="47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du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11280" y="47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du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5360" y="1595520"/>
            <a:ext cx="86947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755640" y="549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Make a dialo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763640" y="1844640"/>
            <a:ext cx="640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I am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happ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How do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: I feel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What’s the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: I hurt m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e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Let’s see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: Ok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116000" y="549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Pair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92360" y="1557360"/>
            <a:ext cx="5905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I am _____. How do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: I feel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What’s the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: I hurt my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Let’s see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: Ok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971640" y="1125360"/>
            <a:ext cx="25192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>
              <a:alpha val="5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08000" y="1341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9640" y="260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ry to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651640" y="3789360"/>
            <a:ext cx="25192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>
              <a:alpha val="5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900000" y="3860640"/>
            <a:ext cx="251964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>
              <a:alpha val="5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3132000" y="2565360"/>
            <a:ext cx="251964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>
              <a:alpha val="5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48360" y="836640"/>
            <a:ext cx="25192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>
              <a:alpha val="5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084720" y="1197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067280" y="2924280"/>
            <a:ext cx="79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763640" y="436572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443640" y="4221000"/>
            <a:ext cx="6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042920" y="549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ch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50920" y="1628640"/>
            <a:ext cx="5185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happ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How do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feel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I feel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’s the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hurt m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e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 see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kay. Okay. Ok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6000" cy="384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95280" y="5229360"/>
            <a:ext cx="1324080" cy="162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2484360" y="5300640"/>
            <a:ext cx="1630440" cy="155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4716360" y="5229360"/>
            <a:ext cx="1378080" cy="16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8"/>
          <a:stretch/>
        </p:blipFill>
        <p:spPr>
          <a:xfrm>
            <a:off x="6877080" y="5300640"/>
            <a:ext cx="1730520" cy="1557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971640" y="47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YLE_MD1YAB[_M52V0{J]XF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5077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55640" y="33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468360" y="476280"/>
            <a:ext cx="41544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0" i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619280" y="2421000"/>
            <a:ext cx="676908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1. Listen to the tape and review Unit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听录音，复习第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2. Make a new dialo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根据课文对话编一段新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68360" y="620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peak and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181620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2"/>
          <p:cNvSpPr/>
          <p:nvPr/>
        </p:nvSpPr>
        <p:spPr>
          <a:xfrm>
            <a:off x="3348000" y="1773360"/>
            <a:ext cx="31687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, left,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, right,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, right,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68360" y="404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ad and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6364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195640" y="39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34000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71636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63528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78000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148360" y="2421000"/>
            <a:ext cx="2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788000" y="4365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6596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44364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65964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55640" y="1190520"/>
            <a:ext cx="7478640" cy="5667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1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isten and col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9640" y="1133640"/>
            <a:ext cx="8221680" cy="572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11280" y="260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isten and col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980480" cy="5707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9640" y="189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ad and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6083280" y="2774880"/>
            <a:ext cx="1225440" cy="2664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1979280" y="1860480"/>
            <a:ext cx="1655640" cy="3240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2168640" y="2370240"/>
            <a:ext cx="1439640" cy="1009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V="1">
            <a:off x="4843440" y="3666960"/>
            <a:ext cx="2592360" cy="503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1936800" y="3916440"/>
            <a:ext cx="1655640" cy="1008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5288040" y="2674800"/>
            <a:ext cx="2087640" cy="2881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632720" cy="3232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250920" y="26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lis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201080" cy="3058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50920" y="26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lis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6:35Z</dcterms:created>
  <dc:creator/>
  <dc:description/>
  <dc:language>en-US</dc:language>
  <cp:lastModifiedBy>Administrator</cp:lastModifiedBy>
  <dcterms:modified xsi:type="dcterms:W3CDTF">2017-10-25T07:03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