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EF5-FB5F-4837-BEEA-938207A8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AB4-6BD6-45E4-8B66-B457BE6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360-AAF3-413E-BE8E-FADD47B1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8BB-48E0-4B8F-8C12-3A4E8EDB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D08-30F1-46D3-878C-EFC8C61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911-5DE4-4147-A86B-5871D402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048-E71C-4559-A62F-49921A19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128-C981-4E3A-B979-CA29349C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844-E243-44A4-B99B-0BF2D6A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DF5-B06F-4594-B7C3-C6C1DE84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CCA-B0AF-45DB-839F-3CC05F4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D00-F264-499D-90E2-B9872E4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E435-6176-472D-83D9-ED56DDD8C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20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image" Target="../media/image17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18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748600" y="246384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Lesson 14   My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162108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3076560" cy="2266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003640" y="1700280"/>
            <a:ext cx="13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925880" y="267660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tamp your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1332000" y="3429000"/>
            <a:ext cx="2879640" cy="286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1476360" y="600120"/>
            <a:ext cx="2765520" cy="2311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4932360" y="4437000"/>
            <a:ext cx="32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wave your 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971640" y="3718080"/>
            <a:ext cx="3708360" cy="240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2050920" y="117360"/>
            <a:ext cx="1573200" cy="2895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03640" y="465300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shake your l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1160" y="385920"/>
            <a:ext cx="38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et’s p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322280" y="1298520"/>
            <a:ext cx="64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imon say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“Clap your hands 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656000" cy="218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2736720" cy="20178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6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69856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7" descr=""/>
          <p:cNvPicPr/>
          <p:nvPr/>
        </p:nvPicPr>
        <p:blipFill>
          <a:blip r:embed="rId4"/>
          <a:stretch/>
        </p:blipFill>
        <p:spPr>
          <a:xfrm>
            <a:off x="4861080" y="1989000"/>
            <a:ext cx="1800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15960" y="34776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isten and nu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466560" y="2205000"/>
            <a:ext cx="1530360" cy="3007800"/>
            <a:chOff x="466560" y="2205000"/>
            <a:chExt cx="1530360" cy="300780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tretch/>
          </p:blipFill>
          <p:spPr>
            <a:xfrm>
              <a:off x="466560" y="2205000"/>
              <a:ext cx="1530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5"/>
            <p:cNvSpPr/>
            <p:nvPr/>
          </p:nvSpPr>
          <p:spPr>
            <a:xfrm>
              <a:off x="587520" y="4631400"/>
              <a:ext cx="117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2411280" y="2205000"/>
            <a:ext cx="1800360" cy="2994840"/>
            <a:chOff x="2411280" y="2205000"/>
            <a:chExt cx="1800360" cy="2994840"/>
          </a:xfrm>
        </p:grpSpPr>
        <p:pic>
          <p:nvPicPr>
            <p:cNvPr id="137" name="Object 7" descr=""/>
            <p:cNvPicPr/>
            <p:nvPr/>
          </p:nvPicPr>
          <p:blipFill>
            <a:blip r:embed="rId2"/>
            <a:stretch/>
          </p:blipFill>
          <p:spPr>
            <a:xfrm>
              <a:off x="2411280" y="2205000"/>
              <a:ext cx="180036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/>
            <p:cNvSpPr/>
            <p:nvPr/>
          </p:nvSpPr>
          <p:spPr>
            <a:xfrm>
              <a:off x="2724120" y="4618440"/>
              <a:ext cx="117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4572000" y="2276640"/>
            <a:ext cx="2160720" cy="2949840"/>
            <a:chOff x="4572000" y="2276640"/>
            <a:chExt cx="2160720" cy="2949840"/>
          </a:xfrm>
        </p:grpSpPr>
        <p:pic>
          <p:nvPicPr>
            <p:cNvPr id="140" name="Picture 10" descr=""/>
            <p:cNvPicPr/>
            <p:nvPr/>
          </p:nvPicPr>
          <p:blipFill>
            <a:blip r:embed="rId3"/>
            <a:stretch/>
          </p:blipFill>
          <p:spPr>
            <a:xfrm>
              <a:off x="4572000" y="2276640"/>
              <a:ext cx="2160720" cy="20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1"/>
            <p:cNvSpPr/>
            <p:nvPr/>
          </p:nvSpPr>
          <p:spPr>
            <a:xfrm>
              <a:off x="5156280" y="4645080"/>
              <a:ext cx="117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6948360" y="2276640"/>
            <a:ext cx="1944720" cy="2910240"/>
            <a:chOff x="6948360" y="2276640"/>
            <a:chExt cx="1944720" cy="2910240"/>
          </a:xfrm>
        </p:grpSpPr>
        <p:pic>
          <p:nvPicPr>
            <p:cNvPr id="143" name="Object 13" descr=""/>
            <p:cNvPicPr/>
            <p:nvPr/>
          </p:nvPicPr>
          <p:blipFill>
            <a:blip r:embed="rId4"/>
            <a:stretch/>
          </p:blipFill>
          <p:spPr>
            <a:xfrm>
              <a:off x="6948360" y="2276640"/>
              <a:ext cx="194472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4"/>
            <p:cNvSpPr/>
            <p:nvPr/>
          </p:nvSpPr>
          <p:spPr>
            <a:xfrm>
              <a:off x="7446960" y="4605480"/>
              <a:ext cx="117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08200" y="282600"/>
            <a:ext cx="57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1081080" cy="949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324000" y="2422440"/>
            <a:ext cx="1152360" cy="90180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5" descr=""/>
          <p:cNvPicPr/>
          <p:nvPr/>
        </p:nvPicPr>
        <p:blipFill>
          <a:blip r:embed="rId3"/>
          <a:stretch/>
        </p:blipFill>
        <p:spPr>
          <a:xfrm>
            <a:off x="324000" y="3718080"/>
            <a:ext cx="1152360" cy="93492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6" descr=""/>
          <p:cNvPicPr/>
          <p:nvPr/>
        </p:nvPicPr>
        <p:blipFill>
          <a:blip r:embed="rId4"/>
          <a:stretch/>
        </p:blipFill>
        <p:spPr>
          <a:xfrm>
            <a:off x="324000" y="5157720"/>
            <a:ext cx="1223640" cy="935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619280" y="1484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you are happy and you know it, clap your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763640" y="3933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you are happy and you know it, wave your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765440" y="263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you are happy and you know it, stamp your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692360" y="5445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f you are happy and you know it, shake your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491240" y="148428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007480" y="263700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856640" y="39337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918560" y="540072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8200" y="270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56280" cy="381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84360" y="5157720"/>
            <a:ext cx="163980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987640" y="5229360"/>
            <a:ext cx="1513080" cy="133344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6" descr=""/>
          <p:cNvPicPr/>
          <p:nvPr/>
        </p:nvPicPr>
        <p:blipFill>
          <a:blip r:embed="rId4"/>
          <a:stretch/>
        </p:blipFill>
        <p:spPr>
          <a:xfrm>
            <a:off x="5148360" y="5229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7" descr=""/>
          <p:cNvPicPr/>
          <p:nvPr/>
        </p:nvPicPr>
        <p:blipFill>
          <a:blip r:embed="rId5"/>
          <a:stretch/>
        </p:blipFill>
        <p:spPr>
          <a:xfrm>
            <a:off x="7020000" y="5302080"/>
            <a:ext cx="1441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222200" y="1700280"/>
            <a:ext cx="79218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Comic Sans MS"/>
              </a:rPr>
              <a:t>We go to school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hand in hand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508720" y="2349360"/>
            <a:ext cx="151128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手拉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截图02"/>
          <p:cNvPicPr/>
          <p:nvPr/>
        </p:nvPicPr>
        <p:blipFill>
          <a:blip r:embed="rId1"/>
          <a:stretch/>
        </p:blipFill>
        <p:spPr>
          <a:xfrm>
            <a:off x="3132000" y="3141720"/>
            <a:ext cx="3367080" cy="2940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67" name="Text Box 5"/>
          <p:cNvSpPr/>
          <p:nvPr/>
        </p:nvSpPr>
        <p:spPr>
          <a:xfrm>
            <a:off x="466560" y="62064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Gu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66560" y="62064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Gu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411280" y="2565360"/>
            <a:ext cx="5042160" cy="1434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I'm a </a:t>
            </a:r>
            <a:r>
              <a:rPr b="1" i="1" lang="zh-CN" sz="4400" spc="-1" strike="noStrike">
                <a:solidFill>
                  <a:srgbClr val="008000"/>
                </a:solidFill>
                <a:latin typeface="Arial"/>
              </a:rPr>
              <a:t>green hand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284720" y="3284640"/>
            <a:ext cx="3024000" cy="581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生手；新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66560" y="62064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Gu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332000" y="2349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a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better than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332000" y="328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臭皮匠赛过一个诸葛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7" descr="1304913747glbz39.jpg"/>
          <p:cNvPicPr/>
          <p:nvPr/>
        </p:nvPicPr>
        <p:blipFill>
          <a:blip r:embed="rId1"/>
          <a:srcRect l="0" t="0" r="0" b="7962"/>
          <a:stretch/>
        </p:blipFill>
        <p:spPr>
          <a:xfrm>
            <a:off x="3708360" y="3789360"/>
            <a:ext cx="194616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th (3).jpg"/>
          <p:cNvPicPr/>
          <p:nvPr/>
        </p:nvPicPr>
        <p:blipFill>
          <a:blip r:embed="rId2"/>
          <a:stretch/>
        </p:blipFill>
        <p:spPr>
          <a:xfrm>
            <a:off x="4788000" y="1197000"/>
            <a:ext cx="1984320" cy="204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难过1"/>
          <p:cNvPicPr/>
          <p:nvPr/>
        </p:nvPicPr>
        <p:blipFill>
          <a:blip r:embed="rId3"/>
          <a:stretch/>
        </p:blipFill>
        <p:spPr>
          <a:xfrm>
            <a:off x="1547640" y="1197000"/>
            <a:ext cx="2232360" cy="2136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8" name="Picture 4" descr="笑的小女孩"/>
          <p:cNvPicPr/>
          <p:nvPr/>
        </p:nvPicPr>
        <p:blipFill>
          <a:blip r:embed="rId4"/>
          <a:stretch/>
        </p:blipFill>
        <p:spPr>
          <a:xfrm>
            <a:off x="1116000" y="3860640"/>
            <a:ext cx="2146320" cy="2668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9" name="Picture 6" descr="UPL5{15%V21VAJX`(XU760B"/>
          <p:cNvPicPr/>
          <p:nvPr/>
        </p:nvPicPr>
        <p:blipFill>
          <a:blip r:embed="rId5"/>
          <a:stretch/>
        </p:blipFill>
        <p:spPr>
          <a:xfrm>
            <a:off x="6138720" y="3860640"/>
            <a:ext cx="2024280" cy="266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611280" y="260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How do you fe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808020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971640" y="69372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Homework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619280" y="2349360"/>
            <a:ext cx="66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Draw your picture and 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bod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Sing the so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happy 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56280" cy="381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7172280" y="836640"/>
            <a:ext cx="1262160" cy="1442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47636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1240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9079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lis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27064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003640" y="2924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a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80000" y="0"/>
            <a:ext cx="3422520" cy="6559560"/>
          </a:xfrm>
          <a:prstGeom prst="rect">
            <a:avLst/>
          </a:prstGeom>
          <a:ln w="0">
            <a:noFill/>
          </a:ln>
        </p:spPr>
      </p:pic>
      <p:sp>
        <p:nvSpPr>
          <p:cNvPr id="60" name="Line 3"/>
          <p:cNvSpPr/>
          <p:nvPr/>
        </p:nvSpPr>
        <p:spPr>
          <a:xfrm>
            <a:off x="7451640" y="3357720"/>
            <a:ext cx="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7308720" y="3500280"/>
            <a:ext cx="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7740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6732360" y="2781360"/>
            <a:ext cx="2160360" cy="934920"/>
            <a:chOff x="6732360" y="2781360"/>
            <a:chExt cx="2160360" cy="934920"/>
          </a:xfrm>
        </p:grpSpPr>
        <p:sp>
          <p:nvSpPr>
            <p:cNvPr id="64" name="Line 7"/>
            <p:cNvSpPr/>
            <p:nvPr/>
          </p:nvSpPr>
          <p:spPr>
            <a:xfrm flipH="1">
              <a:off x="6732360" y="3213000"/>
              <a:ext cx="791640" cy="503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7524360" y="2781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9"/>
          <p:cNvGrpSpPr/>
          <p:nvPr/>
        </p:nvGrpSpPr>
        <p:grpSpPr>
          <a:xfrm>
            <a:off x="2124000" y="93600"/>
            <a:ext cx="2808360" cy="720720"/>
            <a:chOff x="2124000" y="93600"/>
            <a:chExt cx="2808360" cy="720720"/>
          </a:xfrm>
        </p:grpSpPr>
        <p:sp>
          <p:nvSpPr>
            <p:cNvPr id="67" name="Line 10"/>
            <p:cNvSpPr/>
            <p:nvPr/>
          </p:nvSpPr>
          <p:spPr>
            <a:xfrm>
              <a:off x="3276360" y="453960"/>
              <a:ext cx="165600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2124000" y="93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ea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2"/>
          <p:cNvSpPr/>
          <p:nvPr/>
        </p:nvSpPr>
        <p:spPr>
          <a:xfrm>
            <a:off x="224784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3"/>
          <p:cNvGrpSpPr/>
          <p:nvPr/>
        </p:nvGrpSpPr>
        <p:grpSpPr>
          <a:xfrm>
            <a:off x="6227280" y="1557360"/>
            <a:ext cx="1978200" cy="719280"/>
            <a:chOff x="6227280" y="1557360"/>
            <a:chExt cx="1978200" cy="719280"/>
          </a:xfrm>
        </p:grpSpPr>
        <p:sp>
          <p:nvSpPr>
            <p:cNvPr id="71" name="Line 14"/>
            <p:cNvSpPr/>
            <p:nvPr/>
          </p:nvSpPr>
          <p:spPr>
            <a:xfrm flipH="1">
              <a:off x="6227280" y="1916280"/>
              <a:ext cx="108108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7237080" y="1557360"/>
              <a:ext cx="96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ar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6"/>
          <p:cNvSpPr/>
          <p:nvPr/>
        </p:nvSpPr>
        <p:spPr>
          <a:xfrm>
            <a:off x="815184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2843280" y="4076640"/>
            <a:ext cx="2233440" cy="642600"/>
            <a:chOff x="2843280" y="4076640"/>
            <a:chExt cx="2233440" cy="642600"/>
          </a:xfrm>
        </p:grpSpPr>
        <p:sp>
          <p:nvSpPr>
            <p:cNvPr id="75" name="Line 18"/>
            <p:cNvSpPr/>
            <p:nvPr/>
          </p:nvSpPr>
          <p:spPr>
            <a:xfrm flipV="1">
              <a:off x="3635280" y="4365720"/>
              <a:ext cx="1441440" cy="71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2843280" y="407664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0"/>
          <p:cNvGrpSpPr/>
          <p:nvPr/>
        </p:nvGrpSpPr>
        <p:grpSpPr>
          <a:xfrm>
            <a:off x="2556000" y="5734080"/>
            <a:ext cx="2232000" cy="642600"/>
            <a:chOff x="2556000" y="5734080"/>
            <a:chExt cx="2232000" cy="642600"/>
          </a:xfrm>
        </p:grpSpPr>
        <p:sp>
          <p:nvSpPr>
            <p:cNvPr id="78" name="Line 21"/>
            <p:cNvSpPr/>
            <p:nvPr/>
          </p:nvSpPr>
          <p:spPr>
            <a:xfrm>
              <a:off x="3564000" y="6092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2556000" y="57340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Arial"/>
                </a:rPr>
                <a:t>oo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3"/>
          <p:cNvSpPr/>
          <p:nvPr/>
        </p:nvSpPr>
        <p:spPr>
          <a:xfrm>
            <a:off x="311148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1116000" y="2133720"/>
            <a:ext cx="122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5800" y="549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767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10890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5148360" y="4172040"/>
            <a:ext cx="1469880" cy="123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1063800" cy="129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>
            <a:off x="3971880" y="4149720"/>
            <a:ext cx="9111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539640" y="1484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d    foot      hand      leg        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16676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116000" y="2060640"/>
            <a:ext cx="1800360" cy="20890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20800" y="385920"/>
            <a:ext cx="55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Put the letters in 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1116000" y="1341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219640" y="1268280"/>
            <a:ext cx="16574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h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219640" y="2924280"/>
            <a:ext cx="1657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5364000" y="486900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d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04472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116000" y="486900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32000" y="14130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132000" y="30686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276720" y="494172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093080" y="134136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236000" y="292428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164360" y="494172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1476360"/>
            <a:ext cx="9085320" cy="538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6360" y="4046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p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8456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1089000" cy="136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1089000" cy="136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195640" y="2852640"/>
            <a:ext cx="2095200" cy="2762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003640" y="15573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488560" y="13539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671480" y="134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91984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003640" y="400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a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7:18Z</dcterms:created>
  <dc:creator/>
  <dc:description/>
  <dc:language>en-US</dc:language>
  <cp:lastModifiedBy>Administrator</cp:lastModifiedBy>
  <dcterms:modified xsi:type="dcterms:W3CDTF">2017-10-25T07:41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