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jpeg" ContentType="image/jpeg"/>
  <Override PartName="/ppt/media/image2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7C5-CEFE-4C80-BC08-5E05A569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E2B-EECA-4B5B-AC39-A3AD3675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3D932-FD23-45ED-9D87-2F981FAD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5AFB6-03F3-43B1-B169-62AAB6CB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F6E86-EA86-4C33-9C5A-4F168A77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0946E-0281-4481-B9AE-8C3CDF9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7B007-59F7-468D-BF9C-395498C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A36CD-D03C-461E-BBD0-FA48E3F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8C082-2818-42AD-979F-9BED5FC1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FE225-C30A-4676-B5D0-18725F94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7F300-AD58-4A15-90EE-82B40513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7F9E0-61F5-4235-BB7F-70A569C1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349-22D3-4EC1-B90B-09AF10DC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0D8DA-A138-49AF-B7CF-4DEE1923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3130A-1FAE-4CC3-B9D5-F69AE7F7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895EF-7DE8-476A-B7F8-F9C1162F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1958C-7E65-46FE-A7FC-D73F179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934DB-B9B0-43C5-A1B1-47AABCB6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DFCCB-255B-4412-AF99-4665849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F441C-1EB0-4F41-AA75-6119B7CE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767CE-B6FD-4FC9-867A-FB5BB08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26D0B-5605-454F-AB54-E3FC0DC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1B8AA-5F8D-4AB0-94C1-D6A6A1C0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26C-5BD9-4351-A932-5C975368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05646-6327-44D1-A8F7-E8C91D80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B706F-34E0-458A-9FE8-765AEBAA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31BD8-CB1C-42FC-ADB8-8F03C8A2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32951-FAE6-4025-86A7-E47B242F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5DDE2-9504-4248-8F35-A74C818B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82C16-3295-46D4-A3AF-68ADC2CB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EF88E-4B13-4199-9CE7-7FA0A14B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5F46B-BD3E-4F23-AAC5-4A3B7CB2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BDE24-FE64-4710-B0F1-1AFA8C1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C4E8-27A2-4016-9B24-46F79CB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796C-EEF3-460F-90B3-00A3E288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B12B5-7EDD-4CB8-AF6E-9CC88CD6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F591B-19E2-47FC-BD18-9406C5BC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9A622-E9A8-4C98-B7F3-F1883FEF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71A46-79CB-4B09-8F58-7799B4C5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398B6-FC92-4533-999E-89F433DE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32965-D3DF-4A02-A301-BE5A26A9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5C3E0-DC49-4F84-B099-08F89703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EE093-F975-4860-8AC7-21313E7F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2594F-630C-4B81-AB28-5EDB375F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3E19F-B4C2-483B-85F6-7546432D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957-16A0-474F-8376-DBFCC63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BBA3F-54E5-4229-9EF1-8CE6A908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94D27-9053-43D9-8777-43F5F5C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7637C-868C-41CA-AD4D-5C1DD452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AA04A-3037-49C9-BFAE-CD8E28A8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41B32-2F45-4AAD-B16F-6D72C6A1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A9CE-08BD-4E35-B53E-53082550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B8B-9179-4C38-A892-733FB5B0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6483-C87F-464F-BFE6-793A08B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5D27-8F55-4445-B698-693C4EB5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B1A3-8F29-4D4C-B44D-6D7C068B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AD8-8692-41EC-B76D-1094572C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CFD7-464D-4AAC-999B-BB8742A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34C-6FAA-4DF2-A71C-6E2251B8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35D-FA28-4881-937E-85C02071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3D17-B5CB-417B-AEA3-4156CBDA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3D2A-7079-4BB4-A64A-AFB43E89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DE95-C9C7-4E3A-B589-3AEF0775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0A19-B213-41A3-84E9-2FA77834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5941-DE65-4FE7-A84C-4FFD77B9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8D2F-C1B0-40DB-9C53-51DA6B96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5FB4-0529-48BD-92C3-4BDFEDF6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BA5-E40E-497F-827F-17C1B7E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B516-89BA-4B2C-84DE-C26212B1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95A8-0CEA-4EE2-ABC8-31F39260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FAB8-2E91-40D6-9E51-6D66C15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B18E-A02B-4B75-8346-F7281B00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30B4-7843-4FF5-A89B-20568DA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AD2B-0DF6-4F87-B940-50B04669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9359-90E2-468D-BA43-4FB2E849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9BCD-0A19-4E94-AA04-573D1FFF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044D-1A73-4143-B9CE-2EB9600D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D2E39-B1B9-494C-A594-8189A8B4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0EC-7C2D-4594-83BC-EE000CBA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4A98-3FA5-4EE5-A0A5-B27A8BF4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3C00-A5AF-4F9A-94F2-63210FF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E032C-F1BA-4867-9F89-90B367A7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92ADF-4BE3-43BA-B83A-D761052D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41F7-4E1E-4B9C-A1E7-6F3092A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EC92-5FD3-4663-8A58-3DAED8A2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8424-27BE-4025-A2D2-B72EE6D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7805-B6B4-4901-BD58-5CF3CE94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62C9-5C05-4CF6-A608-E9B3B5CB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41F7-0396-47AA-8680-8AC6BA4E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E63-0337-4456-AAB0-58D08951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322F-017E-480C-ADC8-D0A7705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3C6F3-5608-4160-B47A-728745F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8D03-30D1-44EE-87AC-E4F23667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A5CF0-431D-4620-ACD4-BB730399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8EF73-8674-4DC9-9251-0E74A289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5E70-CE0E-4681-ABC3-861D859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1AFEC-D80B-4A22-B71E-E8009181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2980-B52A-492A-9519-25C682E6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804A-99E1-4DF1-AF73-F6308FB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2661-FF36-4A14-89C2-F6E206AA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F93-82B8-4802-8A94-100B1B72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7F7F-CBF1-45A5-945A-75EC9896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97C6A-1C71-45E8-9E30-4F6E83AE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AB8C8-B49C-4528-AFEE-08C5704D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9DE04-E391-463D-B949-AFFAED0E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0AEBD-889F-4365-8FFB-F53B14E4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D602-F380-49BD-839A-99B85ADC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4DAB-DE41-46AA-A747-6329BFCB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F7DB-F360-4F89-A0E6-CCC3EDF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1070-9D61-4B34-89AF-228CE06A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5160-3370-4D3F-B712-7012BD6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A52-75BE-40E2-84A7-10836133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8FCD0-9E7C-4DC9-9FD4-4D9CC7B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E06F-995F-4D9F-ACC5-D1F766E1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297FC-FD92-448E-997C-E90F6953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3B8D9-5485-4A4E-B3B6-6AEC13EF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D6952-1985-4DEB-BA00-BB9C9B12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67898-84D4-414F-83B2-72A855EB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15B8-4549-4E00-B351-FD08B48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1167-CCC7-4F18-AFF2-268B12F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43ABE-8E44-4382-B663-42ECDE3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88892-4080-48E4-A4AB-EFA6C2A5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B6B-15FF-4E41-9A5A-1237752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4A1B-204E-4A40-8F98-F1855D51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3C18B-39EE-44B2-B900-9B92F18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94DB-9641-4489-98C2-B17680EA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5446-7875-4FCB-9AB6-4DB24C79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0C13-0531-4B99-8DA0-801C115D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F462C-720B-4A3C-B300-25340905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9F359-9472-4585-940A-2A3CD4B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3BF86-2126-4DC6-A9C1-5277056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22A2-36E5-452F-8AD5-B989B277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A7DA4-A8FB-488B-BA12-954B305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2EB-003A-4484-87E5-3A9394E1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D98BE-839C-497F-B317-3E20C178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148F3-592C-4F9D-BE5B-CED9E74D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6BB48-5014-4068-88FB-122F632F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A318F-8563-42BD-973D-8B346B39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6EB7F-F167-419D-ABF7-DC88DBD3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12ED2-2224-44C7-A376-0489A22B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15327-F7A9-4F40-A290-14480FFD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A78D3-6C89-4AC5-861E-6EFA237C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7D476-B645-42E5-8344-2C7C9ADB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DA40C-68E2-4C6F-9143-C3F6D34E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3BFC-DC92-437A-A34B-AEBD3677A0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D827-A150-480A-AF79-67DE74BEC97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20F4-1389-442D-9E92-A9D372BF1B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05CA-A240-4674-9A79-4ACF9BCDBCDC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4043-55B8-42D3-9BB2-DF37CDB7F6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665-4997-4DF4-B721-1CA5E042797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9800-4710-4F3F-A5BF-2B5EA73D61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DDC0-5958-416E-A856-F1AFF1C7A78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7D8C-4509-467A-8E56-437CCF8186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B907-0111-49AA-85A3-8E4DC2256B45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D9F0-B9EE-4EBC-B663-49C32B16EC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07EB-8AB0-48D9-9CF9-2E2E464239C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587-2B89-42C3-96FF-E9377F51EE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5B6C-8E1F-46B6-9785-18266CDE1E2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5B2D-BEF8-417B-9B4E-0848DE94AA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54F6-5DE0-4E01-8D77-428C1AE74F2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DE6-CD36-4A2D-94C5-38AF965DD4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8480-4C81-42D4-BF3F-2B75993D256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91C9-0F57-48A8-B7FB-6A808675FA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7BE-1979-46E5-8EA6-2AB7F90AC3C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1797-D889-4DEA-B4A3-58477634E3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9ED1-1763-4705-9CDA-C8A155F6545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FF7D-00DC-4183-8819-D3AF729190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EB81-CDD6-4CEC-AF6D-1DF79D393E3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13"/>
          <p:cNvPicPr/>
          <p:nvPr/>
        </p:nvPicPr>
        <p:blipFill>
          <a:blip r:embed="rId1"/>
          <a:stretch/>
        </p:blipFill>
        <p:spPr>
          <a:xfrm>
            <a:off x="-39600" y="-1440"/>
            <a:ext cx="9144000" cy="6868800"/>
          </a:xfrm>
          <a:prstGeom prst="rect">
            <a:avLst/>
          </a:prstGeom>
          <a:ln w="0">
            <a:noFill/>
          </a:ln>
        </p:spPr>
      </p:pic>
      <p:sp>
        <p:nvSpPr>
          <p:cNvPr id="493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873080" y="24638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Lesson 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3   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Happy Birth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13"/>
          <p:cNvPicPr/>
          <p:nvPr/>
        </p:nvPicPr>
        <p:blipFill>
          <a:blip r:embed="rId1"/>
          <a:stretch/>
        </p:blipFill>
        <p:spPr>
          <a:xfrm>
            <a:off x="0" y="-7920"/>
            <a:ext cx="9145440" cy="68691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Arial"/>
              </a:rPr>
              <a:t>Let’s mat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6795442_131400178174_2"/>
          <p:cNvPicPr/>
          <p:nvPr/>
        </p:nvPicPr>
        <p:blipFill>
          <a:blip r:embed="rId2"/>
          <a:stretch/>
        </p:blipFill>
        <p:spPr>
          <a:xfrm>
            <a:off x="5796000" y="4508640"/>
            <a:ext cx="1584360" cy="1800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9" descr="0320030006"/>
          <p:cNvPicPr/>
          <p:nvPr/>
        </p:nvPicPr>
        <p:blipFill>
          <a:blip r:embed="rId3"/>
          <a:stretch/>
        </p:blipFill>
        <p:spPr>
          <a:xfrm>
            <a:off x="5724360" y="1413000"/>
            <a:ext cx="1729080" cy="1222200"/>
          </a:xfrm>
          <a:prstGeom prst="rect">
            <a:avLst/>
          </a:prstGeom>
          <a:ln w="0">
            <a:noFill/>
          </a:ln>
        </p:spPr>
      </p:pic>
      <p:cxnSp>
        <p:nvCxnSpPr>
          <p:cNvPr id="537" name="AutoShape 10"/>
          <p:cNvCxnSpPr>
            <a:stCxn id="534" idx="0"/>
            <a:endCxn id="534" idx="0"/>
          </p:cNvCxnSpPr>
          <p:nvPr/>
        </p:nvCxnSpPr>
        <p:spPr>
          <a:xfrm>
            <a:off x="457164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Rectangle 11"/>
          <p:cNvSpPr/>
          <p:nvPr/>
        </p:nvSpPr>
        <p:spPr>
          <a:xfrm>
            <a:off x="1566720" y="28447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900000" y="1916280"/>
            <a:ext cx="309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birthday ca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birthday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birthday gift</a:t>
            </a:r>
            <a:r>
              <a:rPr b="0" i="1" lang="zh-CN" sz="36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4"/>
          <p:cNvSpPr/>
          <p:nvPr/>
        </p:nvSpPr>
        <p:spPr>
          <a:xfrm>
            <a:off x="3708360" y="2349360"/>
            <a:ext cx="208764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5"/>
          <p:cNvSpPr/>
          <p:nvPr/>
        </p:nvSpPr>
        <p:spPr>
          <a:xfrm flipV="1">
            <a:off x="3851280" y="2204640"/>
            <a:ext cx="1728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 flipV="1">
            <a:off x="3708360" y="3933720"/>
            <a:ext cx="2016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3" descr=""/>
          <p:cNvPicPr/>
          <p:nvPr/>
        </p:nvPicPr>
        <p:blipFill>
          <a:blip r:embed="rId4"/>
          <a:stretch/>
        </p:blipFill>
        <p:spPr>
          <a:xfrm>
            <a:off x="5796000" y="2844720"/>
            <a:ext cx="17794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13"/>
          <p:cNvPicPr/>
          <p:nvPr/>
        </p:nvPicPr>
        <p:blipFill>
          <a:blip r:embed="rId1"/>
          <a:stretch/>
        </p:blipFill>
        <p:spPr>
          <a:xfrm>
            <a:off x="-12600" y="1584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u=356454613,3650358177&amp;gp=-6"/>
          <p:cNvPicPr/>
          <p:nvPr/>
        </p:nvPicPr>
        <p:blipFill>
          <a:blip r:embed="rId2"/>
          <a:stretch/>
        </p:blipFill>
        <p:spPr>
          <a:xfrm>
            <a:off x="231840" y="1943280"/>
            <a:ext cx="2409840" cy="300816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3062160" y="1943280"/>
            <a:ext cx="2100240" cy="3008160"/>
            <a:chOff x="3062160" y="1943280"/>
            <a:chExt cx="2100240" cy="3008160"/>
          </a:xfrm>
        </p:grpSpPr>
        <p:pic>
          <p:nvPicPr>
            <p:cNvPr id="547" name="Picture 5" descr="20071020_1f865d41f4ffd10220f1xbK2zJ58rDVe"/>
            <p:cNvPicPr/>
            <p:nvPr/>
          </p:nvPicPr>
          <p:blipFill>
            <a:blip r:embed="rId3"/>
            <a:stretch/>
          </p:blipFill>
          <p:spPr>
            <a:xfrm>
              <a:off x="3062160" y="1943280"/>
              <a:ext cx="2100240" cy="29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Oval 6"/>
            <p:cNvSpPr/>
            <p:nvPr/>
          </p:nvSpPr>
          <p:spPr>
            <a:xfrm>
              <a:off x="3062160" y="2087280"/>
              <a:ext cx="34632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7"/>
            <p:cNvSpPr/>
            <p:nvPr/>
          </p:nvSpPr>
          <p:spPr>
            <a:xfrm>
              <a:off x="4677480" y="2039400"/>
              <a:ext cx="34632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8"/>
            <p:cNvSpPr/>
            <p:nvPr/>
          </p:nvSpPr>
          <p:spPr>
            <a:xfrm>
              <a:off x="3062160" y="4393440"/>
              <a:ext cx="34632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9"/>
            <p:cNvSpPr/>
            <p:nvPr/>
          </p:nvSpPr>
          <p:spPr>
            <a:xfrm>
              <a:off x="4770000" y="4393440"/>
              <a:ext cx="345960" cy="55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Picture 10" descr=""/>
          <p:cNvPicPr/>
          <p:nvPr/>
        </p:nvPicPr>
        <p:blipFill>
          <a:blip r:embed="rId4"/>
          <a:stretch/>
        </p:blipFill>
        <p:spPr>
          <a:xfrm>
            <a:off x="5641920" y="1943280"/>
            <a:ext cx="3135240" cy="30081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11"/>
          <p:cNvSpPr/>
          <p:nvPr/>
        </p:nvSpPr>
        <p:spPr>
          <a:xfrm>
            <a:off x="593640" y="369720"/>
            <a:ext cx="45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7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1650960" y="500040"/>
            <a:ext cx="5676840" cy="452124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4"/>
          <p:cNvSpPr/>
          <p:nvPr/>
        </p:nvSpPr>
        <p:spPr>
          <a:xfrm>
            <a:off x="1882800" y="5459400"/>
            <a:ext cx="54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Jenny’s birthday par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Object 3"/>
          <p:cNvGraphicFramePr/>
          <p:nvPr/>
        </p:nvGraphicFramePr>
        <p:xfrm>
          <a:off x="1430280" y="1324080"/>
          <a:ext cx="5761080" cy="41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0280" y="1324080"/>
                    <a:ext cx="5761080" cy="41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4"/>
          <p:cNvSpPr/>
          <p:nvPr/>
        </p:nvSpPr>
        <p:spPr>
          <a:xfrm>
            <a:off x="401760" y="316080"/>
            <a:ext cx="38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isten and read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U04_L23_01_party_S002.mp3" descr="U04_L23_01_party_S002"/>
          <p:cNvPicPr/>
          <p:nvPr/>
        </p:nvPicPr>
        <p:blipFill>
          <a:blip r:embed="rId4"/>
          <a:stretch/>
        </p:blipFill>
        <p:spPr>
          <a:xfrm>
            <a:off x="2530440" y="49356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2" name="U04_L23_01_party_S001.mp3" descr="U04_L23_01_party_S001"/>
          <p:cNvPicPr/>
          <p:nvPr/>
        </p:nvPicPr>
        <p:blipFill>
          <a:blip r:embed="rId5"/>
          <a:stretch/>
        </p:blipFill>
        <p:spPr>
          <a:xfrm>
            <a:off x="2225520" y="1768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568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2064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13"/>
          <p:cNvPicPr/>
          <p:nvPr/>
        </p:nvPicPr>
        <p:blipFill>
          <a:blip r:embed="rId1"/>
          <a:srcRect l="0" t="0" r="0" b="28957"/>
          <a:stretch/>
        </p:blipFill>
        <p:spPr>
          <a:xfrm>
            <a:off x="-11160" y="-144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401760" y="316080"/>
            <a:ext cx="38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isten and 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4"/>
          <p:cNvGraphicFramePr/>
          <p:nvPr/>
        </p:nvGraphicFramePr>
        <p:xfrm>
          <a:off x="1471680" y="1330200"/>
          <a:ext cx="5568840" cy="465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1680" y="1330200"/>
                    <a:ext cx="556884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U04_L23_01_party_S003.mp3" descr="U04_L23_01_party_S003"/>
          <p:cNvPicPr/>
          <p:nvPr/>
        </p:nvPicPr>
        <p:blipFill>
          <a:blip r:embed="rId4"/>
          <a:stretch/>
        </p:blipFill>
        <p:spPr>
          <a:xfrm>
            <a:off x="2184480" y="1781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8" name="U04_L23_01_party_S004.mp3" descr="U04_L23_01_party_S004"/>
          <p:cNvPicPr/>
          <p:nvPr/>
        </p:nvPicPr>
        <p:blipFill>
          <a:blip r:embed="rId5"/>
          <a:stretch/>
        </p:blipFill>
        <p:spPr>
          <a:xfrm>
            <a:off x="2489040" y="5307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672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116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13"/>
          <p:cNvPicPr/>
          <p:nvPr/>
        </p:nvPicPr>
        <p:blipFill>
          <a:blip r:embed="rId1"/>
          <a:stretch/>
        </p:blipFill>
        <p:spPr>
          <a:xfrm>
            <a:off x="-12600" y="-15840"/>
            <a:ext cx="9144000" cy="686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0" name="Object 3"/>
          <p:cNvGraphicFramePr/>
          <p:nvPr/>
        </p:nvGraphicFramePr>
        <p:xfrm>
          <a:off x="2206800" y="2163600"/>
          <a:ext cx="4317840" cy="381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6800" y="2163600"/>
                    <a:ext cx="4317840" cy="38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2" name="Picture 4" descr="13"/>
          <p:cNvPicPr/>
          <p:nvPr/>
        </p:nvPicPr>
        <p:blipFill>
          <a:blip r:embed="rId4"/>
          <a:stretch/>
        </p:blipFill>
        <p:spPr>
          <a:xfrm>
            <a:off x="111240" y="122400"/>
            <a:ext cx="9147240" cy="68720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401760" y="316080"/>
            <a:ext cx="38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isten and 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6"/>
          <p:cNvGraphicFramePr/>
          <p:nvPr/>
        </p:nvGraphicFramePr>
        <p:xfrm>
          <a:off x="1515960" y="1017720"/>
          <a:ext cx="5705640" cy="496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5960" y="1017720"/>
                    <a:ext cx="570564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6" name="U04_L23_01_party_S005.mp3" descr="U04_L23_01_party_S005"/>
          <p:cNvPicPr/>
          <p:nvPr/>
        </p:nvPicPr>
        <p:blipFill>
          <a:blip r:embed="rId7"/>
          <a:stretch/>
        </p:blipFill>
        <p:spPr>
          <a:xfrm>
            <a:off x="1901880" y="18590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45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13"/>
          <p:cNvPicPr/>
          <p:nvPr/>
        </p:nvPicPr>
        <p:blipFill>
          <a:blip r:embed="rId1"/>
          <a:stretch/>
        </p:blipFill>
        <p:spPr>
          <a:xfrm>
            <a:off x="-12600" y="-15840"/>
            <a:ext cx="9144000" cy="686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8" name="Object 3"/>
          <p:cNvGraphicFramePr/>
          <p:nvPr/>
        </p:nvGraphicFramePr>
        <p:xfrm>
          <a:off x="2206800" y="2163600"/>
          <a:ext cx="4317840" cy="381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6800" y="2163600"/>
                    <a:ext cx="4317840" cy="38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0" name="Picture 4" descr="13"/>
          <p:cNvPicPr/>
          <p:nvPr/>
        </p:nvPicPr>
        <p:blipFill>
          <a:blip r:embed="rId4"/>
          <a:stretch/>
        </p:blipFill>
        <p:spPr>
          <a:xfrm>
            <a:off x="111240" y="122400"/>
            <a:ext cx="9147240" cy="68720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401760" y="316080"/>
            <a:ext cx="38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isten and read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6"/>
          <p:cNvGraphicFramePr/>
          <p:nvPr/>
        </p:nvGraphicFramePr>
        <p:xfrm>
          <a:off x="2208240" y="1523880"/>
          <a:ext cx="5438880" cy="445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8240" y="1523880"/>
                    <a:ext cx="54388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4" name="U04_L23_01_party_S006.mp3" descr="U04_L23_01_party_S006"/>
          <p:cNvPicPr/>
          <p:nvPr/>
        </p:nvPicPr>
        <p:blipFill>
          <a:blip r:embed="rId7"/>
          <a:stretch/>
        </p:blipFill>
        <p:spPr>
          <a:xfrm>
            <a:off x="2540160" y="216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U04_L23_01_party_S007.mp3" descr="U04_L23_01_party_S007"/>
          <p:cNvPicPr/>
          <p:nvPr/>
        </p:nvPicPr>
        <p:blipFill>
          <a:blip r:embed="rId8"/>
          <a:stretch/>
        </p:blipFill>
        <p:spPr>
          <a:xfrm>
            <a:off x="4981680" y="2468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934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534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3"/>
          <p:cNvPicPr/>
          <p:nvPr/>
        </p:nvPicPr>
        <p:blipFill>
          <a:blip r:embed="rId1"/>
          <a:stretch/>
        </p:blipFill>
        <p:spPr>
          <a:xfrm>
            <a:off x="-12600" y="-15840"/>
            <a:ext cx="9144000" cy="6869160"/>
          </a:xfrm>
          <a:prstGeom prst="rect">
            <a:avLst/>
          </a:prstGeom>
          <a:ln w="0">
            <a:noFill/>
          </a:ln>
        </p:spPr>
      </p:pic>
      <p:grpSp>
        <p:nvGrpSpPr>
          <p:cNvPr id="587" name="Group 3"/>
          <p:cNvGrpSpPr/>
          <p:nvPr/>
        </p:nvGrpSpPr>
        <p:grpSpPr>
          <a:xfrm>
            <a:off x="717480" y="996840"/>
            <a:ext cx="7567560" cy="5856120"/>
            <a:chOff x="717480" y="996840"/>
            <a:chExt cx="7567560" cy="5856120"/>
          </a:xfrm>
        </p:grpSpPr>
        <p:graphicFrame>
          <p:nvGraphicFramePr>
            <p:cNvPr id="588" name="Object 4"/>
            <p:cNvGraphicFramePr/>
            <p:nvPr/>
          </p:nvGraphicFramePr>
          <p:xfrm>
            <a:off x="732240" y="996840"/>
            <a:ext cx="7552800" cy="3174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9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2240" y="996840"/>
                      <a:ext cx="7552800" cy="31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Object 5"/>
            <p:cNvGraphicFramePr/>
            <p:nvPr/>
          </p:nvGraphicFramePr>
          <p:xfrm>
            <a:off x="717480" y="3869280"/>
            <a:ext cx="7567560" cy="2983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91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7480" y="3869280"/>
                      <a:ext cx="7567560" cy="298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2" name="Text Box 6"/>
          <p:cNvSpPr/>
          <p:nvPr/>
        </p:nvSpPr>
        <p:spPr>
          <a:xfrm>
            <a:off x="539640" y="-15840"/>
            <a:ext cx="50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Practice in grou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3"/>
          <p:cNvGrpSpPr/>
          <p:nvPr/>
        </p:nvGrpSpPr>
        <p:grpSpPr>
          <a:xfrm>
            <a:off x="1197000" y="1422360"/>
            <a:ext cx="6832440" cy="5444640"/>
            <a:chOff x="1197000" y="1422360"/>
            <a:chExt cx="6832440" cy="5444640"/>
          </a:xfrm>
        </p:grpSpPr>
        <p:graphicFrame>
          <p:nvGraphicFramePr>
            <p:cNvPr id="595" name="Object 4"/>
            <p:cNvGraphicFramePr/>
            <p:nvPr/>
          </p:nvGraphicFramePr>
          <p:xfrm>
            <a:off x="1197000" y="4118760"/>
            <a:ext cx="6831720" cy="2748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6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97000" y="4118760"/>
                      <a:ext cx="6831720" cy="274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Object 5"/>
            <p:cNvGraphicFramePr/>
            <p:nvPr/>
          </p:nvGraphicFramePr>
          <p:xfrm>
            <a:off x="1197000" y="1422360"/>
            <a:ext cx="6832440" cy="269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98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7000" y="1422360"/>
                      <a:ext cx="6832440" cy="269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9" name="Text Box 6"/>
          <p:cNvSpPr/>
          <p:nvPr/>
        </p:nvSpPr>
        <p:spPr>
          <a:xfrm>
            <a:off x="608040" y="352440"/>
            <a:ext cx="30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et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’s du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"/>
          <p:cNvPicPr/>
          <p:nvPr/>
        </p:nvPicPr>
        <p:blipFill>
          <a:blip r:embed="rId2"/>
          <a:stretch/>
        </p:blipFill>
        <p:spPr>
          <a:xfrm>
            <a:off x="0" y="549360"/>
            <a:ext cx="8704440" cy="1257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3"/>
          <a:stretch/>
        </p:blipFill>
        <p:spPr>
          <a:xfrm>
            <a:off x="0" y="1773360"/>
            <a:ext cx="8640720" cy="1295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"/>
          <p:cNvPicPr/>
          <p:nvPr/>
        </p:nvPicPr>
        <p:blipFill>
          <a:blip r:embed="rId4"/>
          <a:stretch/>
        </p:blipFill>
        <p:spPr>
          <a:xfrm>
            <a:off x="0" y="3068640"/>
            <a:ext cx="8745480" cy="1224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"/>
          <p:cNvPicPr/>
          <p:nvPr/>
        </p:nvPicPr>
        <p:blipFill>
          <a:blip r:embed="rId5"/>
          <a:stretch/>
        </p:blipFill>
        <p:spPr>
          <a:xfrm>
            <a:off x="0" y="4221000"/>
            <a:ext cx="8745480" cy="13528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"/>
          <p:cNvPicPr/>
          <p:nvPr/>
        </p:nvPicPr>
        <p:blipFill>
          <a:blip r:embed="rId6"/>
          <a:stretch/>
        </p:blipFill>
        <p:spPr>
          <a:xfrm>
            <a:off x="0" y="5553000"/>
            <a:ext cx="8713800" cy="13050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8"/>
          <p:cNvSpPr/>
          <p:nvPr/>
        </p:nvSpPr>
        <p:spPr>
          <a:xfrm>
            <a:off x="182520" y="63360"/>
            <a:ext cx="47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Letters and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13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6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Object 3"/>
          <p:cNvGraphicFramePr/>
          <p:nvPr/>
        </p:nvGraphicFramePr>
        <p:xfrm>
          <a:off x="414360" y="1455840"/>
          <a:ext cx="8373960" cy="46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360" y="1455840"/>
                    <a:ext cx="837396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4"/>
          <p:cNvSpPr/>
          <p:nvPr/>
        </p:nvSpPr>
        <p:spPr>
          <a:xfrm>
            <a:off x="606600" y="303120"/>
            <a:ext cx="23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13"/>
          <p:cNvPicPr/>
          <p:nvPr/>
        </p:nvPicPr>
        <p:blipFill>
          <a:blip r:embed="rId1"/>
          <a:stretch/>
        </p:blipFill>
        <p:spPr>
          <a:xfrm>
            <a:off x="-174600" y="-57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116676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2"/>
          <a:stretch/>
        </p:blipFill>
        <p:spPr>
          <a:xfrm>
            <a:off x="453960" y="1136520"/>
            <a:ext cx="8075520" cy="46515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5"/>
          <p:cNvSpPr/>
          <p:nvPr/>
        </p:nvSpPr>
        <p:spPr>
          <a:xfrm>
            <a:off x="415800" y="200160"/>
            <a:ext cx="35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et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’s s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sp>
        <p:nvSpPr>
          <p:cNvPr id="612" name="WordArt 3"/>
          <p:cNvSpPr txBox="1"/>
          <p:nvPr/>
        </p:nvSpPr>
        <p:spPr>
          <a:xfrm>
            <a:off x="676440" y="-1440"/>
            <a:ext cx="3644640" cy="26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99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Homework</a:t>
            </a:r>
            <a:endParaRPr b="0" i="1" lang="en-US" sz="1800" spc="1" strike="noStrike">
              <a:ln w="9360">
                <a:solidFill>
                  <a:srgbClr val="99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717560" y="2174760"/>
            <a:ext cx="6534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1. Listen and read Lesson 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2. Give gifts to the classmates whose birth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is today and practic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给今天过生日的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赠送礼物并练习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A: Happy birthday!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Here’s 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zh-CN" sz="2400" spc="-1" strike="noStrike">
                <a:solidFill>
                  <a:srgbClr val="0000ff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5229720" y="4965840"/>
            <a:ext cx="10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13"/>
          <p:cNvPicPr/>
          <p:nvPr/>
        </p:nvPicPr>
        <p:blipFill>
          <a:blip r:embed="rId1"/>
          <a:stretch/>
        </p:blipFill>
        <p:spPr>
          <a:xfrm>
            <a:off x="-11160" y="1440"/>
            <a:ext cx="9142560" cy="69058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快乐"/>
          <p:cNvPicPr/>
          <p:nvPr/>
        </p:nvPicPr>
        <p:blipFill>
          <a:blip r:embed="rId2"/>
          <a:stretch/>
        </p:blipFill>
        <p:spPr>
          <a:xfrm>
            <a:off x="1692360" y="2349360"/>
            <a:ext cx="3241440" cy="32418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4"/>
          <p:cNvSpPr/>
          <p:nvPr/>
        </p:nvSpPr>
        <p:spPr>
          <a:xfrm>
            <a:off x="750960" y="530280"/>
            <a:ext cx="41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Happy or s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13"/>
          <p:cNvPicPr/>
          <p:nvPr/>
        </p:nvPicPr>
        <p:blipFill>
          <a:blip r:embed="rId1"/>
          <a:stretch/>
        </p:blipFill>
        <p:spPr>
          <a:xfrm>
            <a:off x="-46080" y="22320"/>
            <a:ext cx="9144000" cy="6872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"/>
          <p:cNvPicPr/>
          <p:nvPr/>
        </p:nvPicPr>
        <p:blipFill>
          <a:blip r:embed="rId2"/>
          <a:stretch/>
        </p:blipFill>
        <p:spPr>
          <a:xfrm>
            <a:off x="2144880" y="847800"/>
            <a:ext cx="4387680" cy="4417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4"/>
          <p:cNvSpPr/>
          <p:nvPr/>
        </p:nvSpPr>
        <p:spPr>
          <a:xfrm>
            <a:off x="442800" y="20628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Let’s lea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4968720" y="565164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2795760" y="565164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thd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13"/>
          <p:cNvPicPr/>
          <p:nvPr/>
        </p:nvPicPr>
        <p:blipFill>
          <a:blip r:embed="rId1"/>
          <a:stretch/>
        </p:blipFill>
        <p:spPr>
          <a:xfrm>
            <a:off x="-25560" y="-1440"/>
            <a:ext cx="9144000" cy="686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0" name="Object 3"/>
          <p:cNvGraphicFramePr/>
          <p:nvPr/>
        </p:nvGraphicFramePr>
        <p:xfrm>
          <a:off x="696960" y="954000"/>
          <a:ext cx="4348080" cy="419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6960" y="954000"/>
                    <a:ext cx="4348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4"/>
          <p:cNvSpPr/>
          <p:nvPr/>
        </p:nvSpPr>
        <p:spPr>
          <a:xfrm>
            <a:off x="5896080" y="2352600"/>
            <a:ext cx="18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473040" y="1488960"/>
            <a:ext cx="4865760" cy="41148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4"/>
          <p:cNvSpPr/>
          <p:nvPr/>
        </p:nvSpPr>
        <p:spPr>
          <a:xfrm>
            <a:off x="5896080" y="2352600"/>
            <a:ext cx="18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1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0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3"/>
          <p:cNvSpPr/>
          <p:nvPr/>
        </p:nvSpPr>
        <p:spPr>
          <a:xfrm>
            <a:off x="1649520" y="5219640"/>
            <a:ext cx="55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936800" y="5234040"/>
            <a:ext cx="455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thd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ay 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"/>
          <p:cNvGrpSpPr/>
          <p:nvPr/>
        </p:nvGrpSpPr>
        <p:grpSpPr>
          <a:xfrm>
            <a:off x="1087560" y="352440"/>
            <a:ext cx="6553080" cy="4511160"/>
            <a:chOff x="1087560" y="352440"/>
            <a:chExt cx="6553080" cy="4511160"/>
          </a:xfrm>
        </p:grpSpPr>
        <p:pic>
          <p:nvPicPr>
            <p:cNvPr id="520" name="Picture 6" descr="20071020_1f865d41f4ffd10220f1xbK2zJ58rDVe"/>
            <p:cNvPicPr/>
            <p:nvPr/>
          </p:nvPicPr>
          <p:blipFill>
            <a:blip r:embed="rId2"/>
            <a:stretch/>
          </p:blipFill>
          <p:spPr>
            <a:xfrm>
              <a:off x="1087560" y="352440"/>
              <a:ext cx="6553080" cy="43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Oval 7"/>
            <p:cNvSpPr/>
            <p:nvPr/>
          </p:nvSpPr>
          <p:spPr>
            <a:xfrm>
              <a:off x="1087560" y="568440"/>
              <a:ext cx="108108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6127920" y="496800"/>
              <a:ext cx="108108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087560" y="4026960"/>
              <a:ext cx="108108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6416640" y="4026960"/>
              <a:ext cx="1079640" cy="83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13"/>
          <p:cNvPicPr/>
          <p:nvPr/>
        </p:nvPicPr>
        <p:blipFill>
          <a:blip r:embed="rId1"/>
          <a:stretch/>
        </p:blipFill>
        <p:spPr>
          <a:xfrm>
            <a:off x="-12600" y="-144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u=356454613,3650358177&amp;gp=-6"/>
          <p:cNvPicPr/>
          <p:nvPr/>
        </p:nvPicPr>
        <p:blipFill>
          <a:blip r:embed="rId2"/>
          <a:stretch/>
        </p:blipFill>
        <p:spPr>
          <a:xfrm>
            <a:off x="2444760" y="708120"/>
            <a:ext cx="3965400" cy="40910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4"/>
          <p:cNvSpPr/>
          <p:nvPr/>
        </p:nvSpPr>
        <p:spPr>
          <a:xfrm>
            <a:off x="2938320" y="5302080"/>
            <a:ext cx="27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13"/>
          <p:cNvPicPr/>
          <p:nvPr/>
        </p:nvPicPr>
        <p:blipFill>
          <a:blip r:embed="rId1"/>
          <a:stretch/>
        </p:blipFill>
        <p:spPr>
          <a:xfrm>
            <a:off x="-66600" y="-69840"/>
            <a:ext cx="9142200" cy="6867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1908000" y="649440"/>
            <a:ext cx="5185080" cy="36604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4"/>
          <p:cNvSpPr/>
          <p:nvPr/>
        </p:nvSpPr>
        <p:spPr>
          <a:xfrm>
            <a:off x="4643280" y="4941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i="1" lang="zh-CN" sz="40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2556000" y="494172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thd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6:12Z</dcterms:created>
  <dc:creator>曹惜惜</dc:creator>
  <dc:description/>
  <cp:keywords/>
  <dc:language>en-US</dc:language>
  <cp:lastModifiedBy>曹惜惜</cp:lastModifiedBy>
  <dcterms:modified xsi:type="dcterms:W3CDTF">2017-10-29T12:49:49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