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4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83C66-FA52-47BA-91F0-7A1E9D7243B8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7148F-2859-46E8-B068-71C5980E225A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0ECD9-7052-4756-B1C9-6F26CC7CC12E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57D4E-5002-4B58-8B9C-988EFE858490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34897-1675-4BDB-A6DD-AD879E1E902F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82485-99C3-4E63-8515-65182EB10817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044-DABB-4576-B6C0-055E6C9D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7B2-60E4-4931-9BF1-750CC9F2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813-AD52-47A0-8A07-11055785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896-12DD-46A2-BA3C-4E9137DE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1ED-294A-4A95-B203-1F6585CE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B7B-6502-4EA1-A8F7-869F301C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A6D-AB68-41C3-B1A0-AC04AAA2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C9B-F17A-4E35-898A-9E323CEA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C94-CA43-4BF0-AB79-214152E3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527-6291-451D-9515-C850B00E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9C4-11E3-41C3-A589-1D683C6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35B-79DA-40B4-A86C-D490453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58DDC-D009-4CD7-8568-ECAB6548BC51}" type="slidenum">
              <a:rPr b="0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1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52" name="AutoShape 508" descr=""/>
            <p:cNvPicPr/>
            <p:nvPr/>
          </p:nvPicPr>
          <p:blipFill>
            <a:blip r:embed="rId3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863640" y="1430280"/>
            <a:ext cx="73580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School and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三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6560" y="3549960"/>
            <a:ext cx="1019160" cy="1103400"/>
          </a:xfrm>
          <a:prstGeom prst="rect">
            <a:avLst/>
          </a:prstGeom>
          <a:ln w="0">
            <a:noFill/>
          </a:ln>
        </p:spPr>
      </p:pic>
      <p:grpSp>
        <p:nvGrpSpPr>
          <p:cNvPr id="60" name="AutoShape 508"/>
          <p:cNvGrpSpPr/>
          <p:nvPr/>
        </p:nvGrpSpPr>
        <p:grpSpPr>
          <a:xfrm>
            <a:off x="457200" y="1023840"/>
            <a:ext cx="8236080" cy="2243160"/>
            <a:chOff x="457200" y="1023840"/>
            <a:chExt cx="8236080" cy="2243160"/>
          </a:xfrm>
        </p:grpSpPr>
        <p:pic>
          <p:nvPicPr>
            <p:cNvPr id="61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102384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4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5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8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71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4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7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80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文本框 22" descr=""/>
          <p:cNvPicPr/>
          <p:nvPr/>
        </p:nvPicPr>
        <p:blipFill>
          <a:blip r:embed="rId15"/>
          <a:stretch/>
        </p:blipFill>
        <p:spPr>
          <a:xfrm>
            <a:off x="3054240" y="4516560"/>
            <a:ext cx="5083200" cy="13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960560" y="160488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this!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 book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本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1030320" y="17510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996840" y="289404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892160" y="2793960"/>
            <a:ext cx="7061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应词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当我们询问距离自己较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物品是什么时，可以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that?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回答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般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/an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品名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that?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n appl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是一个苹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6" descr=""/>
          <p:cNvPicPr/>
          <p:nvPr/>
        </p:nvPicPr>
        <p:blipFill>
          <a:blip r:embed="rId1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17"/>
          <p:cNvSpPr/>
          <p:nvPr/>
        </p:nvSpPr>
        <p:spPr>
          <a:xfrm>
            <a:off x="2643120" y="1720800"/>
            <a:ext cx="26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学校有关的词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2152800" y="326088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 school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一所学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2"/>
          <p:cNvGrpSpPr/>
          <p:nvPr/>
        </p:nvGrpSpPr>
        <p:grpSpPr>
          <a:xfrm>
            <a:off x="49320" y="1755720"/>
            <a:ext cx="2544480" cy="666720"/>
            <a:chOff x="49320" y="1755720"/>
            <a:chExt cx="2544480" cy="666720"/>
          </a:xfrm>
        </p:grpSpPr>
        <p:sp>
          <p:nvSpPr>
            <p:cNvPr id="173" name="圆角矩形 18"/>
            <p:cNvSpPr/>
            <p:nvPr/>
          </p:nvSpPr>
          <p:spPr>
            <a:xfrm>
              <a:off x="730080" y="1827000"/>
              <a:ext cx="17794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ecadc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9"/>
            <p:cNvSpPr/>
            <p:nvPr/>
          </p:nvSpPr>
          <p:spPr>
            <a:xfrm>
              <a:off x="1073880" y="1812600"/>
              <a:ext cx="15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9320" y="1755720"/>
              <a:ext cx="108792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矩形 3"/>
          <p:cNvSpPr/>
          <p:nvPr/>
        </p:nvSpPr>
        <p:spPr>
          <a:xfrm>
            <a:off x="1177920" y="337968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2" descr=""/>
          <p:cNvPicPr/>
          <p:nvPr/>
        </p:nvPicPr>
        <p:blipFill>
          <a:blip r:embed="rId3"/>
          <a:stretch/>
        </p:blipFill>
        <p:spPr>
          <a:xfrm>
            <a:off x="5418000" y="172080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17"/>
          <p:cNvSpPr/>
          <p:nvPr/>
        </p:nvSpPr>
        <p:spPr>
          <a:xfrm>
            <a:off x="2541600" y="2546280"/>
            <a:ext cx="51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skuːl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、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学校；上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2743200" y="395280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1177920" y="4105440"/>
            <a:ext cx="15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2181240" y="4656240"/>
            <a:ext cx="38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to school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去上学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school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学校，在上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"/>
          <p:cNvSpPr/>
          <p:nvPr/>
        </p:nvSpPr>
        <p:spPr>
          <a:xfrm>
            <a:off x="1222200" y="478296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4" descr=""/>
          <p:cNvPicPr/>
          <p:nvPr/>
        </p:nvPicPr>
        <p:blipFill>
          <a:blip r:embed="rId4"/>
          <a:stretch/>
        </p:blipFill>
        <p:spPr>
          <a:xfrm>
            <a:off x="1079640" y="2557440"/>
            <a:ext cx="1485720" cy="71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5" descr=""/>
          <p:cNvPicPr/>
          <p:nvPr/>
        </p:nvPicPr>
        <p:blipFill>
          <a:blip r:embed="rId5"/>
          <a:stretch/>
        </p:blipFill>
        <p:spPr>
          <a:xfrm>
            <a:off x="6222960" y="3632040"/>
            <a:ext cx="2844720" cy="19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17"/>
          <p:cNvSpPr/>
          <p:nvPr/>
        </p:nvSpPr>
        <p:spPr>
          <a:xfrm>
            <a:off x="2532240" y="1389240"/>
            <a:ext cx="269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bʊ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2279520" y="1994040"/>
            <a:ext cx="42721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book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我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289160" y="215424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"/>
          <p:cNvSpPr/>
          <p:nvPr/>
        </p:nvSpPr>
        <p:spPr>
          <a:xfrm>
            <a:off x="1593720" y="3916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整体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3090960" y="3821040"/>
            <a:ext cx="523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几个字母看做一个整体来记。如：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ok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再加上不同的字母，可组成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的单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ok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ok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厨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2919240" y="2643120"/>
            <a:ext cx="11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290600" y="2770200"/>
            <a:ext cx="17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形式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2197080" y="3178080"/>
            <a:ext cx="40672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 English boo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本英语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1266840" y="33465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0" descr=""/>
          <p:cNvPicPr/>
          <p:nvPr/>
        </p:nvPicPr>
        <p:blipFill>
          <a:blip r:embed="rId2"/>
          <a:stretch/>
        </p:blipFill>
        <p:spPr>
          <a:xfrm>
            <a:off x="1306440" y="1349280"/>
            <a:ext cx="1266840" cy="743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"/>
          <p:cNvPicPr/>
          <p:nvPr/>
        </p:nvPicPr>
        <p:blipFill>
          <a:blip r:embed="rId3"/>
          <a:stretch/>
        </p:blipFill>
        <p:spPr>
          <a:xfrm>
            <a:off x="6526080" y="2100240"/>
            <a:ext cx="175284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7"/>
          <p:cNvSpPr/>
          <p:nvPr/>
        </p:nvSpPr>
        <p:spPr>
          <a:xfrm>
            <a:off x="2400480" y="1906560"/>
            <a:ext cx="30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tʃe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椅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2131920" y="2703600"/>
            <a:ext cx="42721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 chai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一把椅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1141560" y="28638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2021040" y="3681360"/>
            <a:ext cx="43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i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发音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eə(r)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1130400" y="378144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2336760" y="4475160"/>
            <a:ext cx="2838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i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头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1104840" y="46432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8" descr=""/>
          <p:cNvPicPr/>
          <p:nvPr/>
        </p:nvPicPr>
        <p:blipFill>
          <a:blip r:embed="rId2"/>
          <a:stretch/>
        </p:blipFill>
        <p:spPr>
          <a:xfrm>
            <a:off x="1225440" y="1879560"/>
            <a:ext cx="119088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9" descr=""/>
          <p:cNvPicPr/>
          <p:nvPr/>
        </p:nvPicPr>
        <p:blipFill>
          <a:blip r:embed="rId3"/>
          <a:stretch/>
        </p:blipFill>
        <p:spPr>
          <a:xfrm>
            <a:off x="6205680" y="2298600"/>
            <a:ext cx="2417760" cy="30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2685960" y="431496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ai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ai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排排坐，供人休息贡献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2"/>
          <p:cNvGrpSpPr/>
          <p:nvPr/>
        </p:nvGrpSpPr>
        <p:grpSpPr>
          <a:xfrm>
            <a:off x="811080" y="4433760"/>
            <a:ext cx="2403720" cy="459720"/>
            <a:chOff x="811080" y="4433760"/>
            <a:chExt cx="2403720" cy="459720"/>
          </a:xfrm>
        </p:grpSpPr>
        <p:sp>
          <p:nvSpPr>
            <p:cNvPr id="216" name="TextBox 10"/>
            <p:cNvSpPr/>
            <p:nvPr/>
          </p:nvSpPr>
          <p:spPr>
            <a:xfrm>
              <a:off x="1126800" y="443376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811080" y="4481280"/>
              <a:ext cx="323640" cy="36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矩形 1"/>
          <p:cNvSpPr/>
          <p:nvPr/>
        </p:nvSpPr>
        <p:spPr>
          <a:xfrm>
            <a:off x="1211760" y="2143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709720" y="2048040"/>
            <a:ext cx="563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加法记忆法是给一个单词加上一个单词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者加上一个或几个字母组成一个新单词记忆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+ hair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头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= chair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椅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7"/>
          <p:cNvSpPr/>
          <p:nvPr/>
        </p:nvSpPr>
        <p:spPr>
          <a:xfrm>
            <a:off x="2330280" y="218916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des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书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2152800" y="3290760"/>
            <a:ext cx="39193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 desk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一张书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1228680" y="345132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2762280" y="4348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1228680" y="446724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7" descr=""/>
          <p:cNvPicPr/>
          <p:nvPr/>
        </p:nvPicPr>
        <p:blipFill>
          <a:blip r:embed="rId2"/>
          <a:stretch/>
        </p:blipFill>
        <p:spPr>
          <a:xfrm>
            <a:off x="1266840" y="2171880"/>
            <a:ext cx="1114560" cy="742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"/>
          <p:cNvPicPr/>
          <p:nvPr/>
        </p:nvPicPr>
        <p:blipFill>
          <a:blip r:embed="rId3"/>
          <a:stretch/>
        </p:blipFill>
        <p:spPr>
          <a:xfrm>
            <a:off x="5870520" y="2505240"/>
            <a:ext cx="2968560" cy="20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8"/>
          <p:cNvSpPr/>
          <p:nvPr/>
        </p:nvSpPr>
        <p:spPr>
          <a:xfrm>
            <a:off x="557280" y="1550880"/>
            <a:ext cx="8294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是小画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同学们画一所学校，画出学校中的设施和物品，涂上好看的颜色。然后贴在教室里，同学们可以用本课所学的单词和句型互相介绍自己所画的学校，是不是很有趣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14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3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Box 1"/>
          <p:cNvSpPr/>
          <p:nvPr/>
        </p:nvSpPr>
        <p:spPr>
          <a:xfrm>
            <a:off x="1482840" y="1244520"/>
            <a:ext cx="314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It’s a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It’s a 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Loo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Oh, it’s a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文本框 8" descr=""/>
          <p:cNvPicPr/>
          <p:nvPr/>
        </p:nvPicPr>
        <p:blipFill>
          <a:blip r:embed="rId3"/>
          <a:stretch/>
        </p:blipFill>
        <p:spPr>
          <a:xfrm>
            <a:off x="2743200" y="96840"/>
            <a:ext cx="4286160" cy="774720"/>
          </a:xfrm>
          <a:prstGeom prst="rect">
            <a:avLst/>
          </a:prstGeom>
          <a:ln w="0">
            <a:noFill/>
          </a:ln>
        </p:spPr>
      </p:pic>
      <p:sp>
        <p:nvSpPr>
          <p:cNvPr id="237" name="矩形 9"/>
          <p:cNvSpPr/>
          <p:nvPr/>
        </p:nvSpPr>
        <p:spPr>
          <a:xfrm>
            <a:off x="4586400" y="1512720"/>
            <a:ext cx="3959280" cy="246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3" descr="C:\Users\john\Desktop\1.png"/>
          <p:cNvPicPr/>
          <p:nvPr/>
        </p:nvPicPr>
        <p:blipFill>
          <a:blip r:embed="rId4"/>
          <a:stretch/>
        </p:blipFill>
        <p:spPr>
          <a:xfrm>
            <a:off x="4780080" y="1638360"/>
            <a:ext cx="36068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752400" y="1322280"/>
            <a:ext cx="77644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情景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见到了你的好朋友，你想知道她的近况，你 应该说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ow are you?                 B. What’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I’m fine,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别人表示感谢时，你应该说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多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anks.          B. Thank you.           C. I’m 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4"/>
          <p:cNvGrpSpPr/>
          <p:nvPr/>
        </p:nvGrpSpPr>
        <p:grpSpPr>
          <a:xfrm>
            <a:off x="7090920" y="1184400"/>
            <a:ext cx="1710360" cy="368280"/>
            <a:chOff x="7090920" y="1184400"/>
            <a:chExt cx="1710360" cy="368280"/>
          </a:xfrm>
        </p:grpSpPr>
        <p:sp>
          <p:nvSpPr>
            <p:cNvPr id="242" name="矩形 15"/>
            <p:cNvSpPr/>
            <p:nvPr/>
          </p:nvSpPr>
          <p:spPr>
            <a:xfrm>
              <a:off x="7090920" y="120168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7"/>
            <p:cNvSpPr/>
            <p:nvPr/>
          </p:nvSpPr>
          <p:spPr>
            <a:xfrm>
              <a:off x="7147800" y="1184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"/>
          <p:cNvSpPr/>
          <p:nvPr/>
        </p:nvSpPr>
        <p:spPr>
          <a:xfrm>
            <a:off x="1436760" y="28544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5716440" y="482292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>
            <a:off x="892080" y="1593720"/>
            <a:ext cx="6759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我会选。看图，选择合适的句子补全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 schoolb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2260440" y="4044960"/>
            <a:ext cx="3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2395440" y="258768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24"/>
          <p:cNvGrpSpPr/>
          <p:nvPr/>
        </p:nvGrpSpPr>
        <p:grpSpPr>
          <a:xfrm>
            <a:off x="7090920" y="1168560"/>
            <a:ext cx="1710360" cy="368280"/>
            <a:chOff x="7090920" y="1168560"/>
            <a:chExt cx="1710360" cy="368280"/>
          </a:xfrm>
        </p:grpSpPr>
        <p:sp>
          <p:nvSpPr>
            <p:cNvPr id="251" name="矩形 25"/>
            <p:cNvSpPr/>
            <p:nvPr/>
          </p:nvSpPr>
          <p:spPr>
            <a:xfrm>
              <a:off x="7090920" y="118584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17"/>
            <p:cNvSpPr/>
            <p:nvPr/>
          </p:nvSpPr>
          <p:spPr>
            <a:xfrm>
              <a:off x="7147800" y="1168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3" name=""/>
          <p:cNvGraphicFramePr/>
          <p:nvPr/>
        </p:nvGraphicFramePr>
        <p:xfrm>
          <a:off x="6170760" y="3273480"/>
          <a:ext cx="2604960" cy="1189080"/>
        </p:xfrm>
        <a:graphic>
          <a:graphicData uri="http://schemas.openxmlformats.org/drawingml/2006/table">
            <a:tbl>
              <a:tblPr/>
              <a:tblGrid>
                <a:gridCol w="26049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What’s thi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What’s tha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4" name="Picture 24" descr=""/>
          <p:cNvPicPr/>
          <p:nvPr/>
        </p:nvPicPr>
        <p:blipFill>
          <a:blip r:embed="rId2"/>
          <a:stretch/>
        </p:blipFill>
        <p:spPr>
          <a:xfrm>
            <a:off x="3973680" y="2324160"/>
            <a:ext cx="2020680" cy="145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5" descr=""/>
          <p:cNvPicPr/>
          <p:nvPr/>
        </p:nvPicPr>
        <p:blipFill>
          <a:blip r:embed="rId3"/>
          <a:stretch/>
        </p:blipFill>
        <p:spPr>
          <a:xfrm>
            <a:off x="3673440" y="3902040"/>
            <a:ext cx="1752480" cy="14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2716200" y="4595760"/>
            <a:ext cx="37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lo! How are you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https://ss0.bdstatic.com/94oJfD_bAAcT8t7mm9GUKT-xh_/timg?image&amp;quality=100&amp;size=b4000_4000&amp;sec=1496827933&amp;di=6652deae840349f6b7e40775107f75ef&amp;src=http://www.skqkw.cn/d/2012/05/30/201205301418147295.jpg"/>
          <p:cNvPicPr/>
          <p:nvPr/>
        </p:nvPicPr>
        <p:blipFill>
          <a:blip r:embed="rId2"/>
          <a:stretch/>
        </p:blipFill>
        <p:spPr>
          <a:xfrm>
            <a:off x="1486080" y="1925640"/>
            <a:ext cx="276192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https://timgsa.baidu.com/timg?image&amp;quality=80&amp;size=b9999_10000&amp;sec=1496838330618&amp;di=9fb6bd3096bdcbf73e1f66155da0650b&amp;imgtype=0&amp;src=http%3A%2F%2Fwww.e2say.com%2Fblog%2Fzb_users%2Fupload%2F2015%2F7%2F2015070759984925.jpg"/>
          <p:cNvPicPr/>
          <p:nvPr/>
        </p:nvPicPr>
        <p:blipFill>
          <a:blip r:embed="rId3"/>
          <a:stretch/>
        </p:blipFill>
        <p:spPr>
          <a:xfrm>
            <a:off x="5046840" y="1925640"/>
            <a:ext cx="276192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3"/>
          <p:cNvSpPr/>
          <p:nvPr/>
        </p:nvSpPr>
        <p:spPr>
          <a:xfrm>
            <a:off x="930240" y="116208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1800360" y="2898720"/>
            <a:ext cx="60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ks  school  book  chair 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are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4"/>
          <p:cNvSpPr/>
          <p:nvPr/>
        </p:nvSpPr>
        <p:spPr>
          <a:xfrm>
            <a:off x="-730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6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64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矩形 12" descr=""/>
          <p:cNvPicPr/>
          <p:nvPr/>
        </p:nvPicPr>
        <p:blipFill>
          <a:blip r:embed="rId4"/>
          <a:stretch/>
        </p:blipFill>
        <p:spPr>
          <a:xfrm>
            <a:off x="1925640" y="1328760"/>
            <a:ext cx="5292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文本框 25" descr=""/>
          <p:cNvPicPr/>
          <p:nvPr/>
        </p:nvPicPr>
        <p:blipFill>
          <a:blip r:embed="rId1"/>
          <a:stretch/>
        </p:blipFill>
        <p:spPr>
          <a:xfrm>
            <a:off x="2389320" y="60480"/>
            <a:ext cx="4992480" cy="830160"/>
          </a:xfrm>
          <a:prstGeom prst="rect">
            <a:avLst/>
          </a:prstGeom>
          <a:ln w="0">
            <a:noFill/>
          </a:ln>
        </p:spPr>
      </p:pic>
      <p:grpSp>
        <p:nvGrpSpPr>
          <p:cNvPr id="89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9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2"/>
          <p:cNvSpPr/>
          <p:nvPr/>
        </p:nvSpPr>
        <p:spPr>
          <a:xfrm>
            <a:off x="1019160" y="2244600"/>
            <a:ext cx="43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How are you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I’m fine. 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 Ming: I’m fine,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5338800" y="2111400"/>
            <a:ext cx="3036960" cy="231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C:\Users\john\Desktop\1.png"/>
          <p:cNvPicPr/>
          <p:nvPr/>
        </p:nvPicPr>
        <p:blipFill>
          <a:blip r:embed="rId4"/>
          <a:stretch/>
        </p:blipFill>
        <p:spPr>
          <a:xfrm>
            <a:off x="5487840" y="2306520"/>
            <a:ext cx="2727360" cy="19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7"/>
          <p:cNvSpPr/>
          <p:nvPr/>
        </p:nvSpPr>
        <p:spPr>
          <a:xfrm>
            <a:off x="2973240" y="1469880"/>
            <a:ext cx="41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w are you?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你好吗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"/>
          <p:cNvGrpSpPr/>
          <p:nvPr/>
        </p:nvGrpSpPr>
        <p:grpSpPr>
          <a:xfrm>
            <a:off x="298440" y="1519200"/>
            <a:ext cx="2549520" cy="666720"/>
            <a:chOff x="298440" y="1519200"/>
            <a:chExt cx="2549520" cy="666720"/>
          </a:xfrm>
        </p:grpSpPr>
        <p:sp>
          <p:nvSpPr>
            <p:cNvPr id="100" name="圆角矩形 18"/>
            <p:cNvSpPr/>
            <p:nvPr/>
          </p:nvSpPr>
          <p:spPr>
            <a:xfrm>
              <a:off x="1069920" y="15969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ecadc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9"/>
            <p:cNvSpPr/>
            <p:nvPr/>
          </p:nvSpPr>
          <p:spPr>
            <a:xfrm>
              <a:off x="1351080" y="15523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298440" y="15192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TextBox 5"/>
          <p:cNvSpPr/>
          <p:nvPr/>
        </p:nvSpPr>
        <p:spPr>
          <a:xfrm>
            <a:off x="1289160" y="231300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2217600" y="2141640"/>
            <a:ext cx="620244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句较正式的问候用语，常用于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熟人之间，用来询问对方的近况。其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语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fine, thanks/thank you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很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谢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谢谢你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2" descr=""/>
          <p:cNvPicPr/>
          <p:nvPr/>
        </p:nvPicPr>
        <p:blipFill>
          <a:blip r:embed="rId3"/>
          <a:stretch/>
        </p:blipFill>
        <p:spPr>
          <a:xfrm>
            <a:off x="6280200" y="1450800"/>
            <a:ext cx="1143000" cy="663840"/>
          </a:xfrm>
          <a:prstGeom prst="rect">
            <a:avLst/>
          </a:prstGeom>
          <a:ln w="0">
            <a:noFill/>
          </a:ln>
        </p:spPr>
      </p:pic>
      <p:grpSp>
        <p:nvGrpSpPr>
          <p:cNvPr id="106" name="组合 1"/>
          <p:cNvGrpSpPr/>
          <p:nvPr/>
        </p:nvGrpSpPr>
        <p:grpSpPr>
          <a:xfrm>
            <a:off x="907920" y="4414680"/>
            <a:ext cx="1789200" cy="1197000"/>
            <a:chOff x="907920" y="4414680"/>
            <a:chExt cx="1789200" cy="1197000"/>
          </a:xfrm>
        </p:grpSpPr>
        <p:pic>
          <p:nvPicPr>
            <p:cNvPr id="107" name="图片 3" descr="泡泡1.png"/>
            <p:cNvPicPr/>
            <p:nvPr/>
          </p:nvPicPr>
          <p:blipFill>
            <a:blip r:embed="rId4"/>
            <a:stretch/>
          </p:blipFill>
          <p:spPr>
            <a:xfrm>
              <a:off x="907920" y="4414680"/>
              <a:ext cx="178920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文本框 2"/>
            <p:cNvSpPr/>
            <p:nvPr/>
          </p:nvSpPr>
          <p:spPr>
            <a:xfrm>
              <a:off x="1155240" y="4526280"/>
              <a:ext cx="117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2"/>
          <p:cNvSpPr/>
          <p:nvPr/>
        </p:nvSpPr>
        <p:spPr>
          <a:xfrm>
            <a:off x="2330280" y="5491080"/>
            <a:ext cx="37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此句型中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ou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是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ou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17"/>
          <p:cNvSpPr/>
          <p:nvPr/>
        </p:nvSpPr>
        <p:spPr>
          <a:xfrm>
            <a:off x="2514600" y="1547640"/>
            <a:ext cx="55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anks /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æŋk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谢谢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只用复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1"/>
          <p:cNvGrpSpPr/>
          <p:nvPr/>
        </p:nvGrpSpPr>
        <p:grpSpPr>
          <a:xfrm>
            <a:off x="177840" y="1579680"/>
            <a:ext cx="2336760" cy="666720"/>
            <a:chOff x="177840" y="1579680"/>
            <a:chExt cx="2336760" cy="666720"/>
          </a:xfrm>
        </p:grpSpPr>
        <p:sp>
          <p:nvSpPr>
            <p:cNvPr id="115" name="圆角矩形 18"/>
            <p:cNvSpPr/>
            <p:nvPr/>
          </p:nvSpPr>
          <p:spPr>
            <a:xfrm>
              <a:off x="722160" y="16732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ecadc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组合 2"/>
            <p:cNvGrpSpPr/>
            <p:nvPr/>
          </p:nvGrpSpPr>
          <p:grpSpPr>
            <a:xfrm>
              <a:off x="177840" y="1579680"/>
              <a:ext cx="2336760" cy="666720"/>
              <a:chOff x="177840" y="1579680"/>
              <a:chExt cx="2336760" cy="666720"/>
            </a:xfrm>
          </p:grpSpPr>
          <p:sp>
            <p:nvSpPr>
              <p:cNvPr id="117" name="文本框 19"/>
              <p:cNvSpPr/>
              <p:nvPr/>
            </p:nvSpPr>
            <p:spPr>
              <a:xfrm>
                <a:off x="1069920" y="1642680"/>
                <a:ext cx="144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知识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" name="图片 9" descr="book.gif"/>
              <p:cNvPicPr/>
              <p:nvPr/>
            </p:nvPicPr>
            <p:blipFill>
              <a:blip r:embed="rId2"/>
              <a:stretch/>
            </p:blipFill>
            <p:spPr>
              <a:xfrm>
                <a:off x="177840" y="1579680"/>
                <a:ext cx="921240" cy="66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" name="TextBox 8"/>
          <p:cNvSpPr/>
          <p:nvPr/>
        </p:nvSpPr>
        <p:spPr>
          <a:xfrm>
            <a:off x="1960560" y="2151000"/>
            <a:ext cx="69930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在生活中最常用的感谢语，与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k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。当别人帮助你、关心你、称赞你或者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礼物时，都应及时地表达自己的谢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030320" y="23241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092240" y="41911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1987560" y="4091040"/>
            <a:ext cx="494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感谢用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k you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谢谢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ks a lo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多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k you very much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非常感谢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26"/>
          <p:cNvGrpSpPr/>
          <p:nvPr/>
        </p:nvGrpSpPr>
        <p:grpSpPr>
          <a:xfrm>
            <a:off x="693720" y="2239920"/>
            <a:ext cx="2044800" cy="459720"/>
            <a:chOff x="693720" y="2239920"/>
            <a:chExt cx="2044800" cy="459720"/>
          </a:xfrm>
        </p:grpSpPr>
        <p:sp>
          <p:nvSpPr>
            <p:cNvPr id="127" name="TextBox 3"/>
            <p:cNvSpPr/>
            <p:nvPr/>
          </p:nvSpPr>
          <p:spPr>
            <a:xfrm>
              <a:off x="1109160" y="2239920"/>
              <a:ext cx="16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693720" y="2282400"/>
              <a:ext cx="53244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矩形 29"/>
          <p:cNvSpPr/>
          <p:nvPr/>
        </p:nvSpPr>
        <p:spPr>
          <a:xfrm>
            <a:off x="1924200" y="2125800"/>
            <a:ext cx="690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们班在进行卫生大扫除，你的职责是提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桌要帮你一起提，你应该对他说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     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anks.            B. Hel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169040" y="278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1886040" y="3987720"/>
            <a:ext cx="64800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6"/>
          <p:cNvSpPr/>
          <p:nvPr/>
        </p:nvSpPr>
        <p:spPr>
          <a:xfrm>
            <a:off x="2778120" y="3987720"/>
            <a:ext cx="54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当别人为你提供帮助时要表达感谢之意。故选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文本框 8" descr=""/>
          <p:cNvPicPr/>
          <p:nvPr/>
        </p:nvPicPr>
        <p:blipFill>
          <a:blip r:embed="rId1"/>
          <a:stretch/>
        </p:blipFill>
        <p:spPr>
          <a:xfrm>
            <a:off x="2828880" y="103320"/>
            <a:ext cx="3925800" cy="83484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13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矩形 3"/>
          <p:cNvSpPr/>
          <p:nvPr/>
        </p:nvSpPr>
        <p:spPr>
          <a:xfrm>
            <a:off x="1606680" y="1363680"/>
            <a:ext cx="31669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are you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fine,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fine,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 a lovel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5275440" y="1925640"/>
            <a:ext cx="2985840" cy="2219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5411880" y="2100240"/>
            <a:ext cx="269064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14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Box 1"/>
          <p:cNvSpPr/>
          <p:nvPr/>
        </p:nvSpPr>
        <p:spPr>
          <a:xfrm>
            <a:off x="1004760" y="2036880"/>
            <a:ext cx="364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It’s a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chool  book  chair 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文本框 8" descr=""/>
          <p:cNvPicPr/>
          <p:nvPr/>
        </p:nvPicPr>
        <p:blipFill>
          <a:blip r:embed="rId3"/>
          <a:stretch/>
        </p:blipFill>
        <p:spPr>
          <a:xfrm>
            <a:off x="2676600" y="79200"/>
            <a:ext cx="4467240" cy="828720"/>
          </a:xfrm>
          <a:prstGeom prst="rect">
            <a:avLst/>
          </a:prstGeom>
          <a:ln w="0">
            <a:noFill/>
          </a:ln>
        </p:spPr>
      </p:pic>
      <p:sp>
        <p:nvSpPr>
          <p:cNvPr id="145" name="矩形 9"/>
          <p:cNvSpPr/>
          <p:nvPr/>
        </p:nvSpPr>
        <p:spPr>
          <a:xfrm>
            <a:off x="4889520" y="2060640"/>
            <a:ext cx="3317760" cy="240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john\Desktop\1.png"/>
          <p:cNvPicPr/>
          <p:nvPr/>
        </p:nvPicPr>
        <p:blipFill>
          <a:blip r:embed="rId4"/>
          <a:stretch/>
        </p:blipFill>
        <p:spPr>
          <a:xfrm>
            <a:off x="4998960" y="2219400"/>
            <a:ext cx="308952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17"/>
          <p:cNvSpPr/>
          <p:nvPr/>
        </p:nvSpPr>
        <p:spPr>
          <a:xfrm>
            <a:off x="2820960" y="1452600"/>
            <a:ext cx="443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’s this?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t’s a school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它是一所学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5"/>
          <p:cNvGrpSpPr/>
          <p:nvPr/>
        </p:nvGrpSpPr>
        <p:grpSpPr>
          <a:xfrm>
            <a:off x="139680" y="1477800"/>
            <a:ext cx="2579760" cy="667080"/>
            <a:chOff x="139680" y="1477800"/>
            <a:chExt cx="2579760" cy="667080"/>
          </a:xfrm>
        </p:grpSpPr>
        <p:sp>
          <p:nvSpPr>
            <p:cNvPr id="152" name="圆角矩形 18"/>
            <p:cNvSpPr/>
            <p:nvPr/>
          </p:nvSpPr>
          <p:spPr>
            <a:xfrm>
              <a:off x="941400" y="1577880"/>
              <a:ext cx="1778040" cy="44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ecadc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19"/>
            <p:cNvSpPr/>
            <p:nvPr/>
          </p:nvSpPr>
          <p:spPr>
            <a:xfrm>
              <a:off x="1214640" y="1558800"/>
              <a:ext cx="150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139680" y="1477800"/>
              <a:ext cx="1087560" cy="6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Box 8"/>
          <p:cNvSpPr/>
          <p:nvPr/>
        </p:nvSpPr>
        <p:spPr>
          <a:xfrm>
            <a:off x="2716200" y="4813200"/>
            <a:ext cx="45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this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/an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数名词单数形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1160640" y="491652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结构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1327320" y="2698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2197080" y="2592360"/>
            <a:ext cx="583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句是用来询问近处的某个物品是什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一般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..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回答，而是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/an..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回答，答语中要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句中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，这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" descr=""/>
          <p:cNvPicPr/>
          <p:nvPr/>
        </p:nvPicPr>
        <p:blipFill>
          <a:blip r:embed="rId3"/>
          <a:stretch/>
        </p:blipFill>
        <p:spPr>
          <a:xfrm>
            <a:off x="6637320" y="1494000"/>
            <a:ext cx="114300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cp:keywords/>
  <dc:language>en-US</dc:language>
  <cp:lastModifiedBy>chicken君</cp:lastModifiedBy>
  <dcterms:modified xsi:type="dcterms:W3CDTF">2017-12-07T12:33:58Z</dcterms:modified>
  <cp:revision>7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