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8A9-510E-4AE8-85A3-0CBC7816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76C-E76F-44F7-BB61-4256D02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9A5-010A-437D-94DE-D575DDDC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D3E-6637-47D1-8973-A38E0537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158-0890-4E86-A215-86D68499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2B2-9B66-4667-97B4-E499D62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254-B653-4BBB-8C71-019E759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F5D-F139-40A0-9BE1-271EEE9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959-6C23-4F02-AA3F-B14BE047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A5C-D1BC-423F-9279-CB48FE07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08B-978C-4250-BE34-10687EE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FFE-5297-4308-AD75-1618FC1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9B3FD-8E80-450A-84DB-5471F7E8E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Friends and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184560" y="4616280"/>
            <a:ext cx="526104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文本框 8" descr=""/>
          <p:cNvPicPr/>
          <p:nvPr/>
        </p:nvPicPr>
        <p:blipFill>
          <a:blip r:embed="rId1"/>
          <a:stretch/>
        </p:blipFill>
        <p:spPr>
          <a:xfrm>
            <a:off x="2851200" y="8748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5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1019160" y="1171440"/>
            <a:ext cx="743760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6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文本框 8" descr=""/>
          <p:cNvPicPr/>
          <p:nvPr/>
        </p:nvPicPr>
        <p:blipFill>
          <a:blip r:embed="rId3"/>
          <a:stretch/>
        </p:blipFill>
        <p:spPr>
          <a:xfrm>
            <a:off x="1959120" y="-4680"/>
            <a:ext cx="5560920" cy="849240"/>
          </a:xfrm>
          <a:prstGeom prst="rect">
            <a:avLst/>
          </a:prstGeom>
          <a:ln w="0">
            <a:noFill/>
          </a:ln>
        </p:spPr>
      </p:pic>
      <p:sp>
        <p:nvSpPr>
          <p:cNvPr id="164" name="矩形 9"/>
          <p:cNvSpPr/>
          <p:nvPr/>
        </p:nvSpPr>
        <p:spPr>
          <a:xfrm>
            <a:off x="5191200" y="2470320"/>
            <a:ext cx="2233440" cy="14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86080" y="219852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the do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273640" y="2523960"/>
            <a:ext cx="20764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754360" y="3662280"/>
            <a:ext cx="44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a window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扇窗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1833480" y="3773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781360" y="4381560"/>
            <a:ext cx="15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1847880" y="450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7"/>
          <p:cNvSpPr/>
          <p:nvPr/>
        </p:nvSpPr>
        <p:spPr>
          <a:xfrm>
            <a:off x="3392640" y="1558800"/>
            <a:ext cx="4100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en the window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开窗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lose the window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上窗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"/>
          <p:cNvGrpSpPr/>
          <p:nvPr/>
        </p:nvGrpSpPr>
        <p:grpSpPr>
          <a:xfrm>
            <a:off x="966960" y="1647720"/>
            <a:ext cx="2336760" cy="666720"/>
            <a:chOff x="966960" y="1647720"/>
            <a:chExt cx="2336760" cy="666720"/>
          </a:xfrm>
        </p:grpSpPr>
        <p:sp>
          <p:nvSpPr>
            <p:cNvPr id="176" name="圆角矩形 21"/>
            <p:cNvSpPr/>
            <p:nvPr/>
          </p:nvSpPr>
          <p:spPr>
            <a:xfrm>
              <a:off x="1511280" y="1741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2"/>
            <p:cNvGrpSpPr/>
            <p:nvPr/>
          </p:nvGrpSpPr>
          <p:grpSpPr>
            <a:xfrm>
              <a:off x="966960" y="1647720"/>
              <a:ext cx="2336760" cy="666720"/>
              <a:chOff x="966960" y="1647720"/>
              <a:chExt cx="2336760" cy="666720"/>
            </a:xfrm>
          </p:grpSpPr>
          <p:sp>
            <p:nvSpPr>
              <p:cNvPr id="178" name="文本框 19"/>
              <p:cNvSpPr/>
              <p:nvPr/>
            </p:nvSpPr>
            <p:spPr>
              <a:xfrm>
                <a:off x="1859040" y="171072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966960" y="164772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0" name="文本框 17"/>
          <p:cNvSpPr/>
          <p:nvPr/>
        </p:nvSpPr>
        <p:spPr>
          <a:xfrm>
            <a:off x="1755720" y="2882880"/>
            <a:ext cx="44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indow /wɪnd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窗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2215080" y="5173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3665520" y="50436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+ ow =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276640" y="2489040"/>
            <a:ext cx="5680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型是祈使句句型。表示要求对方打开或者关上某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1355760" y="2654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7"/>
          <p:cNvSpPr/>
          <p:nvPr/>
        </p:nvSpPr>
        <p:spPr>
          <a:xfrm>
            <a:off x="1417680" y="1862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en/Close the..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379520" y="39402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2233440" y="3772080"/>
            <a:ext cx="5961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祈使句用来表示命令、请求、劝告、警告、禁止等，祈使句的主语一般是第二人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通常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836800" y="1779480"/>
            <a:ext cx="35924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the boo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合上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1916280" y="1944720"/>
            <a:ext cx="9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"/>
          <p:cNvGrpSpPr/>
          <p:nvPr/>
        </p:nvGrpSpPr>
        <p:grpSpPr>
          <a:xfrm>
            <a:off x="1495440" y="2781360"/>
            <a:ext cx="1806480" cy="1514520"/>
            <a:chOff x="1495440" y="2781360"/>
            <a:chExt cx="1806480" cy="1514520"/>
          </a:xfrm>
        </p:grpSpPr>
        <p:pic>
          <p:nvPicPr>
            <p:cNvPr id="197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495440" y="278136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文本框 2"/>
            <p:cNvSpPr/>
            <p:nvPr/>
          </p:nvSpPr>
          <p:spPr>
            <a:xfrm>
              <a:off x="2001960" y="31032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"/>
          <p:cNvSpPr/>
          <p:nvPr/>
        </p:nvSpPr>
        <p:spPr>
          <a:xfrm>
            <a:off x="2824200" y="4095720"/>
            <a:ext cx="47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祈使句一般都是以动词原形开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子的末尾使用句号或感叹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文本框 8" descr=""/>
          <p:cNvPicPr/>
          <p:nvPr/>
        </p:nvPicPr>
        <p:blipFill>
          <a:blip r:embed="rId1"/>
          <a:stretch/>
        </p:blipFill>
        <p:spPr>
          <a:xfrm>
            <a:off x="2851200" y="8748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20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3"/>
          <p:cNvSpPr/>
          <p:nvPr/>
        </p:nvSpPr>
        <p:spPr>
          <a:xfrm>
            <a:off x="1355760" y="2395440"/>
            <a:ext cx="31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your pencil b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your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0"/>
          <p:cNvSpPr/>
          <p:nvPr/>
        </p:nvSpPr>
        <p:spPr>
          <a:xfrm>
            <a:off x="5423040" y="2470320"/>
            <a:ext cx="2233440" cy="14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487840" y="2517840"/>
            <a:ext cx="21034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8"/>
          <p:cNvSpPr/>
          <p:nvPr/>
        </p:nvSpPr>
        <p:spPr>
          <a:xfrm>
            <a:off x="560520" y="1633680"/>
            <a:ext cx="82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动口、动手能力）淘汰赛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九人一组，一人发指令，其余八个人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队站起来做动作，动作与指令一致的留下继续参加比赛，不一致的会被淘汰出局。四个指令后，留下队员多的那个队为比赛的获胜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4" descr=""/>
          <p:cNvPicPr/>
          <p:nvPr/>
        </p:nvPicPr>
        <p:blipFill>
          <a:blip r:embed="rId1"/>
          <a:stretch/>
        </p:blipFill>
        <p:spPr>
          <a:xfrm>
            <a:off x="3284640" y="18900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1855800" y="1467000"/>
            <a:ext cx="49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把相对应的大小写字母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12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1800360" y="2182680"/>
            <a:ext cx="880920" cy="407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/>
          <p:cNvPicPr/>
          <p:nvPr/>
        </p:nvPicPr>
        <p:blipFill>
          <a:blip r:embed="rId3"/>
          <a:stretch/>
        </p:blipFill>
        <p:spPr>
          <a:xfrm>
            <a:off x="6089760" y="2235240"/>
            <a:ext cx="801720" cy="4022640"/>
          </a:xfrm>
          <a:prstGeom prst="rect">
            <a:avLst/>
          </a:prstGeom>
          <a:ln w="0">
            <a:noFill/>
          </a:ln>
        </p:spPr>
      </p:pic>
      <p:sp>
        <p:nvSpPr>
          <p:cNvPr id="216" name="直接连接符 24"/>
          <p:cNvSpPr/>
          <p:nvPr/>
        </p:nvSpPr>
        <p:spPr>
          <a:xfrm>
            <a:off x="2575080" y="2692440"/>
            <a:ext cx="3514680" cy="21351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5"/>
          <p:cNvSpPr/>
          <p:nvPr/>
        </p:nvSpPr>
        <p:spPr>
          <a:xfrm flipV="1">
            <a:off x="2575080" y="2692080"/>
            <a:ext cx="3514680" cy="10112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26"/>
          <p:cNvSpPr/>
          <p:nvPr/>
        </p:nvSpPr>
        <p:spPr>
          <a:xfrm>
            <a:off x="2589120" y="4827600"/>
            <a:ext cx="3500640" cy="11858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9"/>
          <p:cNvSpPr/>
          <p:nvPr/>
        </p:nvSpPr>
        <p:spPr>
          <a:xfrm flipV="1">
            <a:off x="2575080" y="3957480"/>
            <a:ext cx="3647880" cy="1889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603360" y="1477800"/>
            <a:ext cx="79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你特别冷，想要求关上窗户时，你应该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pen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Close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close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2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"/>
          <p:cNvSpPr/>
          <p:nvPr/>
        </p:nvSpPr>
        <p:spPr>
          <a:xfrm>
            <a:off x="942840" y="2160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530360" y="4410000"/>
            <a:ext cx="64800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6"/>
          <p:cNvSpPr/>
          <p:nvPr/>
        </p:nvSpPr>
        <p:spPr>
          <a:xfrm>
            <a:off x="2422440" y="441000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对单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pen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lose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记忆。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pen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意思是“打开”，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lose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意思是“关上”。所以选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120680" y="12556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1109520" y="2949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k  Ll  Mm 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window.      Close the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637000" y="4384800"/>
            <a:ext cx="42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guess the four pictur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http://file01.16sucai.com/d/file/2013/0617/20130617104626489.jpg"/>
          <p:cNvPicPr/>
          <p:nvPr/>
        </p:nvPicPr>
        <p:blipFill>
          <a:blip r:embed="rId2"/>
          <a:stretch/>
        </p:blipFill>
        <p:spPr>
          <a:xfrm>
            <a:off x="5854680" y="1530360"/>
            <a:ext cx="32893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file01.16sucai.com/d/file/2013/0617/20130617104538164.jpg"/>
          <p:cNvPicPr/>
          <p:nvPr/>
        </p:nvPicPr>
        <p:blipFill>
          <a:blip r:embed="rId3"/>
          <a:stretch/>
        </p:blipFill>
        <p:spPr>
          <a:xfrm>
            <a:off x="-149400" y="1546200"/>
            <a:ext cx="3332160" cy="23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://file01.16sucai.com/d/file/2013/0617/20130617104538216.jpg"/>
          <p:cNvPicPr/>
          <p:nvPr/>
        </p:nvPicPr>
        <p:blipFill>
          <a:blip r:embed="rId4"/>
          <a:stretch/>
        </p:blipFill>
        <p:spPr>
          <a:xfrm>
            <a:off x="3513240" y="1306440"/>
            <a:ext cx="3574800" cy="25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C:\Users\john\Desktop\3jpg.jpg"/>
          <p:cNvPicPr/>
          <p:nvPr/>
        </p:nvPicPr>
        <p:blipFill>
          <a:blip r:embed="rId5"/>
          <a:stretch/>
        </p:blipFill>
        <p:spPr>
          <a:xfrm>
            <a:off x="1963800" y="161604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文本框 25" descr=""/>
          <p:cNvPicPr/>
          <p:nvPr/>
        </p:nvPicPr>
        <p:blipFill>
          <a:blip r:embed="rId1"/>
          <a:stretch/>
        </p:blipFill>
        <p:spPr>
          <a:xfrm>
            <a:off x="3014640" y="39600"/>
            <a:ext cx="3166920" cy="15271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4" name="矩形 12"/>
          <p:cNvSpPr/>
          <p:nvPr/>
        </p:nvSpPr>
        <p:spPr>
          <a:xfrm>
            <a:off x="3670200" y="2728800"/>
            <a:ext cx="1762200" cy="12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434960" y="493704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619280" y="3240000"/>
            <a:ext cx="62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7"/>
          <a:stretch/>
        </p:blipFill>
        <p:spPr>
          <a:xfrm>
            <a:off x="433440" y="2351160"/>
            <a:ext cx="295272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8"/>
          <a:stretch/>
        </p:blipFill>
        <p:spPr>
          <a:xfrm>
            <a:off x="5938920" y="2351160"/>
            <a:ext cx="2200320" cy="790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9"/>
          <a:stretch/>
        </p:blipFill>
        <p:spPr>
          <a:xfrm>
            <a:off x="490680" y="4010040"/>
            <a:ext cx="289548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10"/>
          <a:stretch/>
        </p:blipFill>
        <p:spPr>
          <a:xfrm>
            <a:off x="5943600" y="4010040"/>
            <a:ext cx="2238480" cy="79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C:\Users\john\Desktop\1.png"/>
          <p:cNvPicPr/>
          <p:nvPr/>
        </p:nvPicPr>
        <p:blipFill>
          <a:blip r:embed="rId11"/>
          <a:stretch/>
        </p:blipFill>
        <p:spPr>
          <a:xfrm>
            <a:off x="3720960" y="2768760"/>
            <a:ext cx="166716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7"/>
          <p:cNvSpPr/>
          <p:nvPr/>
        </p:nvSpPr>
        <p:spPr>
          <a:xfrm>
            <a:off x="2976480" y="1725480"/>
            <a:ext cx="53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认读、发音和书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"/>
          <p:cNvGrpSpPr/>
          <p:nvPr/>
        </p:nvGrpSpPr>
        <p:grpSpPr>
          <a:xfrm>
            <a:off x="639720" y="1920960"/>
            <a:ext cx="2336760" cy="666720"/>
            <a:chOff x="639720" y="1920960"/>
            <a:chExt cx="2336760" cy="666720"/>
          </a:xfrm>
        </p:grpSpPr>
        <p:sp>
          <p:nvSpPr>
            <p:cNvPr id="87" name="圆角矩形 18"/>
            <p:cNvSpPr/>
            <p:nvPr/>
          </p:nvSpPr>
          <p:spPr>
            <a:xfrm>
              <a:off x="1184040" y="20145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组合 2"/>
            <p:cNvGrpSpPr/>
            <p:nvPr/>
          </p:nvGrpSpPr>
          <p:grpSpPr>
            <a:xfrm>
              <a:off x="639720" y="1920960"/>
              <a:ext cx="2336760" cy="666720"/>
              <a:chOff x="639720" y="1920960"/>
              <a:chExt cx="2336760" cy="666720"/>
            </a:xfrm>
          </p:grpSpPr>
          <p:sp>
            <p:nvSpPr>
              <p:cNvPr id="89" name="文本框 19"/>
              <p:cNvSpPr/>
              <p:nvPr/>
            </p:nvSpPr>
            <p:spPr>
              <a:xfrm>
                <a:off x="1531800" y="198396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639720" y="192096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" name="文本框 17"/>
          <p:cNvSpPr/>
          <p:nvPr/>
        </p:nvSpPr>
        <p:spPr>
          <a:xfrm>
            <a:off x="1492200" y="339264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认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3259080" y="339264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"/>
          <p:cNvPicPr/>
          <p:nvPr/>
        </p:nvPicPr>
        <p:blipFill>
          <a:blip r:embed="rId4"/>
          <a:stretch/>
        </p:blipFill>
        <p:spPr>
          <a:xfrm>
            <a:off x="1473120" y="4427640"/>
            <a:ext cx="67057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7"/>
          <p:cNvSpPr/>
          <p:nvPr/>
        </p:nvSpPr>
        <p:spPr>
          <a:xfrm>
            <a:off x="1886040" y="2136600"/>
            <a:ext cx="17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发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08080" y="2994120"/>
          <a:ext cx="4940280" cy="1797120"/>
        </p:xfrm>
        <a:graphic>
          <a:graphicData uri="http://schemas.openxmlformats.org/drawingml/2006/table">
            <a:tbl>
              <a:tblPr/>
              <a:tblGrid>
                <a:gridCol w="1041480"/>
                <a:gridCol w="1036440"/>
                <a:gridCol w="762120"/>
                <a:gridCol w="603360"/>
                <a:gridCol w="765000"/>
                <a:gridCol w="731880"/>
              </a:tblGrid>
              <a:tr h="5684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读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eɪ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l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m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n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7"/>
          <p:cNvSpPr/>
          <p:nvPr/>
        </p:nvSpPr>
        <p:spPr>
          <a:xfrm>
            <a:off x="2070000" y="134316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的书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948040" y="2786040"/>
            <a:ext cx="41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2025720" y="29322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933640" y="3929040"/>
            <a:ext cx="28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k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2039760" y="4049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2"/>
          <a:stretch/>
        </p:blipFill>
        <p:spPr>
          <a:xfrm>
            <a:off x="3916440" y="13255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2065320" y="556416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竖顶一尖，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2093760" y="5170320"/>
            <a:ext cx="2403720" cy="459720"/>
            <a:chOff x="2093760" y="5170320"/>
            <a:chExt cx="2403720" cy="459720"/>
          </a:xfrm>
        </p:grpSpPr>
        <p:sp>
          <p:nvSpPr>
            <p:cNvPr id="110" name="TextBox 10"/>
            <p:cNvSpPr/>
            <p:nvPr/>
          </p:nvSpPr>
          <p:spPr>
            <a:xfrm>
              <a:off x="2409480" y="517032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2093760" y="521784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22" descr=""/>
          <p:cNvPicPr/>
          <p:nvPr/>
        </p:nvPicPr>
        <p:blipFill>
          <a:blip r:embed="rId4"/>
          <a:stretch/>
        </p:blipFill>
        <p:spPr>
          <a:xfrm>
            <a:off x="2160720" y="2027160"/>
            <a:ext cx="4400280" cy="800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2962440" y="4494240"/>
            <a:ext cx="15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e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钥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39760" y="4610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784600" y="234936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一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1862280" y="2495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2770200" y="347832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l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1866960" y="360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871640" y="517536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竖带一横，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竖不带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"/>
          <p:cNvGrpSpPr/>
          <p:nvPr/>
        </p:nvGrpSpPr>
        <p:grpSpPr>
          <a:xfrm>
            <a:off x="1930320" y="4748040"/>
            <a:ext cx="2403720" cy="459720"/>
            <a:chOff x="1930320" y="4748040"/>
            <a:chExt cx="2403720" cy="459720"/>
          </a:xfrm>
        </p:grpSpPr>
        <p:sp>
          <p:nvSpPr>
            <p:cNvPr id="124" name="TextBox 10"/>
            <p:cNvSpPr/>
            <p:nvPr/>
          </p:nvSpPr>
          <p:spPr>
            <a:xfrm>
              <a:off x="2246040" y="474804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930320" y="479556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20" descr=""/>
          <p:cNvPicPr/>
          <p:nvPr/>
        </p:nvPicPr>
        <p:blipFill>
          <a:blip r:embed="rId3"/>
          <a:stretch/>
        </p:blipFill>
        <p:spPr>
          <a:xfrm>
            <a:off x="2003400" y="1577880"/>
            <a:ext cx="3867120" cy="77148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1876320" y="416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2778120" y="404352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狮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784600" y="234936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上中两格，四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占中间一格，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1862280" y="2495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770200" y="347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u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1839960" y="3578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803240" y="517536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山连一起，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门连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1930320" y="4707000"/>
            <a:ext cx="2403720" cy="459720"/>
            <a:chOff x="1930320" y="4707000"/>
            <a:chExt cx="2403720" cy="459720"/>
          </a:xfrm>
        </p:grpSpPr>
        <p:sp>
          <p:nvSpPr>
            <p:cNvPr id="138" name="TextBox 10"/>
            <p:cNvSpPr/>
            <p:nvPr/>
          </p:nvSpPr>
          <p:spPr>
            <a:xfrm>
              <a:off x="2246040" y="47070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930320" y="47545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20" descr=""/>
          <p:cNvPicPr/>
          <p:nvPr/>
        </p:nvPicPr>
        <p:blipFill>
          <a:blip r:embed="rId3"/>
          <a:stretch/>
        </p:blipFill>
        <p:spPr>
          <a:xfrm>
            <a:off x="1982880" y="1511280"/>
            <a:ext cx="4362480" cy="838080"/>
          </a:xfrm>
          <a:prstGeom prst="rect">
            <a:avLst/>
          </a:prstGeom>
          <a:ln w="0">
            <a:noFill/>
          </a:ln>
        </p:spPr>
      </p:pic>
      <p:sp>
        <p:nvSpPr>
          <p:cNvPr id="141" name="矩形 3"/>
          <p:cNvSpPr/>
          <p:nvPr/>
        </p:nvSpPr>
        <p:spPr>
          <a:xfrm>
            <a:off x="1849320" y="414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2784600" y="234936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上中两格，三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占中间一格，两笔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1862280" y="2495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2770200" y="3505320"/>
            <a:ext cx="35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n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1839960" y="360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803240" y="517536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笔都向下，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像一小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2"/>
          <p:cNvGrpSpPr/>
          <p:nvPr/>
        </p:nvGrpSpPr>
        <p:grpSpPr>
          <a:xfrm>
            <a:off x="1930320" y="4789440"/>
            <a:ext cx="2403720" cy="459720"/>
            <a:chOff x="1930320" y="4789440"/>
            <a:chExt cx="2403720" cy="459720"/>
          </a:xfrm>
        </p:grpSpPr>
        <p:sp>
          <p:nvSpPr>
            <p:cNvPr id="151" name="TextBox 10"/>
            <p:cNvSpPr/>
            <p:nvPr/>
          </p:nvSpPr>
          <p:spPr>
            <a:xfrm>
              <a:off x="2246040" y="478944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930320" y="483696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Picture 20" descr=""/>
          <p:cNvPicPr/>
          <p:nvPr/>
        </p:nvPicPr>
        <p:blipFill>
          <a:blip r:embed="rId3"/>
          <a:stretch/>
        </p:blipFill>
        <p:spPr>
          <a:xfrm>
            <a:off x="1971720" y="1558800"/>
            <a:ext cx="4143240" cy="790560"/>
          </a:xfrm>
          <a:prstGeom prst="rect">
            <a:avLst/>
          </a:prstGeom>
          <a:ln w="0">
            <a:noFill/>
          </a:ln>
        </p:spPr>
      </p:pic>
      <p:sp>
        <p:nvSpPr>
          <p:cNvPr id="154" name="矩形 3"/>
          <p:cNvSpPr/>
          <p:nvPr/>
        </p:nvSpPr>
        <p:spPr>
          <a:xfrm>
            <a:off x="1849320" y="4187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01:27Z</dcterms:modified>
  <cp:revision>8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