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92F-A65F-4B6D-B9A7-210CF199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E1F-3347-4471-9C57-5D193DA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160-39B6-4F3C-B952-683462ED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1BD-ABCD-4C86-98D0-028C615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737-22D6-4090-9825-8C7EBF54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EA6-3A1C-4700-8C6B-359EBFF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A7B-A7E0-426B-8244-36A98D6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94-EE25-46F5-9DA0-2C5073C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F36-8B1E-4FB7-A2F6-0E6E9CB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892-C413-429D-95B4-02CC01F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50B-BA60-463D-A9CC-33F2657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E81-5D51-40A4-B842-28705F35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9C5E3-A3D9-4E44-B12A-DCB936ABA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Fami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102120" y="4568760"/>
            <a:ext cx="57132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7"/>
          <p:cNvSpPr/>
          <p:nvPr/>
        </p:nvSpPr>
        <p:spPr>
          <a:xfrm>
            <a:off x="3021120" y="1716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’m a studen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是一名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"/>
          <p:cNvGrpSpPr/>
          <p:nvPr/>
        </p:nvGrpSpPr>
        <p:grpSpPr>
          <a:xfrm>
            <a:off x="541440" y="1755720"/>
            <a:ext cx="2336760" cy="666720"/>
            <a:chOff x="541440" y="1755720"/>
            <a:chExt cx="2336760" cy="666720"/>
          </a:xfrm>
        </p:grpSpPr>
        <p:sp>
          <p:nvSpPr>
            <p:cNvPr id="152" name="圆角矩形 18"/>
            <p:cNvSpPr/>
            <p:nvPr/>
          </p:nvSpPr>
          <p:spPr>
            <a:xfrm>
              <a:off x="1085760" y="1849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2"/>
            <p:cNvGrpSpPr/>
            <p:nvPr/>
          </p:nvGrpSpPr>
          <p:grpSpPr>
            <a:xfrm>
              <a:off x="541440" y="1755720"/>
              <a:ext cx="2336760" cy="666720"/>
              <a:chOff x="541440" y="1755720"/>
              <a:chExt cx="2336760" cy="666720"/>
            </a:xfrm>
          </p:grpSpPr>
          <p:sp>
            <p:nvSpPr>
              <p:cNvPr id="154" name="文本框 19"/>
              <p:cNvSpPr/>
              <p:nvPr/>
            </p:nvSpPr>
            <p:spPr>
              <a:xfrm>
                <a:off x="1433520" y="18187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541440" y="17557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TextBox 8"/>
          <p:cNvSpPr/>
          <p:nvPr/>
        </p:nvSpPr>
        <p:spPr>
          <a:xfrm>
            <a:off x="2478240" y="2390760"/>
            <a:ext cx="53830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am/is/are) + a/an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业，这个句型用来介绍某人的职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1446120" y="25686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536920" y="3722760"/>
            <a:ext cx="43243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is a policem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是一名警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an acto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是一名演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501920" y="391176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" descr=""/>
          <p:cNvPicPr/>
          <p:nvPr/>
        </p:nvPicPr>
        <p:blipFill>
          <a:blip r:embed="rId3"/>
          <a:stretch/>
        </p:blipFill>
        <p:spPr>
          <a:xfrm>
            <a:off x="7129440" y="170496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6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"/>
          <p:cNvGrpSpPr/>
          <p:nvPr/>
        </p:nvGrpSpPr>
        <p:grpSpPr>
          <a:xfrm>
            <a:off x="976320" y="1874880"/>
            <a:ext cx="1808280" cy="1220760"/>
            <a:chOff x="976320" y="1874880"/>
            <a:chExt cx="1808280" cy="1220760"/>
          </a:xfrm>
        </p:grpSpPr>
        <p:pic>
          <p:nvPicPr>
            <p:cNvPr id="168" name="图片 3" descr="泡泡1.png"/>
            <p:cNvPicPr/>
            <p:nvPr/>
          </p:nvPicPr>
          <p:blipFill>
            <a:blip r:embed="rId4"/>
            <a:stretch/>
          </p:blipFill>
          <p:spPr>
            <a:xfrm>
              <a:off x="976320" y="1874880"/>
              <a:ext cx="18082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"/>
            <p:cNvSpPr/>
            <p:nvPr/>
          </p:nvSpPr>
          <p:spPr>
            <a:xfrm>
              <a:off x="1521720" y="19947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"/>
          <p:cNvSpPr/>
          <p:nvPr/>
        </p:nvSpPr>
        <p:spPr>
          <a:xfrm>
            <a:off x="2292480" y="3005280"/>
            <a:ext cx="603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的形式随着主语的变化而变化，主语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主语是复数人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we, they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第二人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re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t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文本框 8" descr=""/>
          <p:cNvPicPr/>
          <p:nvPr/>
        </p:nvPicPr>
        <p:blipFill>
          <a:blip r:embed="rId1"/>
          <a:stretch/>
        </p:blipFill>
        <p:spPr>
          <a:xfrm>
            <a:off x="2577960" y="3348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 23"/>
          <p:cNvGrpSpPr/>
          <p:nvPr/>
        </p:nvGrpSpPr>
        <p:grpSpPr>
          <a:xfrm>
            <a:off x="-309600" y="4734000"/>
            <a:ext cx="1660680" cy="2050920"/>
            <a:chOff x="-309600" y="4734000"/>
            <a:chExt cx="1660680" cy="2050920"/>
          </a:xfrm>
        </p:grpSpPr>
        <p:pic>
          <p:nvPicPr>
            <p:cNvPr id="17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65600" y="473400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181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1338120" y="1468440"/>
            <a:ext cx="661536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文本框 8" descr=""/>
          <p:cNvPicPr/>
          <p:nvPr/>
        </p:nvPicPr>
        <p:blipFill>
          <a:blip r:embed="rId1"/>
          <a:stretch/>
        </p:blipFill>
        <p:spPr>
          <a:xfrm>
            <a:off x="2216160" y="46080"/>
            <a:ext cx="5045040" cy="84924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 23"/>
          <p:cNvGrpSpPr/>
          <p:nvPr/>
        </p:nvGrpSpPr>
        <p:grpSpPr>
          <a:xfrm>
            <a:off x="-309600" y="4707000"/>
            <a:ext cx="1660680" cy="2050920"/>
            <a:chOff x="-309600" y="4707000"/>
            <a:chExt cx="1660680" cy="2050920"/>
          </a:xfrm>
        </p:grpSpPr>
        <p:pic>
          <p:nvPicPr>
            <p:cNvPr id="17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920" y="470700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154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1512720" y="1251000"/>
            <a:ext cx="602172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17"/>
          <p:cNvSpPr/>
          <p:nvPr/>
        </p:nvSpPr>
        <p:spPr>
          <a:xfrm>
            <a:off x="4043520" y="171612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tɔː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"/>
          <p:cNvGrpSpPr/>
          <p:nvPr/>
        </p:nvGrpSpPr>
        <p:grpSpPr>
          <a:xfrm>
            <a:off x="541440" y="1755720"/>
            <a:ext cx="2336760" cy="666720"/>
            <a:chOff x="541440" y="1755720"/>
            <a:chExt cx="2336760" cy="666720"/>
          </a:xfrm>
        </p:grpSpPr>
        <p:sp>
          <p:nvSpPr>
            <p:cNvPr id="186" name="圆角矩形 18"/>
            <p:cNvSpPr/>
            <p:nvPr/>
          </p:nvSpPr>
          <p:spPr>
            <a:xfrm>
              <a:off x="1085760" y="1849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2"/>
            <p:cNvGrpSpPr/>
            <p:nvPr/>
          </p:nvGrpSpPr>
          <p:grpSpPr>
            <a:xfrm>
              <a:off x="541440" y="1755720"/>
              <a:ext cx="2336760" cy="666720"/>
              <a:chOff x="541440" y="1755720"/>
              <a:chExt cx="2336760" cy="666720"/>
            </a:xfrm>
          </p:grpSpPr>
          <p:sp>
            <p:nvSpPr>
              <p:cNvPr id="188" name="文本框 19"/>
              <p:cNvSpPr/>
              <p:nvPr/>
            </p:nvSpPr>
            <p:spPr>
              <a:xfrm>
                <a:off x="1433520" y="18187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541440" y="17557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" name="TextBox 8"/>
          <p:cNvSpPr/>
          <p:nvPr/>
        </p:nvSpPr>
        <p:spPr>
          <a:xfrm>
            <a:off x="2478240" y="2390760"/>
            <a:ext cx="3676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ter’s father is very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彼得的父亲个子很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1446120" y="25686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3102120" y="1765440"/>
            <a:ext cx="809640" cy="657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1"/>
          <p:cNvSpPr/>
          <p:nvPr/>
        </p:nvSpPr>
        <p:spPr>
          <a:xfrm>
            <a:off x="1878480" y="390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4"/>
          <a:stretch/>
        </p:blipFill>
        <p:spPr>
          <a:xfrm>
            <a:off x="2760840" y="4249800"/>
            <a:ext cx="5076720" cy="20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7"/>
          <p:cNvSpPr/>
          <p:nvPr/>
        </p:nvSpPr>
        <p:spPr>
          <a:xfrm>
            <a:off x="3129120" y="171612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’m shor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个子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541440" y="1755720"/>
            <a:ext cx="2336760" cy="666720"/>
            <a:chOff x="541440" y="1755720"/>
            <a:chExt cx="2336760" cy="666720"/>
          </a:xfrm>
        </p:grpSpPr>
        <p:sp>
          <p:nvSpPr>
            <p:cNvPr id="200" name="圆角矩形 18"/>
            <p:cNvSpPr/>
            <p:nvPr/>
          </p:nvSpPr>
          <p:spPr>
            <a:xfrm>
              <a:off x="1085760" y="1849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2"/>
            <p:cNvGrpSpPr/>
            <p:nvPr/>
          </p:nvGrpSpPr>
          <p:grpSpPr>
            <a:xfrm>
              <a:off x="541440" y="1755720"/>
              <a:ext cx="2336760" cy="666720"/>
              <a:chOff x="541440" y="1755720"/>
              <a:chExt cx="2336760" cy="666720"/>
            </a:xfrm>
          </p:grpSpPr>
          <p:sp>
            <p:nvSpPr>
              <p:cNvPr id="202" name="文本框 19"/>
              <p:cNvSpPr/>
              <p:nvPr/>
            </p:nvSpPr>
            <p:spPr>
              <a:xfrm>
                <a:off x="1433520" y="18187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3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541440" y="17557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4" name="TextBox 8"/>
          <p:cNvSpPr/>
          <p:nvPr/>
        </p:nvSpPr>
        <p:spPr>
          <a:xfrm>
            <a:off x="2478240" y="3046320"/>
            <a:ext cx="2954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sister is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妹妹个子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1446120" y="32637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1941840" y="4640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反义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7"/>
          <p:cNvSpPr/>
          <p:nvPr/>
        </p:nvSpPr>
        <p:spPr>
          <a:xfrm>
            <a:off x="1482840" y="245592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ort /ʃɔː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"/>
          <p:cNvSpPr/>
          <p:nvPr/>
        </p:nvSpPr>
        <p:spPr>
          <a:xfrm>
            <a:off x="3770280" y="45086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1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174840" y="3046320"/>
            <a:ext cx="5013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b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am/is/are)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446120" y="3263760"/>
            <a:ext cx="17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7"/>
          <p:cNvSpPr/>
          <p:nvPr/>
        </p:nvSpPr>
        <p:spPr>
          <a:xfrm>
            <a:off x="1523880" y="236844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某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某物特征的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2529000" y="3879720"/>
            <a:ext cx="5727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blackboard is blac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黑板是黑色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1496880" y="40575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文本框 8" descr=""/>
          <p:cNvPicPr/>
          <p:nvPr/>
        </p:nvPicPr>
        <p:blipFill>
          <a:blip r:embed="rId1"/>
          <a:stretch/>
        </p:blipFill>
        <p:spPr>
          <a:xfrm>
            <a:off x="2625840" y="46080"/>
            <a:ext cx="4184640" cy="84924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 23"/>
          <p:cNvGrpSpPr/>
          <p:nvPr/>
        </p:nvGrpSpPr>
        <p:grpSpPr>
          <a:xfrm>
            <a:off x="-309600" y="4707000"/>
            <a:ext cx="1660680" cy="2050920"/>
            <a:chOff x="-309600" y="4707000"/>
            <a:chExt cx="1660680" cy="2050920"/>
          </a:xfrm>
        </p:grpSpPr>
        <p:pic>
          <p:nvPicPr>
            <p:cNvPr id="21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920" y="470700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154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矩形 3"/>
          <p:cNvSpPr/>
          <p:nvPr/>
        </p:nvSpPr>
        <p:spPr>
          <a:xfrm>
            <a:off x="1173240" y="1785960"/>
            <a:ext cx="4503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ove You, You Love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ove you. You love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a happy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th a tall father, short mother, little boy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ree in our family, one and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5961240" y="2592360"/>
            <a:ext cx="2178000" cy="153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6029280" y="2665440"/>
            <a:ext cx="205920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841320" y="1620720"/>
            <a:ext cx="736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情景交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看到讲桌上有一支黑色的铅笔，你对同学们说“它是王林的铅笔”，应该这样表达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t is Lynn pencil.      B. It is Lynn’s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It is Lynns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4"/>
          <p:cNvGrpSpPr/>
          <p:nvPr/>
        </p:nvGrpSpPr>
        <p:grpSpPr>
          <a:xfrm>
            <a:off x="7090920" y="1146240"/>
            <a:ext cx="1710360" cy="368280"/>
            <a:chOff x="7090920" y="1146240"/>
            <a:chExt cx="1710360" cy="368280"/>
          </a:xfrm>
        </p:grpSpPr>
        <p:sp>
          <p:nvSpPr>
            <p:cNvPr id="227" name="矩形 15"/>
            <p:cNvSpPr/>
            <p:nvPr/>
          </p:nvSpPr>
          <p:spPr>
            <a:xfrm>
              <a:off x="7090920" y="1163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17"/>
            <p:cNvSpPr/>
            <p:nvPr/>
          </p:nvSpPr>
          <p:spPr>
            <a:xfrm>
              <a:off x="7147800" y="1146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"/>
          <p:cNvSpPr/>
          <p:nvPr/>
        </p:nvSpPr>
        <p:spPr>
          <a:xfrm>
            <a:off x="5730840" y="3324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1428840" y="1620720"/>
            <a:ext cx="735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我会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and father ____ Englan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英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ve in   B. live on      C. Liv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4"/>
          <p:cNvGrpSpPr/>
          <p:nvPr/>
        </p:nvGrpSpPr>
        <p:grpSpPr>
          <a:xfrm>
            <a:off x="7090920" y="1146240"/>
            <a:ext cx="1710360" cy="368280"/>
            <a:chOff x="7090920" y="1146240"/>
            <a:chExt cx="1710360" cy="368280"/>
          </a:xfrm>
        </p:grpSpPr>
        <p:sp>
          <p:nvSpPr>
            <p:cNvPr id="233" name="矩形 15"/>
            <p:cNvSpPr/>
            <p:nvPr/>
          </p:nvSpPr>
          <p:spPr>
            <a:xfrm>
              <a:off x="7090920" y="1163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17"/>
            <p:cNvSpPr/>
            <p:nvPr/>
          </p:nvSpPr>
          <p:spPr>
            <a:xfrm>
              <a:off x="7147800" y="1146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3"/>
          <p:cNvSpPr/>
          <p:nvPr/>
        </p:nvSpPr>
        <p:spPr>
          <a:xfrm>
            <a:off x="4613400" y="2633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495440" y="3929040"/>
            <a:ext cx="6480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6"/>
          <p:cNvSpPr/>
          <p:nvPr/>
        </p:nvSpPr>
        <p:spPr>
          <a:xfrm>
            <a:off x="2387520" y="392904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ve in…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住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后面跟城市、国家或表示地点的名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032280" y="4599000"/>
            <a:ext cx="38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C:\Users\john\Desktop\1.png"/>
          <p:cNvPicPr/>
          <p:nvPr/>
        </p:nvPicPr>
        <p:blipFill>
          <a:blip r:embed="rId2"/>
          <a:stretch/>
        </p:blipFill>
        <p:spPr>
          <a:xfrm>
            <a:off x="1019160" y="1697040"/>
            <a:ext cx="300024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s://ss1.bdstatic.com/70cFuXSh_Q1YnxGkpoWK1HF6hhy/it/u=2067850284,4223757843&amp;fm=26&amp;gp=0.jpg"/>
          <p:cNvPicPr/>
          <p:nvPr/>
        </p:nvPicPr>
        <p:blipFill>
          <a:blip r:embed="rId3"/>
          <a:stretch/>
        </p:blipFill>
        <p:spPr>
          <a:xfrm>
            <a:off x="4729320" y="1670040"/>
            <a:ext cx="3144600" cy="20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555480" y="1503360"/>
            <a:ext cx="748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栏中选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栏中每个句子所对应的汉语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1. We are a happy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2. Tom is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3. My mother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4. Li Ming is a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5. I live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6. I am 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14"/>
          <p:cNvGrpSpPr/>
          <p:nvPr/>
        </p:nvGrpSpPr>
        <p:grpSpPr>
          <a:xfrm>
            <a:off x="7090920" y="1146240"/>
            <a:ext cx="1710360" cy="368280"/>
            <a:chOff x="7090920" y="1146240"/>
            <a:chExt cx="1710360" cy="368280"/>
          </a:xfrm>
        </p:grpSpPr>
        <p:sp>
          <p:nvSpPr>
            <p:cNvPr id="241" name="矩形 15"/>
            <p:cNvSpPr/>
            <p:nvPr/>
          </p:nvSpPr>
          <p:spPr>
            <a:xfrm>
              <a:off x="7090920" y="1163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7"/>
            <p:cNvSpPr/>
            <p:nvPr/>
          </p:nvSpPr>
          <p:spPr>
            <a:xfrm>
              <a:off x="7147800" y="1146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Box 3"/>
          <p:cNvSpPr/>
          <p:nvPr/>
        </p:nvSpPr>
        <p:spPr>
          <a:xfrm>
            <a:off x="874800" y="2738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871560" y="382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957920" y="2682720"/>
          <a:ext cx="3720960" cy="3382920"/>
        </p:xfrm>
        <a:graphic>
          <a:graphicData uri="http://schemas.openxmlformats.org/drawingml/2006/table">
            <a:tbl>
              <a:tblPr/>
              <a:tblGrid>
                <a:gridCol w="3720960"/>
              </a:tblGrid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个子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汤姆个子矮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李明是一名学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们是一个幸福的家庭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妈妈是一名医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住在中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Box 3"/>
          <p:cNvSpPr/>
          <p:nvPr/>
        </p:nvSpPr>
        <p:spPr>
          <a:xfrm>
            <a:off x="87480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874800" y="4344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93880" y="4925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892080" y="5470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930240" y="103824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930240" y="2768760"/>
            <a:ext cx="5716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 live  China  tall 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型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et Li Ming’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live in Ch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a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 18"/>
          <p:cNvGrpSpPr/>
          <p:nvPr/>
        </p:nvGrpSpPr>
        <p:grpSpPr>
          <a:xfrm>
            <a:off x="-254160" y="4508640"/>
            <a:ext cx="1660680" cy="2216160"/>
            <a:chOff x="-254160" y="4508640"/>
            <a:chExt cx="1660680" cy="2216160"/>
          </a:xfrm>
        </p:grpSpPr>
        <p:pic>
          <p:nvPicPr>
            <p:cNvPr id="25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213120" y="45086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54160" y="51217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矩形 23"/>
          <p:cNvSpPr/>
          <p:nvPr/>
        </p:nvSpPr>
        <p:spPr>
          <a:xfrm>
            <a:off x="1111320" y="1406520"/>
            <a:ext cx="446040" cy="4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1143000" y="3154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1123920" y="48182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81160" y="1087560"/>
            <a:ext cx="6980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词汇和句型，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eet Li Ming’s family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all or short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容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827360" y="119160"/>
            <a:ext cx="6005520" cy="131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789120" y="1828800"/>
            <a:ext cx="559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family. We live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a student. My name is Li 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is a teacher. Hi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Li Daming. My mother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 name is Liu Yun. We are a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5961240" y="2554200"/>
            <a:ext cx="2178000" cy="130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C:\Users\john\Desktop\1.png"/>
          <p:cNvPicPr/>
          <p:nvPr/>
        </p:nvPicPr>
        <p:blipFill>
          <a:blip r:embed="rId5"/>
          <a:stretch/>
        </p:blipFill>
        <p:spPr>
          <a:xfrm>
            <a:off x="6086520" y="2602080"/>
            <a:ext cx="194616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7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7"/>
          <p:cNvSpPr/>
          <p:nvPr/>
        </p:nvSpPr>
        <p:spPr>
          <a:xfrm>
            <a:off x="2955960" y="1603440"/>
            <a:ext cx="34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et Li Ming’s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识李明的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"/>
          <p:cNvGrpSpPr/>
          <p:nvPr/>
        </p:nvGrpSpPr>
        <p:grpSpPr>
          <a:xfrm>
            <a:off x="476280" y="1784520"/>
            <a:ext cx="2336760" cy="666720"/>
            <a:chOff x="476280" y="1784520"/>
            <a:chExt cx="2336760" cy="666720"/>
          </a:xfrm>
        </p:grpSpPr>
        <p:sp>
          <p:nvSpPr>
            <p:cNvPr id="80" name="圆角矩形 18"/>
            <p:cNvSpPr/>
            <p:nvPr/>
          </p:nvSpPr>
          <p:spPr>
            <a:xfrm>
              <a:off x="1020600" y="1878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组合 2"/>
            <p:cNvGrpSpPr/>
            <p:nvPr/>
          </p:nvGrpSpPr>
          <p:grpSpPr>
            <a:xfrm>
              <a:off x="476280" y="1784520"/>
              <a:ext cx="2336760" cy="666720"/>
              <a:chOff x="476280" y="1784520"/>
              <a:chExt cx="2336760" cy="666720"/>
            </a:xfrm>
          </p:grpSpPr>
          <p:sp>
            <p:nvSpPr>
              <p:cNvPr id="82" name="文本框 19"/>
              <p:cNvSpPr/>
              <p:nvPr/>
            </p:nvSpPr>
            <p:spPr>
              <a:xfrm>
                <a:off x="1368360" y="18475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图片 9" descr="book.gif"/>
              <p:cNvPicPr/>
              <p:nvPr/>
            </p:nvPicPr>
            <p:blipFill>
              <a:blip r:embed="rId4"/>
              <a:stretch/>
            </p:blipFill>
            <p:spPr>
              <a:xfrm>
                <a:off x="476280" y="17845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TextBox 8"/>
          <p:cNvSpPr/>
          <p:nvPr/>
        </p:nvSpPr>
        <p:spPr>
          <a:xfrm>
            <a:off x="2376360" y="3116160"/>
            <a:ext cx="598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名词所有格的用法，意思是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李明的”。名词所有格表示所属关系，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”，有下面几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374840" y="337356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8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4160" y="1990800"/>
          <a:ext cx="7842240" cy="3292560"/>
        </p:xfrm>
        <a:graphic>
          <a:graphicData uri="http://schemas.openxmlformats.org/drawingml/2006/table">
            <a:tbl>
              <a:tblPr/>
              <a:tblGrid>
                <a:gridCol w="1995480"/>
                <a:gridCol w="2360520"/>
                <a:gridCol w="34862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用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数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的词尾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ather’s 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爸爸的小汽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复数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的词尾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eachers’ Day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教师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几个人共同拥有的人或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最后一个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或物后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ily and Lucy’s 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莉莉和露西的妈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9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1279440" y="3262320"/>
            <a:ext cx="1244520" cy="459720"/>
            <a:chOff x="1279440" y="3262320"/>
            <a:chExt cx="1244520" cy="459720"/>
          </a:xfrm>
        </p:grpSpPr>
        <p:sp>
          <p:nvSpPr>
            <p:cNvPr id="100" name="TextBox 3"/>
            <p:cNvSpPr/>
            <p:nvPr/>
          </p:nvSpPr>
          <p:spPr>
            <a:xfrm>
              <a:off x="1532160" y="32623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1279440" y="330480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矩形 17"/>
          <p:cNvSpPr/>
          <p:nvPr/>
        </p:nvSpPr>
        <p:spPr>
          <a:xfrm>
            <a:off x="2430360" y="3011400"/>
            <a:ext cx="53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 story books are fu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趣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ly   B. Lilys     C. Li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855880" y="3271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482920" y="2324160"/>
            <a:ext cx="47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n Tao’s legs hurt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林涛的腿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1504800" y="24433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17"/>
          <p:cNvSpPr/>
          <p:nvPr/>
        </p:nvSpPr>
        <p:spPr>
          <a:xfrm>
            <a:off x="3087720" y="1728720"/>
            <a:ext cx="477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live in China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住在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530280" y="1798560"/>
            <a:ext cx="2336760" cy="666720"/>
            <a:chOff x="530280" y="1798560"/>
            <a:chExt cx="2336760" cy="666720"/>
          </a:xfrm>
        </p:grpSpPr>
        <p:sp>
          <p:nvSpPr>
            <p:cNvPr id="111" name="圆角矩形 18"/>
            <p:cNvSpPr/>
            <p:nvPr/>
          </p:nvSpPr>
          <p:spPr>
            <a:xfrm>
              <a:off x="1074600" y="18921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2"/>
            <p:cNvGrpSpPr/>
            <p:nvPr/>
          </p:nvGrpSpPr>
          <p:grpSpPr>
            <a:xfrm>
              <a:off x="530280" y="1798560"/>
              <a:ext cx="2336760" cy="666720"/>
              <a:chOff x="530280" y="1798560"/>
              <a:chExt cx="2336760" cy="666720"/>
            </a:xfrm>
          </p:grpSpPr>
          <p:sp>
            <p:nvSpPr>
              <p:cNvPr id="113" name="文本框 19"/>
              <p:cNvSpPr/>
              <p:nvPr/>
            </p:nvSpPr>
            <p:spPr>
              <a:xfrm>
                <a:off x="1422360" y="186156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530280" y="179856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TextBox 8"/>
          <p:cNvSpPr/>
          <p:nvPr/>
        </p:nvSpPr>
        <p:spPr>
          <a:xfrm>
            <a:off x="2403360" y="3165480"/>
            <a:ext cx="50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od kid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好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1382760" y="32749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2454120" y="3843360"/>
            <a:ext cx="13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i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1411200" y="396720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1407960" y="2446200"/>
            <a:ext cx="3546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/wi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2730600" y="4535640"/>
            <a:ext cx="14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1305000" y="46735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2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7"/>
          <p:cNvSpPr/>
          <p:nvPr/>
        </p:nvSpPr>
        <p:spPr>
          <a:xfrm>
            <a:off x="1054080" y="18730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ve /lɪv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住；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1981080" y="2614680"/>
            <a:ext cx="59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live in a big cit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住在一个大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003320" y="27338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027160" y="3343320"/>
            <a:ext cx="60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ve in..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住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可接国家或城市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19160" y="3448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1464120" y="4211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3314880" y="4110120"/>
            <a:ext cx="12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v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3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7"/>
          <p:cNvSpPr/>
          <p:nvPr/>
        </p:nvSpPr>
        <p:spPr>
          <a:xfrm>
            <a:off x="3551400" y="2092320"/>
            <a:ext cx="31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tʃaɪn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922480" y="2709720"/>
            <a:ext cx="34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ina is a great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是个伟大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1890720" y="29527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955960" y="434016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de in Chin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制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947960" y="444492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4"/>
          <a:stretch/>
        </p:blipFill>
        <p:spPr>
          <a:xfrm>
            <a:off x="1989000" y="2141640"/>
            <a:ext cx="134316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07:03Z</dcterms:modified>
  <cp:revision>9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