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108-BADB-4A01-8BA1-3D8138ED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925-D6D1-473F-8B56-BEC80D8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C94E7-5197-467E-9573-9935EE49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E26C6-4F47-4BD7-B413-64669BDA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0E59D-FA1B-4EC3-AE12-9402C78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6B286-63CB-41AB-9A8C-BA706F9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EB7FD-7C92-4975-8D43-332E790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C4FE-C053-4B9F-8340-875D2B22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E0833-323E-4348-AF0D-5A72E51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298EE-60D0-4300-94FC-40313C17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4DFF2-132E-4E36-B458-EA20CE70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EFE88-17A3-4D4B-AA8D-316877DA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FF9-BD7A-4755-9D94-AB7096D5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5D65D-42E4-42DA-B9F5-AA56050F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20BDC-AD69-468A-8D22-F671E79C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530F-623B-470A-A9A6-B4A73B6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A203F-C743-4167-BCE6-C458A69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7D21-0A59-41B3-8671-C7676CBB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DCE6B-F5D8-4AD7-8C64-37FC35D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9B522-F7DC-45A8-831B-E9940069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C9D85-56CC-4D00-87C2-64B85DA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D6346-0C4E-44CF-AA2C-9BF78B9E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46202-5FCA-4C7D-AD11-B718CF1D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2C4-7CA8-439F-9C6E-5BE0C4DE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E2E71-9160-44FE-817E-A14F0725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240C-C16B-4955-8485-FD80D4C4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FF126-3C9D-4CE3-94AA-FACD429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8850A-5A4F-42C2-A868-DA082D2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C6A3-0473-40C8-A84E-B1E1C2A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17A2-1788-4FB9-B7F8-23698B0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19D3-E6DF-4FB2-8A70-5389DF6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22F4C-4E28-4CE8-8155-403A1A8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DF97D-DE7B-4F08-A8D3-A023344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2DF1-96C8-4F61-B18B-9FB6AAC9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85BC-E670-4F16-BAE0-13311650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932C-78B7-4139-819A-F8C0260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528FC-F7D3-4B60-8960-2CDF7AFE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A87D7-DF13-4B2E-9BE5-ED8D8503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1264-1E95-40A8-B1FA-C1AA999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F445-5A92-47BD-8CA9-53730098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FEEF-C381-4634-B72B-92A61EB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7056-5C7B-4228-9BE2-8B6D52DF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CF4-64B2-417D-B8E2-2A4C2F83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A3F3-4817-452A-A62A-C2B2F9E3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ABB-1BB9-4D72-9FE8-926FC249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EE7-C0BA-4314-9D1F-9275C27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862E-6691-48DD-B223-A0EEBE1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5217-92B7-4E46-A5D4-1112E0C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3D9E-8C7D-4D57-90DD-E9A784E0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42F1-EA3D-4EF8-AA24-ED8CCD0C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0437-E468-4357-8A6C-8FA6EAC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2EA6-DAFD-4CDC-A79F-53F2E93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621F-D82C-4770-8B61-58B88DFD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08F7-D66C-4818-8B13-345BFE1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B444-149D-425E-BDAF-3824652A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73C-D9E7-434F-BB54-629D520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CFAA-A9CC-45C5-B274-C3839156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5DD1-FB5F-4223-91D2-6FAAA072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BB0E-505F-48F3-968D-575C96C4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4619-0D38-49AA-A12B-B32B2D5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58C6-FCC1-4B76-A042-690F88B1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CC3C-0129-48B0-8F24-AB918D79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0EF3-7917-41E9-8C30-38DF1827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012F-A317-4474-83AB-14E639B6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8D02-C894-4723-8B61-28F787B5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0C8F-2AA1-49A9-8691-89977D1A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4AD-217D-4F8B-BC42-BF40E686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05BD-D93A-4D4E-B039-50C00D1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9EE7-E944-46C7-B05C-3F723D6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1ECC-F464-42B8-AD4F-117E9915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279D-625F-4518-83FE-AA5CE88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3594-39A1-4458-939F-F9D21767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ABDE-ED19-4168-B1D6-05FB07BC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9D3E-EA45-42FD-AA13-1D8A302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5880-8BBA-411B-B949-997BC694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A260-6CFB-4F51-A0B3-1C3B3F9F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B01D-3930-4432-A576-5FF0DEEB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C33-59C6-4BE0-A799-8C70B7C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A598-650B-4274-929C-71098517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62CB2-EAD8-49E6-915F-9D983680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59A4-1061-456F-B631-DF0AA7B9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AD98-6F1F-441D-9DD7-A41AF43E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B10C-4394-4B04-8559-0DC9B2F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621D-05D7-415A-9936-3DA730E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D5CC-E831-452C-A60B-AF87247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5A1E-68B8-4EE0-B652-C93EE9E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AD87B-4173-4D0B-93D1-1462870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8814D-9F40-41E8-91B6-D3C57852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D58-53B0-42FD-AC53-09B08D90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9645-C510-427C-AF5C-CD0E7AC0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381FD-281A-42CB-8C94-4FC3783D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43143-9612-4995-B74C-3BF42B0B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226E-6FF5-4589-A74B-FCBB65CC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8E758-CA9A-4E93-B248-F0409211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9B6AB-C491-4509-8533-E98C826F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135A-4A3F-4753-BB0B-7114A858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E4D0-ADEB-4285-A7AA-3F1E67D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5C78-018F-402F-A387-4E9470B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F44E-2019-4E72-8950-0DE90BB8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557-FD2E-4338-95F3-258ADD5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D4D6-1DD5-45B5-821C-2E61171A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D7F5-A798-46D3-AA38-662FC5CC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B2A8-5DE7-467B-A195-B6C24690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040BC-CC1D-41C7-A7D9-EDDC2497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02AF0-B556-4C5F-B14A-B2E9924A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A1FE-008F-4ECC-B096-E20FAD5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BF6E-8493-49DA-B644-CF856D5A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2D2B-7B96-4BD1-9B72-D9D099B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E4D0-4670-4B3E-BD02-61EE31A2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6714B-CA97-44B8-8AC0-E3E34FC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2EB-A590-4134-B350-AD36FBB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E9A8-679F-4764-A0CA-836060A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29FE2-1755-4827-95CA-E846A6F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2F02A-98F8-44EB-BEBB-C1AF450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10603-A432-47FD-A29A-21D804A9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76C35-011A-43BE-A84E-5FC48AB3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D57D9-A375-4361-B52A-080A9EA2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4565C-577B-4179-BC55-F6B4E182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2457-94B7-4A01-A94F-844456C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74F7-4C7E-42BD-9708-380AB1F0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2796-6D2D-41BA-90EC-D45A0EB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900-EE4F-443C-A5A3-39E72BD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865D-F2DE-4677-8553-1BB32127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4EB93-47A7-4C3B-83B6-7AED580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EEF61-8DC9-4287-A44B-FC28D97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1642-9748-44C1-B276-69F123D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612BC-09C4-4DBE-B402-F516902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1CC89-A75F-47BC-BA61-63679B0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E08A-6796-4DCC-A3EA-7CF05266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A1457-0FDB-4F8B-8320-6CB53981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99415-4AD1-4825-8CAE-1CAE865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1BEC2-9F12-4899-AC8A-99564C3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DCD48-9B71-4296-ACB7-6828BC530A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07844-07BB-4C76-8A98-F013FC7928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68E90-25A9-45CE-8D24-8B8C335951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804AB-8B00-43A2-886A-157B8197D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C84A9-A547-4FD4-87B3-1DCF4B7015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CCC9-0108-45CD-B4FA-E5A13400D1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B6FF7-3A41-44ED-9A26-05ABB4E744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7AAAA-8860-4EF9-80EE-DA457D7E4C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7B925-A7F9-4FE2-A927-8CE6570440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C5EEE-E082-42A4-BD0D-378D5CDC31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F4036-84F1-446F-8D3B-4B0F704868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9"/>
          <p:cNvSpPr/>
          <p:nvPr/>
        </p:nvSpPr>
        <p:spPr>
          <a:xfrm>
            <a:off x="0" y="0"/>
            <a:ext cx="92232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5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58" name="TextBox 3"/>
          <p:cNvSpPr/>
          <p:nvPr/>
        </p:nvSpPr>
        <p:spPr>
          <a:xfrm>
            <a:off x="2174760" y="1433520"/>
            <a:ext cx="51339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6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6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文本框 22" descr=""/>
          <p:cNvPicPr/>
          <p:nvPr/>
        </p:nvPicPr>
        <p:blipFill>
          <a:blip r:embed="rId9"/>
          <a:stretch/>
        </p:blipFill>
        <p:spPr>
          <a:xfrm>
            <a:off x="2693880" y="4552920"/>
            <a:ext cx="64501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4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2708280" y="2881440"/>
            <a:ext cx="555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art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复数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artie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不是直接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rt 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1108800" y="3890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整体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1"/>
          <p:cNvGrpSpPr/>
          <p:nvPr/>
        </p:nvGrpSpPr>
        <p:grpSpPr>
          <a:xfrm>
            <a:off x="1123920" y="1752480"/>
            <a:ext cx="1806480" cy="1514520"/>
            <a:chOff x="1123920" y="1752480"/>
            <a:chExt cx="1806480" cy="1514520"/>
          </a:xfrm>
        </p:grpSpPr>
        <p:pic>
          <p:nvPicPr>
            <p:cNvPr id="546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123920" y="175248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文本框 2"/>
            <p:cNvSpPr/>
            <p:nvPr/>
          </p:nvSpPr>
          <p:spPr>
            <a:xfrm>
              <a:off x="1630440" y="21056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文本框 8" descr=""/>
          <p:cNvPicPr/>
          <p:nvPr/>
        </p:nvPicPr>
        <p:blipFill>
          <a:blip r:embed="rId1"/>
          <a:stretch/>
        </p:blipFill>
        <p:spPr>
          <a:xfrm>
            <a:off x="2847960" y="138240"/>
            <a:ext cx="3373560" cy="761760"/>
          </a:xfrm>
          <a:prstGeom prst="rect">
            <a:avLst/>
          </a:prstGeom>
          <a:ln w="0">
            <a:noFill/>
          </a:ln>
        </p:spPr>
      </p:pic>
      <p:sp>
        <p:nvSpPr>
          <p:cNvPr id="549" name="矩形 14"/>
          <p:cNvSpPr/>
          <p:nvPr/>
        </p:nvSpPr>
        <p:spPr>
          <a:xfrm>
            <a:off x="5751360" y="2238480"/>
            <a:ext cx="2605320" cy="181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"/>
          <p:cNvSpPr/>
          <p:nvPr/>
        </p:nvSpPr>
        <p:spPr>
          <a:xfrm>
            <a:off x="1170000" y="1639800"/>
            <a:ext cx="4322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 algn="ctr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y Birth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 algn="ctr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birthday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 algn="ctr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birthday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 algn="ctr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birthday, dear Je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 algn="ctr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birthday to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" descr=""/>
          <p:cNvPicPr/>
          <p:nvPr/>
        </p:nvPicPr>
        <p:blipFill>
          <a:blip r:embed="rId2"/>
          <a:stretch/>
        </p:blipFill>
        <p:spPr>
          <a:xfrm>
            <a:off x="5867280" y="2355840"/>
            <a:ext cx="23749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文本框 8" descr=""/>
          <p:cNvPicPr/>
          <p:nvPr/>
        </p:nvPicPr>
        <p:blipFill>
          <a:blip r:embed="rId1"/>
          <a:stretch/>
        </p:blipFill>
        <p:spPr>
          <a:xfrm>
            <a:off x="1857240" y="131760"/>
            <a:ext cx="6104160" cy="83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1" descr=""/>
          <p:cNvPicPr/>
          <p:nvPr/>
        </p:nvPicPr>
        <p:blipFill>
          <a:blip r:embed="rId2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2" descr=""/>
          <p:cNvPicPr/>
          <p:nvPr/>
        </p:nvPicPr>
        <p:blipFill>
          <a:blip r:embed="rId3"/>
          <a:stretch/>
        </p:blipFill>
        <p:spPr>
          <a:xfrm>
            <a:off x="6548400" y="5130720"/>
            <a:ext cx="85680" cy="162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2" descr=""/>
          <p:cNvPicPr/>
          <p:nvPr/>
        </p:nvPicPr>
        <p:blipFill>
          <a:blip r:embed="rId4"/>
          <a:stretch/>
        </p:blipFill>
        <p:spPr>
          <a:xfrm>
            <a:off x="6700680" y="5283360"/>
            <a:ext cx="86040" cy="161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2" descr=""/>
          <p:cNvPicPr/>
          <p:nvPr/>
        </p:nvPicPr>
        <p:blipFill>
          <a:blip r:embed="rId5"/>
          <a:stretch/>
        </p:blipFill>
        <p:spPr>
          <a:xfrm>
            <a:off x="6610320" y="5019840"/>
            <a:ext cx="117360" cy="223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2" descr=""/>
          <p:cNvPicPr/>
          <p:nvPr/>
        </p:nvPicPr>
        <p:blipFill>
          <a:blip r:embed="rId6"/>
          <a:stretch/>
        </p:blipFill>
        <p:spPr>
          <a:xfrm>
            <a:off x="7034040" y="5035680"/>
            <a:ext cx="86040" cy="1616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2" descr=""/>
          <p:cNvPicPr/>
          <p:nvPr/>
        </p:nvPicPr>
        <p:blipFill>
          <a:blip r:embed="rId7"/>
          <a:stretch/>
        </p:blipFill>
        <p:spPr>
          <a:xfrm>
            <a:off x="6434280" y="5002200"/>
            <a:ext cx="81000" cy="1522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2" descr=""/>
          <p:cNvPicPr/>
          <p:nvPr/>
        </p:nvPicPr>
        <p:blipFill>
          <a:blip r:embed="rId8"/>
          <a:stretch/>
        </p:blipFill>
        <p:spPr>
          <a:xfrm>
            <a:off x="6458040" y="4973760"/>
            <a:ext cx="15228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1" name="文本框 17"/>
          <p:cNvSpPr/>
          <p:nvPr/>
        </p:nvSpPr>
        <p:spPr>
          <a:xfrm>
            <a:off x="2943720" y="1373040"/>
            <a:ext cx="40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单词中的发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圆角矩形 18"/>
          <p:cNvSpPr/>
          <p:nvPr/>
        </p:nvSpPr>
        <p:spPr>
          <a:xfrm>
            <a:off x="679320" y="1471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9"/>
          <p:cNvSpPr/>
          <p:nvPr/>
        </p:nvSpPr>
        <p:spPr>
          <a:xfrm>
            <a:off x="1062000" y="14526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9" descr="book.gif"/>
          <p:cNvPicPr/>
          <p:nvPr/>
        </p:nvPicPr>
        <p:blipFill>
          <a:blip r:embed="rId2"/>
          <a:stretch/>
        </p:blipFill>
        <p:spPr>
          <a:xfrm>
            <a:off x="61920" y="1362240"/>
            <a:ext cx="1087560" cy="666720"/>
          </a:xfrm>
          <a:prstGeom prst="rect">
            <a:avLst/>
          </a:prstGeom>
          <a:ln w="0">
            <a:noFill/>
          </a:ln>
        </p:spPr>
      </p:pic>
      <p:pic>
        <p:nvPicPr>
          <p:cNvPr id="567" name="表格 1" descr=""/>
          <p:cNvPicPr/>
          <p:nvPr/>
        </p:nvPicPr>
        <p:blipFill>
          <a:blip r:embed="rId3"/>
          <a:stretch/>
        </p:blipFill>
        <p:spPr>
          <a:xfrm>
            <a:off x="1428840" y="2239920"/>
            <a:ext cx="6994440" cy="34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表格 1" descr=""/>
          <p:cNvPicPr/>
          <p:nvPr/>
        </p:nvPicPr>
        <p:blipFill>
          <a:blip r:embed="rId2"/>
          <a:stretch/>
        </p:blipFill>
        <p:spPr>
          <a:xfrm>
            <a:off x="1397160" y="1593720"/>
            <a:ext cx="617832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"/>
          <p:cNvSpPr/>
          <p:nvPr/>
        </p:nvSpPr>
        <p:spPr>
          <a:xfrm>
            <a:off x="820800" y="1494000"/>
            <a:ext cx="7883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birthday, Li H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—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am.     B. You are happy, too.      C.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多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是王老师的生日，上课之前你想送上生日祝福，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这样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happy you are!          B. Happy birthday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appy birthday to you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1969920" y="2436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576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2"/>
          <p:cNvSpPr/>
          <p:nvPr/>
        </p:nvSpPr>
        <p:spPr>
          <a:xfrm>
            <a:off x="2714760" y="45705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2019240" y="5113440"/>
            <a:ext cx="4106880" cy="64584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6" descr="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"/>
          <p:cNvSpPr/>
          <p:nvPr/>
        </p:nvSpPr>
        <p:spPr>
          <a:xfrm>
            <a:off x="915840" y="1576440"/>
            <a:ext cx="575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给句子排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appy birthday to yo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c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day is my birth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hanks. How nice it 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 L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gift is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2205000" y="5176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58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Box 2"/>
          <p:cNvSpPr/>
          <p:nvPr/>
        </p:nvSpPr>
        <p:spPr>
          <a:xfrm>
            <a:off x="3317760" y="5172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4440240" y="5170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5541840" y="5164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"/>
          <p:cNvSpPr/>
          <p:nvPr/>
        </p:nvSpPr>
        <p:spPr>
          <a:xfrm>
            <a:off x="915840" y="1576440"/>
            <a:ext cx="607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把泡泡里的单词按画线部分发音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592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矩形 2"/>
          <p:cNvSpPr/>
          <p:nvPr/>
        </p:nvSpPr>
        <p:spPr>
          <a:xfrm>
            <a:off x="4689360" y="2660760"/>
            <a:ext cx="377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k/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ɡ/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f/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v/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iː/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2"/>
          <a:stretch/>
        </p:blipFill>
        <p:spPr>
          <a:xfrm>
            <a:off x="944640" y="2470320"/>
            <a:ext cx="3657600" cy="3038400"/>
          </a:xfrm>
          <a:prstGeom prst="rect">
            <a:avLst/>
          </a:prstGeom>
          <a:ln w="0">
            <a:noFill/>
          </a:ln>
        </p:spPr>
      </p:pic>
      <p:sp>
        <p:nvSpPr>
          <p:cNvPr id="596" name="TextBox 2"/>
          <p:cNvSpPr/>
          <p:nvPr/>
        </p:nvSpPr>
        <p:spPr>
          <a:xfrm>
            <a:off x="5641920" y="276696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o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2"/>
          <p:cNvSpPr/>
          <p:nvPr/>
        </p:nvSpPr>
        <p:spPr>
          <a:xfrm>
            <a:off x="5668920" y="32702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r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"/>
          <p:cNvSpPr/>
          <p:nvPr/>
        </p:nvSpPr>
        <p:spPr>
          <a:xfrm>
            <a:off x="5683320" y="38559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5711760" y="4422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5710320" y="493704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2" name="TextBox 3"/>
          <p:cNvSpPr/>
          <p:nvPr/>
        </p:nvSpPr>
        <p:spPr>
          <a:xfrm>
            <a:off x="1009800" y="1393920"/>
            <a:ext cx="7130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"/>
          <p:cNvSpPr/>
          <p:nvPr/>
        </p:nvSpPr>
        <p:spPr>
          <a:xfrm>
            <a:off x="1033560" y="2665440"/>
            <a:ext cx="763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, cake,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 cake, birthday gifts, birthday party, have 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birthday to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n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5" name="矩形 23"/>
          <p:cNvSpPr/>
          <p:nvPr/>
        </p:nvSpPr>
        <p:spPr>
          <a:xfrm>
            <a:off x="797040" y="166536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4"/>
          <p:cNvSpPr/>
          <p:nvPr/>
        </p:nvSpPr>
        <p:spPr>
          <a:xfrm>
            <a:off x="797040" y="33577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5"/>
          <p:cNvSpPr/>
          <p:nvPr/>
        </p:nvSpPr>
        <p:spPr>
          <a:xfrm>
            <a:off x="785880" y="4486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"/>
          <p:cNvSpPr/>
          <p:nvPr/>
        </p:nvSpPr>
        <p:spPr>
          <a:xfrm>
            <a:off x="812880" y="1521000"/>
            <a:ext cx="776916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句型、短语和单词，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ts val="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’ s birthday part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话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"/>
          <p:cNvPicPr/>
          <p:nvPr/>
        </p:nvPicPr>
        <p:blipFill>
          <a:blip r:embed="rId2"/>
          <a:stretch/>
        </p:blipFill>
        <p:spPr>
          <a:xfrm>
            <a:off x="2236680" y="1695600"/>
            <a:ext cx="4648320" cy="3122640"/>
          </a:xfrm>
          <a:prstGeom prst="rect">
            <a:avLst/>
          </a:prstGeom>
          <a:ln w="0">
            <a:noFill/>
          </a:ln>
        </p:spPr>
      </p:pic>
      <p:sp>
        <p:nvSpPr>
          <p:cNvPr id="473" name="文本框 17"/>
          <p:cNvSpPr/>
          <p:nvPr/>
        </p:nvSpPr>
        <p:spPr>
          <a:xfrm>
            <a:off x="2399400" y="513072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can you see in the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4"/>
          <p:cNvSpPr/>
          <p:nvPr/>
        </p:nvSpPr>
        <p:spPr>
          <a:xfrm>
            <a:off x="0" y="0"/>
            <a:ext cx="92296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1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14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4"/>
          <p:cNvSpPr/>
          <p:nvPr/>
        </p:nvSpPr>
        <p:spPr>
          <a:xfrm>
            <a:off x="5877000" y="2019240"/>
            <a:ext cx="2959200" cy="23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文本框 8" descr=""/>
          <p:cNvPicPr/>
          <p:nvPr/>
        </p:nvPicPr>
        <p:blipFill>
          <a:blip r:embed="rId1"/>
          <a:stretch/>
        </p:blipFill>
        <p:spPr>
          <a:xfrm>
            <a:off x="1749600" y="244440"/>
            <a:ext cx="6443640" cy="714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"/>
          <p:cNvPicPr/>
          <p:nvPr/>
        </p:nvPicPr>
        <p:blipFill>
          <a:blip r:embed="rId2"/>
          <a:stretch/>
        </p:blipFill>
        <p:spPr>
          <a:xfrm>
            <a:off x="6010200" y="2182680"/>
            <a:ext cx="2694240" cy="1990800"/>
          </a:xfrm>
          <a:prstGeom prst="rect">
            <a:avLst/>
          </a:prstGeom>
          <a:ln w="0">
            <a:noFill/>
          </a:ln>
        </p:spPr>
      </p:pic>
      <p:sp>
        <p:nvSpPr>
          <p:cNvPr id="477" name="矩形 1"/>
          <p:cNvSpPr/>
          <p:nvPr/>
        </p:nvSpPr>
        <p:spPr>
          <a:xfrm>
            <a:off x="1328760" y="976320"/>
            <a:ext cx="47052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birthday, Je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birthday, Je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ten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w, a birthday cak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ift is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8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nks. How n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479" name="圆角矩形 18"/>
          <p:cNvSpPr/>
          <p:nvPr/>
        </p:nvSpPr>
        <p:spPr>
          <a:xfrm>
            <a:off x="631800" y="1569960"/>
            <a:ext cx="1778040" cy="4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9"/>
          <p:cNvSpPr/>
          <p:nvPr/>
        </p:nvSpPr>
        <p:spPr>
          <a:xfrm>
            <a:off x="992160" y="156204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9" descr="book.gif"/>
          <p:cNvPicPr/>
          <p:nvPr/>
        </p:nvPicPr>
        <p:blipFill>
          <a:blip r:embed="rId2"/>
          <a:stretch/>
        </p:blipFill>
        <p:spPr>
          <a:xfrm>
            <a:off x="-92160" y="1322280"/>
            <a:ext cx="1143000" cy="70164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17"/>
          <p:cNvSpPr/>
          <p:nvPr/>
        </p:nvSpPr>
        <p:spPr>
          <a:xfrm>
            <a:off x="1315800" y="2482920"/>
            <a:ext cx="409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birthday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/ bɜːθdeɪ/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名词）生日［三会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"/>
          <p:cNvSpPr/>
          <p:nvPr/>
        </p:nvSpPr>
        <p:spPr>
          <a:xfrm>
            <a:off x="1360440" y="430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9"/>
          <p:cNvSpPr/>
          <p:nvPr/>
        </p:nvSpPr>
        <p:spPr>
          <a:xfrm>
            <a:off x="2206800" y="2938320"/>
            <a:ext cx="63878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oday is my birthday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是我的生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出生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da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天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 birthda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生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 cak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日蛋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 gift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日礼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 part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日聚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"/>
          <p:cNvSpPr/>
          <p:nvPr/>
        </p:nvSpPr>
        <p:spPr>
          <a:xfrm>
            <a:off x="1366920" y="31431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8"/>
          <p:cNvSpPr/>
          <p:nvPr/>
        </p:nvSpPr>
        <p:spPr>
          <a:xfrm>
            <a:off x="-907560" y="3759120"/>
            <a:ext cx="44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63560" indent="-166356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黑体"/>
              </a:rPr>
              <a:t>整体记忆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7"/>
          <p:cNvSpPr/>
          <p:nvPr/>
        </p:nvSpPr>
        <p:spPr>
          <a:xfrm>
            <a:off x="2409840" y="1479600"/>
            <a:ext cx="618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Happy birthda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Jenny!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詹妮，生日快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Thank you!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谢谢你们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!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［重点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49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7"/>
          <p:cNvSpPr/>
          <p:nvPr/>
        </p:nvSpPr>
        <p:spPr>
          <a:xfrm>
            <a:off x="1350720" y="1719360"/>
            <a:ext cx="46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生日祝福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appy birthday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！生日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"/>
          <p:cNvSpPr/>
          <p:nvPr/>
        </p:nvSpPr>
        <p:spPr>
          <a:xfrm>
            <a:off x="870480" y="255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9"/>
          <p:cNvSpPr/>
          <p:nvPr/>
        </p:nvSpPr>
        <p:spPr>
          <a:xfrm>
            <a:off x="1674720" y="243828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句常用的生日祝福语，当要具体说明祝某人生日快乐时， 可以用句型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birthday to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回应别人的祝福时，用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 you!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谢谢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或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谢谢！）来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birthday to you!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祝你生日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933840" y="473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498" name="圆角矩形 18"/>
          <p:cNvSpPr/>
          <p:nvPr/>
        </p:nvSpPr>
        <p:spPr>
          <a:xfrm>
            <a:off x="631800" y="17827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9"/>
          <p:cNvSpPr/>
          <p:nvPr/>
        </p:nvSpPr>
        <p:spPr>
          <a:xfrm>
            <a:off x="992160" y="17845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9" descr="book.gif"/>
          <p:cNvPicPr/>
          <p:nvPr/>
        </p:nvPicPr>
        <p:blipFill>
          <a:blip r:embed="rId2"/>
          <a:stretch/>
        </p:blipFill>
        <p:spPr>
          <a:xfrm>
            <a:off x="-36360" y="1547640"/>
            <a:ext cx="1087200" cy="667080"/>
          </a:xfrm>
          <a:prstGeom prst="rect">
            <a:avLst/>
          </a:prstGeom>
          <a:ln w="0">
            <a:noFill/>
          </a:ln>
        </p:spPr>
      </p:pic>
      <p:sp>
        <p:nvSpPr>
          <p:cNvPr id="503" name="矩形 1"/>
          <p:cNvSpPr/>
          <p:nvPr/>
        </p:nvSpPr>
        <p:spPr>
          <a:xfrm>
            <a:off x="1324440" y="2717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89080" y="270504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cake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蛋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"/>
          <p:cNvSpPr/>
          <p:nvPr/>
        </p:nvSpPr>
        <p:spPr>
          <a:xfrm>
            <a:off x="1329120" y="33814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1"/>
          <p:cNvSpPr/>
          <p:nvPr/>
        </p:nvSpPr>
        <p:spPr>
          <a:xfrm>
            <a:off x="2174760" y="337824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 cak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日蛋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5"/>
          <p:cNvSpPr/>
          <p:nvPr/>
        </p:nvSpPr>
        <p:spPr>
          <a:xfrm>
            <a:off x="1327680" y="4049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2174760" y="4033800"/>
            <a:ext cx="14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7"/>
          <p:cNvSpPr/>
          <p:nvPr/>
        </p:nvSpPr>
        <p:spPr>
          <a:xfrm>
            <a:off x="2452680" y="1619280"/>
            <a:ext cx="50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k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keɪk/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名词）蛋糕［三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17"/>
          <p:cNvSpPr/>
          <p:nvPr/>
        </p:nvSpPr>
        <p:spPr>
          <a:xfrm>
            <a:off x="3276360" y="13572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nice!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多漂亮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圆角矩形 18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9"/>
          <p:cNvSpPr/>
          <p:nvPr/>
        </p:nvSpPr>
        <p:spPr>
          <a:xfrm>
            <a:off x="1297080" y="146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2295360" y="2146320"/>
            <a:ext cx="661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谓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句型是用来表达喜、怒、哀、乐等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感叹句，意思是“多么……啊！”这里省略了主语和谓语，完整句型是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nice it is!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518" name="矩形 1"/>
          <p:cNvSpPr/>
          <p:nvPr/>
        </p:nvSpPr>
        <p:spPr>
          <a:xfrm>
            <a:off x="1432440" y="239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"/>
          <p:cNvSpPr/>
          <p:nvPr/>
        </p:nvSpPr>
        <p:spPr>
          <a:xfrm>
            <a:off x="1429200" y="312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2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2027160" y="1784520"/>
            <a:ext cx="661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tall your father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爸爸个子多么高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fast the boy ru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男孩跑得多么快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3"/>
          <p:cNvSpPr/>
          <p:nvPr/>
        </p:nvSpPr>
        <p:spPr>
          <a:xfrm>
            <a:off x="1124280" y="203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6"/>
          <p:cNvGrpSpPr/>
          <p:nvPr/>
        </p:nvGrpSpPr>
        <p:grpSpPr>
          <a:xfrm>
            <a:off x="984240" y="3878280"/>
            <a:ext cx="1244520" cy="459720"/>
            <a:chOff x="984240" y="3878280"/>
            <a:chExt cx="1244520" cy="459720"/>
          </a:xfrm>
        </p:grpSpPr>
        <p:sp>
          <p:nvSpPr>
            <p:cNvPr id="526" name="TextBox 3"/>
            <p:cNvSpPr/>
            <p:nvPr/>
          </p:nvSpPr>
          <p:spPr>
            <a:xfrm>
              <a:off x="1236960" y="38782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84240" y="393804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矩形 2"/>
          <p:cNvSpPr/>
          <p:nvPr/>
        </p:nvSpPr>
        <p:spPr>
          <a:xfrm>
            <a:off x="2246400" y="3638520"/>
            <a:ext cx="61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nice the dr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连衣裙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    B. How much       C.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6"/>
          <p:cNvSpPr/>
          <p:nvPr/>
        </p:nvSpPr>
        <p:spPr>
          <a:xfrm>
            <a:off x="2517840" y="3916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17"/>
          <p:cNvSpPr/>
          <p:nvPr/>
        </p:nvSpPr>
        <p:spPr>
          <a:xfrm>
            <a:off x="3618720" y="1573200"/>
            <a:ext cx="46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arty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pɑːti/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名词）聚会；宴会［三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圆角矩形 18"/>
          <p:cNvSpPr/>
          <p:nvPr/>
        </p:nvSpPr>
        <p:spPr>
          <a:xfrm>
            <a:off x="973080" y="16495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9"/>
          <p:cNvSpPr/>
          <p:nvPr/>
        </p:nvSpPr>
        <p:spPr>
          <a:xfrm>
            <a:off x="1297080" y="16416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2378160" y="2455920"/>
            <a:ext cx="5553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ill have a big party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天我们将举办一个大聚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a par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举办一个聚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irthday par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日聚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9" descr="book.gif"/>
          <p:cNvPicPr/>
          <p:nvPr/>
        </p:nvPicPr>
        <p:blipFill>
          <a:blip r:embed="rId2"/>
          <a:stretch/>
        </p:blipFill>
        <p:spPr>
          <a:xfrm>
            <a:off x="231840" y="152244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538" name="矩形 2"/>
          <p:cNvSpPr/>
          <p:nvPr/>
        </p:nvSpPr>
        <p:spPr>
          <a:xfrm>
            <a:off x="1564920" y="2643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"/>
          <p:cNvSpPr/>
          <p:nvPr/>
        </p:nvSpPr>
        <p:spPr>
          <a:xfrm>
            <a:off x="1539360" y="3959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09:27Z</dcterms:modified>
  <cp:revision>6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