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11.jpeg" ContentType="image/jpeg"/>
  <Override PartName="/ppt/media/image7.gif" ContentType="image/gif"/>
  <Override PartName="/ppt/media/image8.gif" ContentType="image/gif"/>
  <Override PartName="/ppt/media/image9.gif" ContentType="image/gif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3358-1803-4CF5-8485-A5DAA1232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46AA-B385-45A5-A920-C9E1D1EB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E61D-C3EF-49F0-A45D-6FA638908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E96A-F7A3-4C5B-A68A-A42086700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D319-1CA2-45F1-A770-DD656C80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4216-928B-4DF6-A2A4-FDD5492B3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4C60-B87D-41EC-959B-5EDD50F83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4B71-5B09-46A0-AB84-06921E3F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EE30-F798-4540-9E78-00781AF2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C545-879A-4297-9103-EB5DB98F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F03F-F585-4256-83EE-21F1A64B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F99C-14F1-47A7-B1D7-6763D23C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2EEF-3DA7-44DF-B31C-64671A598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" Target="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WordArt 2" descr=""/>
          <p:cNvPicPr/>
          <p:nvPr/>
        </p:nvPicPr>
        <p:blipFill>
          <a:blip r:embed="rId1"/>
          <a:stretch/>
        </p:blipFill>
        <p:spPr>
          <a:xfrm>
            <a:off x="463680" y="396720"/>
            <a:ext cx="5979960" cy="27972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1752480" y="3429000"/>
            <a:ext cx="5639040" cy="58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除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还有很多问候的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zhu and sun"/>
          <p:cNvPicPr/>
          <p:nvPr/>
        </p:nvPicPr>
        <p:blipFill>
          <a:blip r:embed="rId1"/>
          <a:stretch/>
        </p:blipFill>
        <p:spPr>
          <a:xfrm>
            <a:off x="755640" y="566640"/>
            <a:ext cx="7632720" cy="572472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3"/>
          <p:cNvSpPr/>
          <p:nvPr/>
        </p:nvSpPr>
        <p:spPr>
          <a:xfrm>
            <a:off x="2771640" y="765000"/>
            <a:ext cx="3961080" cy="1081440"/>
          </a:xfrm>
          <a:prstGeom prst="wedgeEllipseCallout">
            <a:avLst>
              <a:gd name="adj1" fmla="val -21180"/>
              <a:gd name="adj2" fmla="val 101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lo, M r Zhu .How are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6227640" y="1844640"/>
            <a:ext cx="2521080" cy="576360"/>
          </a:xfrm>
          <a:prstGeom prst="wedgeRectCallout">
            <a:avLst>
              <a:gd name="adj1" fmla="val -42254"/>
              <a:gd name="adj2" fmla="val 1318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e, thank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3348000" y="620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"/>
          <p:cNvPicPr/>
          <p:nvPr/>
        </p:nvPicPr>
        <p:blipFill>
          <a:blip r:embed="rId3"/>
          <a:stretch/>
        </p:blipFill>
        <p:spPr>
          <a:xfrm>
            <a:off x="7380360" y="2421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300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i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553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1219320" y="4800600"/>
            <a:ext cx="2133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609480" y="495288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are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5638680" y="51055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’m fine. Thank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71080" cy="6953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flowerdivwht"/>
          <p:cNvPicPr/>
          <p:nvPr/>
        </p:nvPicPr>
        <p:blipFill>
          <a:blip r:embed="rId2"/>
          <a:stretch/>
        </p:blipFill>
        <p:spPr>
          <a:xfrm>
            <a:off x="1523880" y="255600"/>
            <a:ext cx="5639040" cy="582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289080" y="754200"/>
            <a:ext cx="3346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29680" y="12193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458640" y="3733920"/>
            <a:ext cx="28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rose4.gif (8400 字节)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623000" y="5189400"/>
            <a:ext cx="1521000" cy="1668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gif004.gif"/>
          <p:cNvPicPr/>
          <p:nvPr/>
        </p:nvPicPr>
        <p:blipFill>
          <a:blip r:embed="rId5"/>
          <a:stretch/>
        </p:blipFill>
        <p:spPr>
          <a:xfrm>
            <a:off x="2556000" y="3068640"/>
            <a:ext cx="3174840" cy="3395520"/>
          </a:xfrm>
          <a:prstGeom prst="rect">
            <a:avLst/>
          </a:prstGeom>
          <a:ln w="0">
            <a:noFill/>
          </a:ln>
        </p:spPr>
      </p:pic>
      <p:sp>
        <p:nvSpPr>
          <p:cNvPr id="59" name="AutoShape 9"/>
          <p:cNvSpPr/>
          <p:nvPr/>
        </p:nvSpPr>
        <p:spPr>
          <a:xfrm>
            <a:off x="4716360" y="2060640"/>
            <a:ext cx="3888000" cy="1439640"/>
          </a:xfrm>
          <a:prstGeom prst="cloudCallout">
            <a:avLst>
              <a:gd name="adj1" fmla="val -50694"/>
              <a:gd name="adj2" fmla="val 1100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Fine, thank you. And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101695_x6"/>
          <p:cNvPicPr/>
          <p:nvPr/>
        </p:nvPicPr>
        <p:blipFill>
          <a:blip r:embed="rId6"/>
          <a:srcRect l="0" t="10020" r="6463" b="0"/>
          <a:stretch/>
        </p:blipFill>
        <p:spPr>
          <a:xfrm>
            <a:off x="0" y="0"/>
            <a:ext cx="3564000" cy="257976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11"/>
          <p:cNvSpPr/>
          <p:nvPr/>
        </p:nvSpPr>
        <p:spPr>
          <a:xfrm>
            <a:off x="3419640" y="0"/>
            <a:ext cx="4752720" cy="792000"/>
          </a:xfrm>
          <a:prstGeom prst="wedgeRoundRectCallout">
            <a:avLst>
              <a:gd name="adj1" fmla="val -45925"/>
              <a:gd name="adj2" fmla="val 13476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Hello, Mickey. How are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2"/>
          <p:cNvSpPr/>
          <p:nvPr/>
        </p:nvSpPr>
        <p:spPr>
          <a:xfrm>
            <a:off x="3780000" y="1125360"/>
            <a:ext cx="3095640" cy="432000"/>
          </a:xfrm>
          <a:prstGeom prst="wedgeRoundRectCallout">
            <a:avLst>
              <a:gd name="adj1" fmla="val -51435"/>
              <a:gd name="adj2" fmla="val 8382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I’m fine, to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边框大全"/>
          <p:cNvPicPr/>
          <p:nvPr/>
        </p:nvPicPr>
        <p:blipFill>
          <a:blip r:embed="rId1"/>
          <a:stretch/>
        </p:blipFill>
        <p:spPr>
          <a:xfrm>
            <a:off x="395280" y="620640"/>
            <a:ext cx="8424720" cy="56167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3635280" y="1916280"/>
            <a:ext cx="28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3492360" y="1628640"/>
            <a:ext cx="34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w Cen MT"/>
              </a:rPr>
              <a:t>Hello, How are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771640" y="2565360"/>
            <a:ext cx="482472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Hello !Hello! How are you? Hello !Hello! How are you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’m fine ,thank you. I’m fine, thank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周文娟</cp:lastModifiedBy>
  <dcterms:modified xsi:type="dcterms:W3CDTF">2014-07-10T07:40:3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