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48F-CD1B-4FB9-A6C9-B1D7C191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56B-43E4-4660-9739-7359F9C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78D-63F9-49E2-9BE1-10A3106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BBC-EE6F-4807-A251-BB72EB9D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D32-C2D6-40AA-8E3F-462DD02B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926-2387-432E-9DE8-87AF909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96A-7BF3-4E93-9CA4-A3AFBA04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6AF-6428-4FF6-BCD2-867CA7C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7A6-8967-4F4A-B0C9-A4FB992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276-6345-437F-8CB7-7FAB5AE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046-753C-4D23-9C66-4F73A74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E53-69FE-49E7-B655-6387343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C97-D833-463D-ABAD-3E4B0531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19640" y="12682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403280" y="306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15   Left  and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ast-ep-a71-1211766"/>
          <p:cNvPicPr/>
          <p:nvPr/>
        </p:nvPicPr>
        <p:blipFill>
          <a:blip r:embed="rId1"/>
          <a:stretch/>
        </p:blipFill>
        <p:spPr>
          <a:xfrm>
            <a:off x="3851280" y="2637000"/>
            <a:ext cx="1619280" cy="1504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59280" y="342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35640" y="342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3635280" y="357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 flipV="1">
            <a:off x="5076720" y="3428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24000" y="1628280"/>
            <a:ext cx="43927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lef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righ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hand, right h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p,clap,c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left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,left,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right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right ,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,go,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2627280" y="1989000"/>
            <a:ext cx="4249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ay the chant to your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Share the chant with your family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796000" y="1484280"/>
            <a:ext cx="2016000" cy="936720"/>
          </a:xfrm>
          <a:prstGeom prst="wedgeRectCallout">
            <a:avLst>
              <a:gd name="adj1" fmla="val -53462"/>
              <a:gd name="adj2" fmla="val 91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411280" y="321300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e  you l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2 -0.05528 C 0.00643 -0.09021 0.03958 -0.14018 0.07899 -0.14018 C 0.13733 -0.14018 0.18472 -0.08836 0.18472 -0.0222 C 0.18472 -0.00115 0.17986 0.01851 0.17014 0.03632 C 0.17205 0.03632 -0.01232 0.29841 -0.01232 0.30072 C -0.01232 0.29841 -0.1967 0.03632 -0.19496 0.03632 C -0.20451 0.01851 -0.20903 -0.00115 -0.20903 -0.0222 C -0.20903 -0.08836 -0.16198 -0.14018 -0.10208 -0.14018 C -0.06441 -0.14018 -0.03107 -0.09021 -0.01232 -0.05528 Z">
                                      <p:cBhvr>
                                        <p:cTn id="9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 rot="10800000">
            <a:off x="1370880" y="1413000"/>
            <a:ext cx="11127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015"/>
          <p:cNvPicPr/>
          <p:nvPr/>
        </p:nvPicPr>
        <p:blipFill>
          <a:blip r:embed="rId1"/>
          <a:stretch/>
        </p:blipFill>
        <p:spPr>
          <a:xfrm>
            <a:off x="1835280" y="836640"/>
            <a:ext cx="4824360" cy="3529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6948360" y="206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H="1" flipV="1">
            <a:off x="5724000" y="2276280"/>
            <a:ext cx="1295640" cy="144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24"/>
          <p:cNvPicPr/>
          <p:nvPr/>
        </p:nvPicPr>
        <p:blipFill>
          <a:blip r:embed="rId1"/>
          <a:stretch/>
        </p:blipFill>
        <p:spPr>
          <a:xfrm>
            <a:off x="2816280" y="765000"/>
            <a:ext cx="2289240" cy="3473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979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2556000" y="206064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2-15446565"/>
          <p:cNvPicPr/>
          <p:nvPr/>
        </p:nvPicPr>
        <p:blipFill>
          <a:blip r:embed="rId1"/>
          <a:stretch/>
        </p:blipFill>
        <p:spPr>
          <a:xfrm>
            <a:off x="3232080" y="2619360"/>
            <a:ext cx="1878120" cy="2825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763640" y="3860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2987640" y="4076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2-33147477"/>
          <p:cNvPicPr/>
          <p:nvPr/>
        </p:nvPicPr>
        <p:blipFill>
          <a:blip r:embed="rId1"/>
          <a:stretch/>
        </p:blipFill>
        <p:spPr>
          <a:xfrm>
            <a:off x="2556000" y="2136600"/>
            <a:ext cx="3960720" cy="263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859280" y="155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4859280" y="2060640"/>
            <a:ext cx="433440" cy="43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080"/>
          <p:cNvPicPr/>
          <p:nvPr/>
        </p:nvPicPr>
        <p:blipFill>
          <a:blip r:embed="rId1"/>
          <a:stretch/>
        </p:blipFill>
        <p:spPr>
          <a:xfrm>
            <a:off x="3243240" y="2619360"/>
            <a:ext cx="1862280" cy="282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21964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H="1" flipV="1">
            <a:off x="4571640" y="400500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ld092436"/>
          <p:cNvPicPr/>
          <p:nvPr/>
        </p:nvPicPr>
        <p:blipFill>
          <a:blip r:embed="rId1"/>
          <a:stretch/>
        </p:blipFill>
        <p:spPr>
          <a:xfrm>
            <a:off x="2340000" y="2890800"/>
            <a:ext cx="3041640" cy="2022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32360" y="3789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4284360" y="3860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ast-ep-a71-147324"/>
          <p:cNvPicPr/>
          <p:nvPr/>
        </p:nvPicPr>
        <p:blipFill>
          <a:blip r:embed="rId1"/>
          <a:stretch/>
        </p:blipFill>
        <p:spPr>
          <a:xfrm>
            <a:off x="3268800" y="2619360"/>
            <a:ext cx="1846080" cy="275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627280" y="4149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3419640" y="4220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blfcs01286000"/>
          <p:cNvPicPr/>
          <p:nvPr/>
        </p:nvPicPr>
        <p:blipFill>
          <a:blip r:embed="rId1"/>
          <a:stretch/>
        </p:blipFill>
        <p:spPr>
          <a:xfrm>
            <a:off x="1979640" y="2222640"/>
            <a:ext cx="4392720" cy="2944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12000" y="3789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H="1" flipV="1">
            <a:off x="5508360" y="3933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55:09Z</dcterms:created>
  <dc:creator> </dc:creator>
  <dc:description> </dc:description>
  <dc:language>en-US</dc:language>
  <cp:lastModifiedBy>Administrator</cp:lastModifiedBy>
  <dcterms:modified xsi:type="dcterms:W3CDTF">2017-03-14T03:25:44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