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3AE2-5775-4A87-8B19-842835083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872-B525-4740-8163-D2FF93FC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6B202-A86D-4EC2-8C39-5D67A752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DFF25-83EF-40A7-B867-F9E915E8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1714F-A241-44CF-B166-DA04B88E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6E5AF-26FC-4279-9B50-304F757F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ADA34-9078-4CDC-877F-C88765A0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E1FCA-C96E-41AD-B63F-C16F9425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865AD-0106-41F1-BB28-4559CCC3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3160D-E622-4737-8280-25656BA5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056FF-89B1-4A5C-A46E-30441D68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39CE9-6E6D-4B38-8BA5-5E57EE36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82F-A2CA-4E2C-AFD0-2EADCD13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7D47F-6207-4CA4-A503-D44FEDA5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0CF79-AA3F-4FF8-BB9B-C3F14B85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8B95C-B156-4228-9635-6D1FC88D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C4A4F-0503-4453-BB87-8D690B1C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C1195-BC72-413E-962E-9DA406E9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D8635-A741-49DC-9B75-B555F418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A2777-DC48-4796-8A16-62A7B03C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D88D5-22AD-41E3-B291-6788C069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7ACB3-F9FF-4F87-B554-E3B92F24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340AB-DD31-458D-85DC-2D5092F7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7C9D-B0B0-4C24-B948-F7F08F26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D337F-C63A-4D6A-B0EE-AE456CC5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0FEDD-B67C-4119-8A56-2E2578B0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00C0E-4F81-4E15-84A9-9AD97C1D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C1E90-9F19-48F8-949C-26BCB8DD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BA3D1-E6A8-4217-8B35-958D58B0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6EFA5-BA77-43CF-9190-BB0C6794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B3F56-1A80-4321-8903-1B5E540D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2DB5D-ED58-4DCC-91E5-FC9CA7AB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9B57D-EE5C-476F-8D9B-1B86EFCC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A55CE-2187-40D0-9F3A-DCCD49DE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D293-32FD-48E5-9364-1644F79A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7FFDB-68F7-4C07-A65C-FB14751A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C8B3C-DCAE-4405-8442-14069FC9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7913E-EA6C-475F-8798-C6F0DFB5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220C0-1050-4DBD-808B-95955719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42BB2-0623-4158-954F-BE586EAC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B9EAC-48B2-4196-8A52-F1B6C9B7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6D407-CD3D-465D-87EC-0DD0D9AE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E8B03-7C9F-4ACF-A8A4-A32C2605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7E41D-AB42-4E5A-8678-6568F29F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93FDE-F4CA-4B3A-BD1F-BBF14D19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623C-F077-472E-91CD-8AC71C9A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8EABD-6330-4A5C-8133-B0F50701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8F4E7-7AD6-42BC-B012-81E8F967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5B30F-F58C-4CBC-B423-198C7D52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36186-D01B-49EC-A206-22CC8D5E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9986C-A04E-48BB-86B7-BE790F2C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C39C5F-2ED6-4762-A37E-5F72113C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94A24-937E-4471-BDBA-F4F23CBB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1DC303-33BD-4217-810F-6AFE345C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6D6F37-B7F7-487C-B134-DB6E87F7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EE8BBD-71F1-419D-8A2F-711AE2A5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CFBD-004A-49D9-B746-D605F88B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A21F05-EE34-48AF-9D25-F6F119E0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9C147-3E42-4610-885C-B7E679F0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91494A-D61E-4EE6-990B-6C5E0750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2030CC-038C-44C9-B1B9-F3CCC293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372C4C-6BCE-4422-83F2-3D5B8B95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C1437B-FAE0-4E8D-B26C-B8F8EE8B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3813F3-0D9B-42F9-B338-2F77C70C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AFF1-4DF5-4007-BE68-70CAA1E0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0266-EC6B-440E-A20A-FF5443C3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CAE8-5574-42B4-837C-3219C02C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31B8-500E-46A2-A5A2-6636DCFB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DA05-5A22-4AFF-BB86-89718643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7D66-FAA6-45E6-B5DF-F561A5B2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4A41-2CB3-4172-A02E-324AD68C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F5F9-99BB-4AD2-B6E5-5FD3D9D7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2725-1289-4529-B6D2-ACE5DB1A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6658-1416-477D-983B-FFDA9127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0F3F9-4598-45E9-BC9C-5991C607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7C08A-247E-4434-AB26-B246DE6E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ABAA4-A333-406F-9DD3-730078B6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C3B18-F59F-4183-8750-E13C85A9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BA512-8319-4407-992F-26434C76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612-7239-4B50-B2FF-0B950175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0D48C-1A3E-40D0-9391-75514175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AED1E-D399-4461-9D1F-9E1BEA00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93F44-CB91-42EF-895F-186EB16D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806CC-8A1B-48C1-B2BE-70C1F4EF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49EC4-4E16-4F27-90AC-6BB9CD54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1D306-D034-496A-962A-AF81AA60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983AE-E326-4493-BC8C-8731873F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F1707-B358-408F-81E2-939C3330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CB1E5-049F-4299-BC33-9D7BB986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86307-205F-40A7-9FA6-CCA4B309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168-10A8-4E1E-8A17-E5904F1C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DE480-0261-4413-9E9C-AB8040AE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33789-001E-45F7-B10F-68E1F004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CC666-69D6-4CF7-A1D5-891FB8FB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6C27E-8A32-4BAA-8EC1-F7698395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FD6EB-B1B1-4A6D-BD8F-8382C2CD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D64DA-6E32-4757-84B9-5CC800EE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97DBF-0488-4BCA-8D60-D0423CBE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0DB27-69BD-4897-B56F-988EE3AA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F8797-A111-4AE4-A670-44413068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AE2C2-C863-4AA8-8C83-C22559AF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E89-1AF3-41EB-BF5B-AE6E157A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D3783-CC3C-47DC-9908-E0A9826F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A7E74-867F-4518-9F30-3A4B60AF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34154-9237-4702-8351-EBF37EDA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B6921-5417-4CA9-BF5F-5C0A9953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4CA0A-A78E-40FD-BFC2-437F99B6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0D37D-0144-4CAB-BA51-7C9AFA28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495F1-D4B2-4149-91DE-AB04E478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A46A7-A10F-4E43-A700-A29721CC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BDB0C-EB09-45FF-A308-EF382F6E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33F77-42DB-4BD5-9E23-D9ADB313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FD2F-CC7D-44C5-9945-B80BF318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40095-8C23-4982-994F-3BB5606A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278D6-7ED7-42D0-BC84-5E673090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9C290-DC15-4AD9-8A28-13024437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92267-4043-4419-9781-80748924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88E11-33B7-454F-8E57-B9496146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44446-99AC-4404-9D56-03FAA4C0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E735E-4B03-4DC8-8619-626EC4CD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E22C0-668B-40D4-8BBC-22D024F6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AA52A-B94A-4AC0-9C64-9F26BEED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CF949-6F40-4EC7-9978-290321BE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8BB0-F73F-46E9-ADB8-0EBB72CA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93EB3-E803-47CF-A661-5D2A3186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D1CB6-6C03-45EA-9139-3D6BBD83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6A3D3-39B0-4E03-A586-46028198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2BDA7-9DC7-4B71-801E-74E15F26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F7A2B-8877-4191-A39C-B2F35145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A3501-66CA-4A69-9F43-84345180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4FD29-DC8B-476F-9632-FA50F026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4A601-E960-48E3-BC59-B752D934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5EE1C-01C5-41D5-A901-0925F5A0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A1FBF-59AB-4F4E-BB10-2792C18E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086-4B63-4EF6-8A44-7E022E18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0759C-472E-4544-81E2-F66D26AB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95537-029E-4F71-B03B-46F1AA91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15CAF-B032-40C5-ACE3-43687FC2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A75CC-43C4-4D15-8929-6ED4DEC2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23B52-7B69-44F1-8F89-6F391372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A7C7C-1D9A-48D2-A5A3-0D2B48C5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76DE7-0992-4664-9A71-6375EDD2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9AE6B-FB10-4451-A782-F1AC0218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A5DA5-E14B-410E-855B-A32D6373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F33C6-CAB5-4316-8368-43AF5DDA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A3E8-F450-4280-926D-8AE53D16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C072E-6F0D-40AA-914D-EFDFCA6B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6ABA2-A515-4057-A124-14F34B00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1D848-F42D-40FC-A688-9671E054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057DA-96AA-46C2-9086-23E68377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7307D-D45C-4B74-8ABC-2121539A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36E97-1459-4784-9A36-D7B3515A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1FD7D-DCF9-4DF3-8B94-C36B37DD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171DE-102D-4C2E-B38B-FF6A233B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075FC-8A9F-4444-A8D5-FCF3972A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E1F16-23C4-4FC1-8A1D-76B29856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F0A4-70A3-4CED-81FD-0550A9E361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1591-205E-4041-8B00-834894E6D7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B478-3692-4C80-AE4B-14A7AB1907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6FFB-C150-4A4D-A5BF-BD182E4DA6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3C4A-C376-4D01-961F-4484CCC034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2F3B-DD44-4506-A399-04FD7A030E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4593-6218-41D1-A1E0-81D5A7DA0D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B4F1-CE29-483B-810F-06B16DBFC1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8444-CD90-4941-A4D0-2B1FAA478B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8D64-173A-46C1-9ECB-15EA21F8E8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B166-11C5-40B1-84A5-9089560133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112C-D80E-4236-A529-5DDCAEE099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BF7E-6B02-4157-9FB9-985AC386B1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57148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7  Are You Okay 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、说教学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1465200"/>
                <a:gridCol w="4068720"/>
                <a:gridCol w="2695680"/>
              </a:tblGrid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教学流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师生互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设计意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四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e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练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（把学生分成二至四人一组，选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练习说话，告诉学生可利用任何背景和情况，编造一个关于受伤和生病的对话。鼓励学生多用动作来表示他们的意思。同时给学生提供护士服和医生的听诊器及温度计。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设计意图：实际应用课本知识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、说教学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1465200"/>
                <a:gridCol w="4068720"/>
                <a:gridCol w="2695680"/>
              </a:tblGrid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教学流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师生互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设计意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五、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 and sound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将相同字母发音相同的两个单词放到一起，让学生体会字母发音，让他们为今后认读单词打基础。读单词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设计意图：学习语音知识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、说教学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1465200"/>
                <a:gridCol w="4068720"/>
                <a:gridCol w="2695680"/>
              </a:tblGrid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教学流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师生互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设计意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六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olidation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巩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）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the phrases on the B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）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the books and turn to P42 . Listen and read the text  after radio .   At last ,let Ss read the text togethe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多读课文，巩固知识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、说教学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1465200"/>
                <a:gridCol w="4068720"/>
                <a:gridCol w="2695680"/>
              </a:tblGrid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教学流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师生互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设计意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七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work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作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）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the text after cla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Let’s act text.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）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课下练习与表演相结合，巩固知识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四、板书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59984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-106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17   Are You Okay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you okay ?  No , I’m sick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the matter ?   My   … h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 see a doctor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WordArt 3"/>
          <p:cNvSpPr txBox="1"/>
          <p:nvPr/>
        </p:nvSpPr>
        <p:spPr>
          <a:xfrm>
            <a:off x="2133720" y="2362320"/>
            <a:ext cx="5340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bbe0e3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09999"/>
                  </a:gs>
                  <a:gs pos="100000">
                    <a:srgbClr val="bbe0e3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说教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59984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92520" indent="-9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教材出处及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是义务教育课程标准实验教科书冀教版小学英语三年级上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3 Feelings and  Bod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的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。在本单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的学习中，学生已熟练掌握了一些询问他人心情、感觉的用语，如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 do you feel 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；身体部分单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, hand, arm, leg, fing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。这些内容为本课的学习奠定了基础，为学习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the  matter ?   My…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做好了铺垫，学生学习本课就容易多了。本课是教学句型和语音两方面的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说教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59984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6000"/>
          </a:bodyPr>
          <a:p>
            <a:pPr marL="97200" indent="-9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教学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知识目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听、说、认、读本课的单词、短语和句型：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tor, sick, hurt;  Are you okay ? I’m sick   ;What’s the matter ? M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听懂、会说句子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the matter ?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并能用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… hurts.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做出相应回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力目标：能正确、流利地朗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情感目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通过问答、游戏等活动，激发学生的英语学习兴趣，使学生乐于开口、积极参与交流，并在交流中培养关心他人的好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通过小组合作，培养学生的合作与竞争意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说教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59984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marL="72000" indent="-72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教学教学重难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00" indent="-72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学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00" indent="-72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掌握新单词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tor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理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rt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00" indent="-72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掌握表述“关心、问候他人健康状况”的用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00" indent="-72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学难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00" indent="-72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动词第三人称单数形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rt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、说学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59984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109440" indent="-109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生分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本班学生是小学三年级的学生，刚刚学习英语两个月，对英语学习有着浓厚的兴趣，但是英语的听读能力还处于初级阶段；学生学生思维活跃，愿意和同学交流，乐于表达自己，渴望达到同学和教师的赞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学生已经学习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, ear, stomach, knee, fing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关于身体部位的单词和句型。学生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y, sad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单词已经非常熟悉；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fee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feel happy 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句型非常熟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学生对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件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talki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呈现形式感到很好奇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、说教法和学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59984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体的教学策略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突出重点的策略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突破难点的策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活动教学策略：按照学生身心发展过程中的不同阶段来设计、布置情境，提供材料，让学生积极参与自由操作、观察思考。通过活动让学生自己认识事物、发现问题，得出答案，发掘学生潜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、说教学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1465200"/>
                <a:gridCol w="4068720"/>
                <a:gridCol w="2695680"/>
              </a:tblGrid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教学流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师生互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设计意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一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温故知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 an English song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（设计意图：运用动作和面部表情，让学生重复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k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、说教学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1465200"/>
                <a:gridCol w="4068720"/>
                <a:gridCol w="2695680"/>
              </a:tblGrid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教学流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师生互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设计意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二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-in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导入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: I feel very sad today. Because M y head  hurts . So I go to the hospital and see a doctor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tor said, “ What’s the matter ?   (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贴上词卡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’s the matter ?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领读几遍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（设计意图：打破常规的直接呈现单词、直接教读句子的教学模式，通过语境利用实物及动作演示来呈现单词和句子，让学生很直观的、很自然的接受新知。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、说教学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45720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1465200"/>
                <a:gridCol w="4068720"/>
                <a:gridCol w="2695680"/>
              </a:tblGrid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教学流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师生互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设计意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三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学习与展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: T: I’ll divide you into three groups . Which one is best,  they’ll get one red flag ,OK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w look at these pictures on the TV. please Group 1 answers my questions. Go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设计意图：既紧扣教材，又抛开教材来设计新知的教学，然后再回到教材，通过学生自主活动，把书本上的知识内化为实实在在的语言交际能力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06:44:03Z</dcterms:created>
  <dc:creator> </dc:creator>
  <dc:description> </dc:description>
  <dc:language>en-US</dc:language>
  <cp:lastModifiedBy>Administrator</cp:lastModifiedBy>
  <dcterms:modified xsi:type="dcterms:W3CDTF">2017-03-14T03:27:39Z</dcterms:modified>
  <cp:revision>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60</vt:lpwstr>
  </property>
</Properties>
</file>