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gif" ContentType="image/gif"/>
  <Override PartName="/ppt/media/image2.gif" ContentType="image/gif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E85-DAF8-4266-BC5E-B850EEDE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38D-FE2A-4A8E-9829-4284CE84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C11-2CA2-4FB2-B87F-0AC29FEF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697-D4A1-42C3-B9E5-9FBD930C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007-A2B9-4755-BD0E-F09D6C24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070-FBA1-4C18-A77A-9F2E8F83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69C-7B83-45F2-9B53-EFCB7827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ACA-3E3F-46A4-8131-E7C93C20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BA08-D533-4555-B18A-CD8201C3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108-5169-484C-8282-2433ACC2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EE55-230F-4355-9D3C-6AF535C5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C39-BD2D-47F3-89FD-F551D38C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1CD8-09D2-4BC9-B1E3-DE63DF3B6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ppy birth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13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1"/>
          <p:cNvPicPr/>
          <p:nvPr/>
        </p:nvPicPr>
        <p:blipFill>
          <a:blip r:embed="rId2"/>
          <a:stretch/>
        </p:blipFill>
        <p:spPr>
          <a:xfrm>
            <a:off x="5257800" y="3733920"/>
            <a:ext cx="857160" cy="15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9"/>
          <p:cNvSpPr/>
          <p:nvPr/>
        </p:nvSpPr>
        <p:spPr>
          <a:xfrm>
            <a:off x="533520" y="5181480"/>
            <a:ext cx="3657600" cy="1676520"/>
          </a:xfrm>
          <a:prstGeom prst="wedgeRoundRectCallout">
            <a:avLst>
              <a:gd name="adj1" fmla="val -35375"/>
              <a:gd name="adj2" fmla="val 453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How does the baby rabbit lo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Who will they ask about the rabb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762120"/>
            <a:ext cx="4038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, Mummy,”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sa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ick.” He’s very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s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an I have him? It’s my birthday tomorrow.” “We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’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k your Daddy.” Mummy sa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aid: say(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说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的过去式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ad: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伤心的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we’ll: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等于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we will; will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表示将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例如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:I will go to the zoo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1-3"/>
          <p:cNvPicPr/>
          <p:nvPr/>
        </p:nvPicPr>
        <p:blipFill>
          <a:blip r:embed="rId1"/>
          <a:stretch/>
        </p:blipFill>
        <p:spPr>
          <a:xfrm>
            <a:off x="4648320" y="838080"/>
            <a:ext cx="426708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9"/>
          <p:cNvSpPr/>
          <p:nvPr/>
        </p:nvSpPr>
        <p:spPr>
          <a:xfrm>
            <a:off x="838080" y="5257800"/>
            <a:ext cx="3505320" cy="1600200"/>
          </a:xfrm>
          <a:prstGeom prst="wedgeRoundRectCallout">
            <a:avLst>
              <a:gd name="adj1" fmla="val -50768"/>
              <a:gd name="adj2" fmla="val 91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Where was the baby rabb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What did Nick get on his birth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228600"/>
            <a:ext cx="4038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Ear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morning, Nick was very happy to see the baby rabbit in Daddy’s hands. ”Happy birthday, Nick! This is your birthday present!” Daddy said. ”Thank you , Daddy! I’ll always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be goo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early: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早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提早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e good to: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对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好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;(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例如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:He is good to his friend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1-4"/>
          <p:cNvPicPr/>
          <p:nvPr/>
        </p:nvPicPr>
        <p:blipFill>
          <a:blip r:embed="rId1"/>
          <a:stretch/>
        </p:blipFill>
        <p:spPr>
          <a:xfrm>
            <a:off x="4648320" y="228600"/>
            <a:ext cx="4267080" cy="6324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200451212112151[1]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6.     listen and ch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 light, moon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make a wish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 I may, wish I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my wish come true to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your w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sh that I could grow taller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sh that I could get good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sh that I could have a new 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sh that I could have a baby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7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7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7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7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7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7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7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7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7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7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"/>
          <p:cNvPicPr/>
          <p:nvPr/>
        </p:nvPicPr>
        <p:blipFill>
          <a:blip r:embed="rId1"/>
          <a:srcRect l="0" t="0" r="0" b="7780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抄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月份单词各五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翻译一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家长听写并签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小短文翻译一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在作业本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将故事用英文口头复述出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磁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1,3,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家长签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磁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歌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11"/>
          <p:cNvSpPr/>
          <p:nvPr/>
        </p:nvSpPr>
        <p:spPr>
          <a:xfrm>
            <a:off x="5791320" y="3733920"/>
            <a:ext cx="9903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2"/>
          <p:cNvPicPr/>
          <p:nvPr/>
        </p:nvPicPr>
        <p:blipFill>
          <a:blip r:embed="rId3"/>
          <a:srcRect l="0" t="0" r="0" b="6068"/>
          <a:stretch/>
        </p:blipFill>
        <p:spPr>
          <a:xfrm>
            <a:off x="-457200" y="-152280"/>
            <a:ext cx="9524880" cy="67816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3"/>
          <p:cNvSpPr/>
          <p:nvPr/>
        </p:nvSpPr>
        <p:spPr>
          <a:xfrm>
            <a:off x="7467480" y="1828800"/>
            <a:ext cx="1676520" cy="1600200"/>
          </a:xfrm>
          <a:prstGeom prst="wedgeRoundRectCallout">
            <a:avLst>
              <a:gd name="adj1" fmla="val -107384"/>
              <a:gd name="adj2" fmla="val 126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What’s the date to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t’s on </a:t>
            </a:r>
            <a:r>
              <a:rPr b="1" lang="en-US" sz="2000" spc="-1" strike="noStrike" u="sng">
                <a:solidFill>
                  <a:srgbClr val="ff00ff"/>
                </a:solidFill>
                <a:uFillTx/>
                <a:latin typeface="Arial"/>
              </a:rPr>
              <a:t>Nov.27th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8" descr="6"/>
          <p:cNvPicPr/>
          <p:nvPr/>
        </p:nvPicPr>
        <p:blipFill>
          <a:blip r:embed="rId1"/>
          <a:srcRect l="0" t="0" r="0" b="8888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80880" y="1066680"/>
          <a:ext cx="8229600" cy="4953240"/>
        </p:xfrm>
        <a:graphic>
          <a:graphicData uri="http://schemas.openxmlformats.org/drawingml/2006/table">
            <a:tbl>
              <a:tblPr/>
              <a:tblGrid>
                <a:gridCol w="2057400"/>
                <a:gridCol w="1981440"/>
                <a:gridCol w="2133360"/>
                <a:gridCol w="2057400"/>
              </a:tblGrid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January</a:t>
                      </a:r>
                      <a:r>
                        <a:rPr b="1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Februa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pri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a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Ju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ugu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Septe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ctob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ove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Dece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20076231954476_2[1]"/>
          <p:cNvPicPr/>
          <p:nvPr/>
        </p:nvPicPr>
        <p:blipFill>
          <a:blip r:embed="rId1"/>
          <a:srcRect l="0" t="0" r="0" b="3621"/>
          <a:stretch/>
        </p:blipFill>
        <p:spPr>
          <a:xfrm>
            <a:off x="-190440" y="142920"/>
            <a:ext cx="9524880" cy="6334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My monthly pl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nuary    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 want to go skating and make      a   snow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 I want to fly a k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h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    I  want to have a picn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      I  want to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752480" y="4267080"/>
            <a:ext cx="6629400" cy="2210040"/>
          </a:xfrm>
          <a:prstGeom prst="wedgeRectCallout">
            <a:avLst>
              <a:gd name="adj1" fmla="val -71000"/>
              <a:gd name="adj2" fmla="val 348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want to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想要去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want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 to the p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want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pen the do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want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rink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053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143000"/>
            <a:ext cx="4495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is your  birth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i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. (in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早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晚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which d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O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(on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体日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2"/>
          <p:cNvPicPr/>
          <p:nvPr/>
        </p:nvPicPr>
        <p:blipFill>
          <a:blip r:embed="rId1"/>
          <a:stretch/>
        </p:blipFill>
        <p:spPr>
          <a:xfrm>
            <a:off x="0" y="1143000"/>
            <a:ext cx="4724280" cy="54100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5"/>
          <p:cNvSpPr/>
          <p:nvPr/>
        </p:nvSpPr>
        <p:spPr>
          <a:xfrm>
            <a:off x="2286000" y="152280"/>
            <a:ext cx="2743200" cy="1981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Today is my birth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-76320"/>
            <a:ext cx="86868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495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: Hello, Sarah. Tomorrow is my birthday. </a:t>
            </a:r>
            <a:r>
              <a:rPr b="1" lang="en-US" sz="2000" spc="-1" strike="noStrike" u="sng">
                <a:solidFill>
                  <a:srgbClr val="ff00ff"/>
                </a:solidFill>
                <a:uFillTx/>
                <a:latin typeface="Arial"/>
              </a:rPr>
              <a:t>Would you like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me to my birthday par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(Would you like :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你想要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…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?(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例如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:Would you like a cup of tea?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你想要一杯茶吗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: That’s lovely. </a:t>
            </a:r>
            <a:r>
              <a:rPr b="1" lang="en-US" sz="2000" spc="-1" strike="noStrike" u="sng">
                <a:solidFill>
                  <a:srgbClr val="ff00ff"/>
                </a:solidFill>
                <a:uFillTx/>
                <a:latin typeface="Arial"/>
              </a:rPr>
              <a:t>I’d love 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. Who will be t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(I’d love to: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I would love to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的缩写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意思是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我想要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…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: Betty, David, Emma, Harry and H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: That’s great. </a:t>
            </a:r>
            <a:r>
              <a:rPr b="1" lang="en-US" sz="2000" spc="-1" strike="noStrike" u="sng">
                <a:solidFill>
                  <a:srgbClr val="ff00ff"/>
                </a:solidFill>
                <a:uFillTx/>
                <a:latin typeface="Arial"/>
              </a:rPr>
              <a:t>I’m s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e’ll </a:t>
            </a:r>
            <a:r>
              <a:rPr b="1" lang="en-US" sz="2000" spc="-1" strike="noStrike" u="sng">
                <a:solidFill>
                  <a:srgbClr val="ff00ff"/>
                </a:solidFill>
                <a:uFillTx/>
                <a:latin typeface="Arial"/>
              </a:rPr>
              <a:t>have a good  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(I’m sure :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我确信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…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;sure: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当然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have a good time: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玩得开心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7"/>
          <p:cNvPicPr/>
          <p:nvPr/>
        </p:nvPicPr>
        <p:blipFill>
          <a:blip r:embed="rId1"/>
          <a:stretch/>
        </p:blipFill>
        <p:spPr>
          <a:xfrm>
            <a:off x="0" y="304920"/>
            <a:ext cx="4724280" cy="65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birthday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1426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: happy birthday to you! Here’s a little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pres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(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礼物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: Thank you very much! Please come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: Let’s sing a happy   birthday s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: Yes. Let’s s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: You can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make a wis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(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许愿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: 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: You can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blow ou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(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吹灭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dles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: Let’s blow them out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: Year. Happy birth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7"/>
          <p:cNvPicPr/>
          <p:nvPr/>
        </p:nvPicPr>
        <p:blipFill>
          <a:blip r:embed="rId1"/>
          <a:stretch/>
        </p:blipFill>
        <p:spPr>
          <a:xfrm>
            <a:off x="0" y="106668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5"/>
          <p:cNvSpPr/>
          <p:nvPr/>
        </p:nvSpPr>
        <p:spPr>
          <a:xfrm>
            <a:off x="380880" y="5257800"/>
            <a:ext cx="4114800" cy="1447920"/>
          </a:xfrm>
          <a:prstGeom prst="wedgeRoundRectCallout">
            <a:avLst>
              <a:gd name="adj1" fmla="val -49884"/>
              <a:gd name="adj2" fmla="val -48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How old was N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What did he wish to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Listen,read and answ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ck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w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ve years old. He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lo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watching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gs and cats playing in the pet shop window. He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wi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 he had a p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was: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是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is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的过去式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,are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的过去式是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w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love doing /love to do :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喜欢做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喜欢去做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wish: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表示一种期望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愿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-1"/>
          <p:cNvPicPr/>
          <p:nvPr/>
        </p:nvPicPr>
        <p:blipFill>
          <a:blip r:embed="rId1"/>
          <a:stretch/>
        </p:blipFill>
        <p:spPr>
          <a:xfrm>
            <a:off x="4648320" y="990720"/>
            <a:ext cx="4190760" cy="5867280"/>
          </a:xfrm>
          <a:prstGeom prst="rect">
            <a:avLst/>
          </a:prstGeom>
          <a:ln w="0">
            <a:noFill/>
          </a:ln>
        </p:spPr>
      </p:pic>
      <p:pic>
        <p:nvPicPr>
          <p:cNvPr id="72" name="U2.mp3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457200" cy="685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380880"/>
            <a:ext cx="4038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yet, Nick!” Daddy always said.” You are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to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ng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t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a pet .”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Th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e day there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wer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ogs and cats in the pet shop, just a white baby rabbit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ig sad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too…to…: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太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而不能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;(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例如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:He is too young to smok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then: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然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1-2"/>
          <p:cNvPicPr/>
          <p:nvPr/>
        </p:nvPicPr>
        <p:blipFill>
          <a:blip r:embed="rId1"/>
          <a:stretch/>
        </p:blipFill>
        <p:spPr>
          <a:xfrm>
            <a:off x="4648320" y="380880"/>
            <a:ext cx="4343400" cy="61722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0"/>
          <p:cNvSpPr/>
          <p:nvPr/>
        </p:nvSpPr>
        <p:spPr>
          <a:xfrm>
            <a:off x="609480" y="5029200"/>
            <a:ext cx="3810240" cy="1523880"/>
          </a:xfrm>
          <a:prstGeom prst="wedgeRoundRectCallout">
            <a:avLst>
              <a:gd name="adj1" fmla="val -39166"/>
              <a:gd name="adj2" fmla="val 56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Why couldn’t Nick have a p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What was the only animal in the pet sho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07-09T03:40:00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