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F58-F338-4EF4-8522-56003D27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84D-1CE0-4AA1-9441-A334460B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9D6-2D63-478C-81BD-A2479078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6C2-3B39-4E7E-A49A-6669BA4B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2EE3-5FBD-493B-8125-A1F27FE4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39BB-B45C-44AB-BAAD-B2C16B91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0ED8-0A61-4224-86DA-B82AE606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9038-06AA-46FF-98A7-A530414F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149-617F-4575-80B9-3868FA87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D20D-8FB7-4E9A-81A9-2CB56AE6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E473-0F4B-4762-A768-9AB200F1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601-D033-410D-9684-A64CA98C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B799-407C-45C0-9D71-AD575BBB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78A6-C850-4407-A0A1-CDF83EAC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AC29-E49F-4C3F-90AA-703B1AEE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4ABB-D37B-4273-A4CF-7A0D4EE0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9073-8BE1-4A01-B509-0454301E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1304-0B78-40F2-91F8-5D37D94E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4E45-CA65-42E0-86EE-6B1E6CC7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897F-8620-4D20-9F2C-012CF4DE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6038-D0D7-4153-B0A3-9DFCA592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E4C0-799D-4A87-AC32-C7B758C7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AE8-E7A0-4E93-92B1-A40BE42A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1868C-3C41-401E-9ED0-438D14A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5AAB-BF5F-4FBB-93A1-64EB059F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A2C47-59E2-4EEE-8D12-36BBC5F7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DF4B-0C6C-4BA5-8DB0-8242451D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EA8E-906E-4286-904B-0D8D637D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D214-8970-4DFE-9F70-2C12B7A1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F562-A6A9-424B-9227-0B38450B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932-628F-42CF-8476-CDA928BD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C83-D537-4D87-8157-AA693AAA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601-0B50-44E9-B333-CD0B3160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D24-B52F-4756-B732-BF6662A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3FA-8F04-475E-A8A0-16BA7FD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80A-07A1-45C0-BBA0-3BEF1A0D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C141-CBF8-454A-BCBB-C885F7FF1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4F7D-DE56-483F-8461-85FF635B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D379-8ABA-4D0A-84AA-B5064256F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矩形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001000" cy="356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5" descr="图片1456"/>
          <p:cNvPicPr/>
          <p:nvPr/>
        </p:nvPicPr>
        <p:blipFill>
          <a:blip r:embed="rId1"/>
          <a:stretch/>
        </p:blipFill>
        <p:spPr>
          <a:xfrm>
            <a:off x="0" y="0"/>
            <a:ext cx="9144000" cy="646596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8"/>
          <p:cNvSpPr/>
          <p:nvPr/>
        </p:nvSpPr>
        <p:spPr>
          <a:xfrm>
            <a:off x="4495680" y="3124080"/>
            <a:ext cx="4114800" cy="1224000"/>
          </a:xfrm>
          <a:prstGeom prst="wedgeRoundRectCallout">
            <a:avLst>
              <a:gd name="adj1" fmla="val -8101"/>
              <a:gd name="adj2" fmla="val -158430"/>
              <a:gd name="adj3" fmla="val 16667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479840" y="3200400"/>
            <a:ext cx="466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cuse me. May I borrow a book, Jenn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0"/>
          <p:cNvSpPr/>
          <p:nvPr/>
        </p:nvSpPr>
        <p:spPr>
          <a:xfrm flipV="1">
            <a:off x="457200" y="2666520"/>
            <a:ext cx="3276720" cy="1447920"/>
          </a:xfrm>
          <a:prstGeom prst="wedgeRoundRectCallout">
            <a:avLst>
              <a:gd name="adj1" fmla="val -2087"/>
              <a:gd name="adj2" fmla="val 132125"/>
              <a:gd name="adj3" fmla="val 16667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77640" y="304812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k! Here you ar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572000" y="3352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09480" y="29718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’re welcom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1295280" y="1595520"/>
            <a:ext cx="74678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Excuse me. May I borrow a _____, Jenn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OK! __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Thank you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____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391520" y="1593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boo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743200" y="2971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Here you 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00200" y="4616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You’re welco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29528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ll in the blank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5" descr="图片1456+"/>
          <p:cNvPicPr/>
          <p:nvPr/>
        </p:nvPicPr>
        <p:blipFill>
          <a:blip r:embed="rId1"/>
          <a:stretch/>
        </p:blipFill>
        <p:spPr>
          <a:xfrm>
            <a:off x="0" y="0"/>
            <a:ext cx="8331120" cy="68436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/>
          <p:cNvSpPr/>
          <p:nvPr/>
        </p:nvSpPr>
        <p:spPr>
          <a:xfrm flipV="1">
            <a:off x="4419720" y="2513520"/>
            <a:ext cx="3733560" cy="1676520"/>
          </a:xfrm>
          <a:prstGeom prst="wedgeRoundRectCallout">
            <a:avLst>
              <a:gd name="adj1" fmla="val 3356"/>
              <a:gd name="adj2" fmla="val 111833"/>
              <a:gd name="adj3" fmla="val 16667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572000" y="2819520"/>
            <a:ext cx="344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I borrow two pencils, Jenny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 flipV="1">
            <a:off x="609480" y="2208960"/>
            <a:ext cx="2667240" cy="1295640"/>
          </a:xfrm>
          <a:prstGeom prst="wedgeRoundRectCallout">
            <a:avLst>
              <a:gd name="adj1" fmla="val -2800"/>
              <a:gd name="adj2" fmla="val 111027"/>
              <a:gd name="adj3" fmla="val 16667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34600" y="2238480"/>
            <a:ext cx="28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you ma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e you a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495680" y="25146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ks. May I have three crayons, Jenny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209680"/>
            <a:ext cx="314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rry, Danny. I don’t have any crayon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495680" y="251460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nt’s OK. I can go and buy some at the store. I can get some for you, too. Goodbye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85800" y="20574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k you, Danny. See you lat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629400" y="4808520"/>
            <a:ext cx="2438280" cy="19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238880" y="0"/>
            <a:ext cx="1905120" cy="1790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04920" y="106668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May I ______ two pencils, Jenn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___________. Here you a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Thanks. May I have ____________, Jenn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Sorry, Danny. I __________ any crayons, Jenn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_________. I can 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at the store. I ca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some for you, too. Goodbye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0574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borr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09480" y="1600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Yes, you m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952880" y="2133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hree cray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038480" y="3276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on’t ha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838080" y="4387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hat’s O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4114800" y="43434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go and bu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45720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Fill in the blank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629400" y="4619520"/>
            <a:ext cx="2205000" cy="2238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380880" y="30492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cc"/>
                </a:solidFill>
                <a:latin typeface="Arial"/>
              </a:rPr>
              <a:t>Chain Game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80880" y="1219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 in groups to practice 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May 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33520" y="2057400"/>
            <a:ext cx="83055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May I borrow …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Sure. Here you are. May I have …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: Sorry, I don’t have any …? May I have…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: Sure. Here you a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lesson 3 ---5"/>
          <p:cNvPicPr/>
          <p:nvPr/>
        </p:nvPicPr>
        <p:blipFill>
          <a:blip r:embed="rId2"/>
          <a:srcRect l="46527" t="15567" r="18670" b="19706"/>
          <a:stretch/>
        </p:blipFill>
        <p:spPr>
          <a:xfrm>
            <a:off x="4572000" y="1905120"/>
            <a:ext cx="59688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2008416105422"/>
          <p:cNvPicPr/>
          <p:nvPr/>
        </p:nvPicPr>
        <p:blipFill>
          <a:blip r:embed="rId3"/>
          <a:srcRect l="8029" t="1901" r="64210" b="2855"/>
          <a:stretch/>
        </p:blipFill>
        <p:spPr>
          <a:xfrm>
            <a:off x="8267760" y="2666880"/>
            <a:ext cx="342720" cy="1067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2008416105422"/>
          <p:cNvPicPr/>
          <p:nvPr/>
        </p:nvPicPr>
        <p:blipFill>
          <a:blip r:embed="rId4"/>
          <a:srcRect l="8030" t="1920" r="64238" b="2859"/>
          <a:stretch/>
        </p:blipFill>
        <p:spPr>
          <a:xfrm>
            <a:off x="6019920" y="3657600"/>
            <a:ext cx="269640" cy="838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2008328110025"/>
          <p:cNvPicPr/>
          <p:nvPr/>
        </p:nvPicPr>
        <p:blipFill>
          <a:blip r:embed="rId5"/>
          <a:srcRect l="5815" t="35106" r="0" b="37261"/>
          <a:stretch/>
        </p:blipFill>
        <p:spPr>
          <a:xfrm>
            <a:off x="2362320" y="4419720"/>
            <a:ext cx="1904760" cy="49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066680" y="1752480"/>
            <a:ext cx="6985080" cy="2726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M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borrow a book, Jenn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宋体"/>
              </a:rPr>
              <a:t>我可以要一本书吗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宋体"/>
              </a:rPr>
              <a:t>詹妮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1219320" y="228600"/>
            <a:ext cx="7117920" cy="1512720"/>
            <a:chOff x="1219320" y="228600"/>
            <a:chExt cx="7117920" cy="1512720"/>
          </a:xfrm>
        </p:grpSpPr>
        <p:pic>
          <p:nvPicPr>
            <p:cNvPr id="202" name="Picture 4" descr="图片1kkk"/>
            <p:cNvPicPr/>
            <p:nvPr/>
          </p:nvPicPr>
          <p:blipFill>
            <a:blip r:embed="rId1"/>
            <a:stretch/>
          </p:blipFill>
          <p:spPr>
            <a:xfrm>
              <a:off x="1219320" y="228600"/>
              <a:ext cx="7117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5"/>
            <p:cNvSpPr/>
            <p:nvPr/>
          </p:nvSpPr>
          <p:spPr>
            <a:xfrm>
              <a:off x="1298880" y="730080"/>
              <a:ext cx="519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ff"/>
                  </a:solidFill>
                  <a:latin typeface="Arial"/>
                </a:rPr>
                <a:t>  </a:t>
              </a:r>
              <a:r>
                <a:rPr b="1" lang="en-US" sz="4000" spc="-1" strike="noStrike">
                  <a:solidFill>
                    <a:srgbClr val="cc00ff"/>
                  </a:solidFill>
                  <a:latin typeface="Arial"/>
                </a:rPr>
                <a:t>Language points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 Box 6"/>
          <p:cNvSpPr/>
          <p:nvPr/>
        </p:nvSpPr>
        <p:spPr>
          <a:xfrm>
            <a:off x="2286360" y="3429000"/>
            <a:ext cx="5001480" cy="1191240"/>
          </a:xfrm>
          <a:prstGeom prst="rect">
            <a:avLst/>
          </a:prstGeom>
          <a:noFill/>
          <a:ln w="44280">
            <a:solidFill>
              <a:srgbClr val="9900ff">
                <a:alpha val="89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当你向别人借东西的时候也可以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y I have _____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145160" y="5029200"/>
            <a:ext cx="59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have some tea, please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宋体"/>
              </a:rPr>
              <a:t>请给我一些茶好吗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68000" y="720720"/>
            <a:ext cx="8281800" cy="5362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y 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orr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our book, Jenn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詹妮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我可以借你的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ure. Here you a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没问题。给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是给他人物品时的常用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You’re welco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不客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这是一句客套话，用来回答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hank you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189080" y="692280"/>
            <a:ext cx="7128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宋体"/>
              </a:rPr>
              <a:t>补全对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Hello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_____! ____ __ ____two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cil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Sure! ____ ____ 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You’re 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343400" y="22035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I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1120" y="22114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ha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085200" y="36450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He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368960" y="36450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you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5503320" y="364500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838520" y="220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Hell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765440" y="4365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Than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422520" y="501984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welco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338640" y="21780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M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828800" y="112716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 Black"/>
              </a:rPr>
              <a:t>Homework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43000" y="2309760"/>
            <a:ext cx="6842160" cy="2951640"/>
          </a:xfrm>
          <a:prstGeom prst="rect">
            <a:avLst/>
          </a:pr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ffffcc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Remember all the new words and expressions we’ve learned toda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Learn the new words in Lesson 19 by hear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447560"/>
            <a:ext cx="1752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xc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b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50840" y="1447560"/>
            <a:ext cx="6583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v. aux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dj&amp;adv.&amp;in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v.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um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um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76320" y="228600"/>
            <a:ext cx="6624360" cy="1152360"/>
            <a:chOff x="76320" y="228600"/>
            <a:chExt cx="6624360" cy="1152360"/>
          </a:xfrm>
        </p:grpSpPr>
        <p:pic>
          <p:nvPicPr>
            <p:cNvPr id="127" name="Picture 5" descr="162"/>
            <p:cNvPicPr/>
            <p:nvPr/>
          </p:nvPicPr>
          <p:blipFill>
            <a:blip r:embed="rId1"/>
            <a:stretch/>
          </p:blipFill>
          <p:spPr>
            <a:xfrm>
              <a:off x="76320" y="228600"/>
              <a:ext cx="6624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ectangle 6"/>
            <p:cNvSpPr/>
            <p:nvPr/>
          </p:nvSpPr>
          <p:spPr>
            <a:xfrm>
              <a:off x="1303200" y="660240"/>
              <a:ext cx="520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Words and expressions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pair%20reading"/>
          <p:cNvPicPr/>
          <p:nvPr/>
        </p:nvPicPr>
        <p:blipFill>
          <a:blip r:embed="rId1"/>
          <a:stretch/>
        </p:blipFill>
        <p:spPr>
          <a:xfrm>
            <a:off x="6019920" y="-152280"/>
            <a:ext cx="1979640" cy="1431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914400" y="1219320"/>
            <a:ext cx="7234200" cy="55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To learn to use the word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wo, three, borr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o learn to use the sentence pattern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xcuse me. May I...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es, you may. Here you ar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orry, I don’t have any..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ou’re welcom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e you lat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380880"/>
            <a:ext cx="28083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611280" y="2595600"/>
            <a:ext cx="8001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Use the letters to make words.</a:t>
            </a:r>
            <a:endParaRPr b="1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47920" y="439596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打乱的字母拼写单词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258920" y="1514520"/>
            <a:ext cx="3581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3399"/>
                </a:solidFill>
                <a:latin typeface="Arial"/>
              </a:rPr>
              <a:t>Competiton 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5105520" y="106668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c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WordArt 3"/>
          <p:cNvSpPr txBox="1"/>
          <p:nvPr/>
        </p:nvSpPr>
        <p:spPr>
          <a:xfrm>
            <a:off x="6829560" y="222084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u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3048120" y="114300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e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5533920" y="3287880"/>
            <a:ext cx="838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e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3043080" y="3338640"/>
            <a:ext cx="838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1387440" y="2475000"/>
            <a:ext cx="838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WordArt 9"/>
          <p:cNvSpPr txBox="1"/>
          <p:nvPr/>
        </p:nvSpPr>
        <p:spPr>
          <a:xfrm>
            <a:off x="2124000" y="4797360"/>
            <a:ext cx="472464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excuse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4010040" y="62064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5791320" y="160020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r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676520" y="289548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o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6477120" y="3048120"/>
            <a:ext cx="838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114800" y="335268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o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2286000" y="152388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r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2124000" y="4797360"/>
            <a:ext cx="472464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orrow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010040" y="62064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WordArt 3"/>
          <p:cNvSpPr txBox="1"/>
          <p:nvPr/>
        </p:nvSpPr>
        <p:spPr>
          <a:xfrm>
            <a:off x="6400800" y="2133720"/>
            <a:ext cx="838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r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2209680" y="1600200"/>
            <a:ext cx="65736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5533920" y="3592440"/>
            <a:ext cx="838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3043080" y="3643200"/>
            <a:ext cx="838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e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WordArt 9"/>
          <p:cNvSpPr txBox="1"/>
          <p:nvPr/>
        </p:nvSpPr>
        <p:spPr>
          <a:xfrm>
            <a:off x="2124000" y="4797360"/>
            <a:ext cx="472464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ater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2febd99053d679c1b8d2e6f4da96_400_400"/>
          <p:cNvPicPr/>
          <p:nvPr/>
        </p:nvPicPr>
        <p:blipFill>
          <a:blip r:embed="rId1"/>
          <a:stretch/>
        </p:blipFill>
        <p:spPr>
          <a:xfrm>
            <a:off x="2206800" y="1257480"/>
            <a:ext cx="3154320" cy="3155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867280" y="3048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penci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05520" y="30160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w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6d81800a19d8bc3e1944372c838ba61ea9d34583"/>
          <p:cNvPicPr/>
          <p:nvPr/>
        </p:nvPicPr>
        <p:blipFill>
          <a:blip r:embed="rId1"/>
          <a:stretch/>
        </p:blipFill>
        <p:spPr>
          <a:xfrm>
            <a:off x="2889360" y="2417760"/>
            <a:ext cx="3508200" cy="2631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762120" y="1219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cray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748440" y="11872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re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4:40:56Z</dcterms:created>
  <dc:creator/>
  <dc:description/>
  <dc:language>en-US</dc:language>
  <cp:lastModifiedBy>Administrator</cp:lastModifiedBy>
  <dcterms:modified xsi:type="dcterms:W3CDTF">2016-10-31T14:42:31Z</dcterms:modified>
  <cp:revision>1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3</vt:lpwstr>
  </property>
  <property fmtid="{D5CDD505-2E9C-101B-9397-08002B2CF9AE}" pid="3" name="Version">
    <vt:r8>1</vt:r8>
  </property>
</Properties>
</file>