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2838-7B0F-4C57-9787-F8ACAF5379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D969-A548-4D33-9DE7-2E3AB396BC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E926-EC84-4A44-A225-2A5D34C912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BDE-D222-41E4-B7D8-3CDBCC10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14D-EE50-4651-84E6-114310F8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3CC-E027-4061-92EB-2269D515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327-3D5B-4A61-AE8B-F74D675B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CEE-A5DE-4A75-86FA-1EABE2D4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0697-D40C-42F6-95E0-42CBAB15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735-2DF3-47D0-9BB1-2075F8FB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7F9-A395-4F0A-BFC0-8DAFB970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597-46AB-4DA5-8450-7228FA2E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445-F14E-4D78-9386-CA914243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811-96D3-452C-AA22-63F30FB9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06F-345E-4A6B-BA2B-04BA5FD5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2CE7-3A55-4B8D-996C-A10A708F34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2" descr=""/>
          <p:cNvPicPr/>
          <p:nvPr/>
        </p:nvPicPr>
        <p:blipFill>
          <a:blip r:embed="rId2"/>
          <a:stretch/>
        </p:blipFill>
        <p:spPr>
          <a:xfrm>
            <a:off x="1695600" y="1017720"/>
            <a:ext cx="5937120" cy="1755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143000" y="3004560"/>
            <a:ext cx="70722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Lesson 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Holid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圆角矩形标注 4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s Valentine's 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" descr="24366df0f1g320.jpg"/>
          <p:cNvPicPr/>
          <p:nvPr/>
        </p:nvPicPr>
        <p:blipFill>
          <a:blip r:embed="rId2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sp>
        <p:nvSpPr>
          <p:cNvPr id="87" name="圆角矩形标注 5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in Febru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" descr="24366df01g320.jpg"/>
          <p:cNvPicPr/>
          <p:nvPr/>
        </p:nvPicPr>
        <p:blipFill>
          <a:blip r:embed="rId3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:\北京3A-刘玲 素材制作 - 副本\UNIT SEVEN  WHEN IS THANKSGIVING\Lesson 23\素材\holidays\Valentine's Day.jpg"/>
          <p:cNvPicPr/>
          <p:nvPr/>
        </p:nvPicPr>
        <p:blipFill>
          <a:blip r:embed="rId4"/>
          <a:stretch/>
        </p:blipFill>
        <p:spPr>
          <a:xfrm>
            <a:off x="1857240" y="3268800"/>
            <a:ext cx="47865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圆角矩形标注 4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s Chrildren’s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" descr="24366df0f1g320.jpg"/>
          <p:cNvPicPr/>
          <p:nvPr/>
        </p:nvPicPr>
        <p:blipFill>
          <a:blip r:embed="rId2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sp>
        <p:nvSpPr>
          <p:cNvPr id="92" name="圆角矩形标注 5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on the first day in Ju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" descr="24366df01g320.jpg"/>
          <p:cNvPicPr/>
          <p:nvPr/>
        </p:nvPicPr>
        <p:blipFill>
          <a:blip r:embed="rId3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:\北京3A-刘玲 素材制作 - 副本\UNIT SEVEN  WHEN IS THANKSGIVING\Lesson 23\素材\holidays\Children's Day.jpg"/>
          <p:cNvPicPr/>
          <p:nvPr/>
        </p:nvPicPr>
        <p:blipFill>
          <a:blip r:embed="rId4"/>
          <a:stretch/>
        </p:blipFill>
        <p:spPr>
          <a:xfrm>
            <a:off x="1643040" y="3321000"/>
            <a:ext cx="47149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矩形 3" descr=""/>
          <p:cNvPicPr/>
          <p:nvPr/>
        </p:nvPicPr>
        <p:blipFill>
          <a:blip r:embed="rId2"/>
          <a:stretch/>
        </p:blipFill>
        <p:spPr>
          <a:xfrm>
            <a:off x="762120" y="1365120"/>
            <a:ext cx="78580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圆角矩形标注 4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ern Festival is a Chinese holi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" descr="24366df0f1g320.jpg"/>
          <p:cNvPicPr/>
          <p:nvPr/>
        </p:nvPicPr>
        <p:blipFill>
          <a:blip r:embed="rId2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sp>
        <p:nvSpPr>
          <p:cNvPr id="98" name="圆角矩形标注 5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usually in Febru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" descr="24366df01g320.jpg"/>
          <p:cNvPicPr/>
          <p:nvPr/>
        </p:nvPicPr>
        <p:blipFill>
          <a:blip r:embed="rId3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:\北京3A-刘玲 素材制作 - 副本\UNIT SEVEN  WHEN IS THANKSGIVING\Lesson 23\素材\holidays\the Lantern Festival.jpg"/>
          <p:cNvPicPr/>
          <p:nvPr/>
        </p:nvPicPr>
        <p:blipFill>
          <a:blip r:embed="rId4"/>
          <a:stretch/>
        </p:blipFill>
        <p:spPr>
          <a:xfrm>
            <a:off x="171468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圆角矩形标注 4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gon Boat Festival is a Chinese holi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" descr="24366df0f1g320.jpg"/>
          <p:cNvPicPr/>
          <p:nvPr/>
        </p:nvPicPr>
        <p:blipFill>
          <a:blip r:embed="rId2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sp>
        <p:nvSpPr>
          <p:cNvPr id="103" name="圆角矩形标注 5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usually in Ju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2" descr="24366df01g320.jpg"/>
          <p:cNvPicPr/>
          <p:nvPr/>
        </p:nvPicPr>
        <p:blipFill>
          <a:blip r:embed="rId3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:\北京3A-刘玲 素材制作 - 副本\UNIT SEVEN  WHEN IS THANKSGIVING\Lesson 23\素材\holidays\Dragon Boat Festival.jpg"/>
          <p:cNvPicPr/>
          <p:nvPr/>
        </p:nvPicPr>
        <p:blipFill>
          <a:blip r:embed="rId4"/>
          <a:stretch/>
        </p:blipFill>
        <p:spPr>
          <a:xfrm>
            <a:off x="1714680" y="326880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圆角矩形标注 4"/>
          <p:cNvSpPr/>
          <p:nvPr/>
        </p:nvSpPr>
        <p:spPr>
          <a:xfrm>
            <a:off x="1714680" y="214200"/>
            <a:ext cx="571500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-Autumn Festival is a Chinese holi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1" descr="24366df0f1g320.jpg"/>
          <p:cNvPicPr/>
          <p:nvPr/>
        </p:nvPicPr>
        <p:blipFill>
          <a:blip r:embed="rId2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sp>
        <p:nvSpPr>
          <p:cNvPr id="108" name="圆角矩形标注 5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usually in Septem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2" descr="24366df01g320.jpg"/>
          <p:cNvPicPr/>
          <p:nvPr/>
        </p:nvPicPr>
        <p:blipFill>
          <a:blip r:embed="rId3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H:\北京3A-刘玲 素材制作 - 副本\UNIT SEVEN  WHEN IS THANKSGIVING\Lesson 23\素材\holidays\the Mid-Autumn Festival.jpg"/>
          <p:cNvPicPr/>
          <p:nvPr/>
        </p:nvPicPr>
        <p:blipFill>
          <a:blip r:embed="rId4"/>
          <a:stretch/>
        </p:blipFill>
        <p:spPr>
          <a:xfrm>
            <a:off x="1714680" y="326880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矩形 1" descr=""/>
          <p:cNvPicPr/>
          <p:nvPr/>
        </p:nvPicPr>
        <p:blipFill>
          <a:blip r:embed="rId2"/>
          <a:stretch/>
        </p:blipFill>
        <p:spPr>
          <a:xfrm>
            <a:off x="1000080" y="2017800"/>
            <a:ext cx="6931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矩形 3" descr=""/>
          <p:cNvPicPr/>
          <p:nvPr/>
        </p:nvPicPr>
        <p:blipFill>
          <a:blip r:embed="rId2"/>
          <a:stretch/>
        </p:blipFill>
        <p:spPr>
          <a:xfrm>
            <a:off x="822240" y="1920960"/>
            <a:ext cx="68644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圆角矩形标注 4"/>
          <p:cNvSpPr/>
          <p:nvPr/>
        </p:nvSpPr>
        <p:spPr>
          <a:xfrm>
            <a:off x="357120" y="428760"/>
            <a:ext cx="3000600" cy="1000080"/>
          </a:xfrm>
          <a:prstGeom prst="wedgeRoundRectCallout">
            <a:avLst>
              <a:gd name="adj1" fmla="val -12935"/>
              <a:gd name="adj2" fmla="val 84268"/>
              <a:gd name="adj3" fmla="val 16667"/>
            </a:avLst>
          </a:prstGeom>
          <a:noFill/>
          <a:ln cap="rnd" w="82440">
            <a:solidFill>
              <a:srgbClr val="558ed5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微软雅黑"/>
                <a:ea typeface="微软雅黑"/>
              </a:rPr>
              <a:t>重点句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1785960" y="4286160"/>
            <a:ext cx="5429160" cy="7858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in +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785960" y="207180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s +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节日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4000680" y="3357720"/>
            <a:ext cx="93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圆角矩形标注 4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s Hallowee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" descr="24366df0f1g320.jpg"/>
          <p:cNvPicPr/>
          <p:nvPr/>
        </p:nvPicPr>
        <p:blipFill>
          <a:blip r:embed="rId2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sp>
        <p:nvSpPr>
          <p:cNvPr id="57" name="圆角矩形标注 5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in Octo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" descr="24366df01g320.jpg"/>
          <p:cNvPicPr/>
          <p:nvPr/>
        </p:nvPicPr>
        <p:blipFill>
          <a:blip r:embed="rId3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:\北京3A-刘玲 素材制作 - 副本\UNIT SEVEN  WHEN IS THANKSGIVING\Lesson 23\素材\holidays\Halloween.jpg"/>
          <p:cNvPicPr/>
          <p:nvPr/>
        </p:nvPicPr>
        <p:blipFill>
          <a:blip r:embed="rId4"/>
          <a:stretch/>
        </p:blipFill>
        <p:spPr>
          <a:xfrm>
            <a:off x="1714680" y="326880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圆角矩形标注 4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s Thanksgiv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" descr="24366df0f1g320.jpg"/>
          <p:cNvPicPr/>
          <p:nvPr/>
        </p:nvPicPr>
        <p:blipFill>
          <a:blip r:embed="rId2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sp>
        <p:nvSpPr>
          <p:cNvPr id="62" name="圆角矩形标注 5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in Novem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24366df01g320.jpg"/>
          <p:cNvPicPr/>
          <p:nvPr/>
        </p:nvPicPr>
        <p:blipFill>
          <a:blip r:embed="rId3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hunjia.wubaiyi.com/uploads/allimg/111125/1334011B3-0.jpg"/>
          <p:cNvPicPr/>
          <p:nvPr/>
        </p:nvPicPr>
        <p:blipFill>
          <a:blip r:embed="rId4"/>
          <a:stretch/>
        </p:blipFill>
        <p:spPr>
          <a:xfrm>
            <a:off x="1743120" y="3144960"/>
            <a:ext cx="409104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圆角矩形标注 4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s Christma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24366df0f1g320.jpg"/>
          <p:cNvPicPr/>
          <p:nvPr/>
        </p:nvPicPr>
        <p:blipFill>
          <a:blip r:embed="rId2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标注 5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in Decem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2" descr="24366df01g320.jpg"/>
          <p:cNvPicPr/>
          <p:nvPr/>
        </p:nvPicPr>
        <p:blipFill>
          <a:blip r:embed="rId3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:\北京3A-刘玲 素材制作 - 副本\UNIT SEVEN  WHEN IS THANKSGIVING\Lesson 23\素材\holidays\Christmas.jpg"/>
          <p:cNvPicPr/>
          <p:nvPr/>
        </p:nvPicPr>
        <p:blipFill>
          <a:blip r:embed="rId4"/>
          <a:stretch/>
        </p:blipFill>
        <p:spPr>
          <a:xfrm>
            <a:off x="1714680" y="326880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圆角矩形标注 4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s New Year’s 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" descr="24366df0f1g320.jpg"/>
          <p:cNvPicPr/>
          <p:nvPr/>
        </p:nvPicPr>
        <p:blipFill>
          <a:blip r:embed="rId2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标注 5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in Janu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2" descr="24366df01g320.jpg"/>
          <p:cNvPicPr/>
          <p:nvPr/>
        </p:nvPicPr>
        <p:blipFill>
          <a:blip r:embed="rId3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:\北京3A-刘玲 素材制作 - 副本\UNIT SEVEN  WHEN IS THANKSGIVING\Lesson 23\素材\holidays\New Year's Day.jpg"/>
          <p:cNvPicPr/>
          <p:nvPr/>
        </p:nvPicPr>
        <p:blipFill>
          <a:blip r:embed="rId4"/>
          <a:stretch/>
        </p:blipFill>
        <p:spPr>
          <a:xfrm>
            <a:off x="1785960" y="326880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圆角矩形标注 4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s National 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" descr="24366df0f1g320.jpg"/>
          <p:cNvPicPr/>
          <p:nvPr/>
        </p:nvPicPr>
        <p:blipFill>
          <a:blip r:embed="rId2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sp>
        <p:nvSpPr>
          <p:cNvPr id="77" name="圆角矩形标注 5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on the first day in Octo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2" descr="24366df01g320.jpg"/>
          <p:cNvPicPr/>
          <p:nvPr/>
        </p:nvPicPr>
        <p:blipFill>
          <a:blip r:embed="rId3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:\北京3A-刘玲 素材制作 - 副本\UNIT SEVEN  WHEN IS THANKSGIVING\Lesson 23\素材\holidays\National Day.jpg"/>
          <p:cNvPicPr/>
          <p:nvPr/>
        </p:nvPicPr>
        <p:blipFill>
          <a:blip r:embed="rId4"/>
          <a:stretch/>
        </p:blipFill>
        <p:spPr>
          <a:xfrm>
            <a:off x="1714680" y="326880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标注 4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s Chinese New Ye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24366df0f1g320.jpg"/>
          <p:cNvPicPr/>
          <p:nvPr/>
        </p:nvPicPr>
        <p:blipFill>
          <a:blip r:embed="rId2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sp>
        <p:nvSpPr>
          <p:cNvPr id="82" name="圆角矩形标注 5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in January or Febru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" descr="24366df01g320.jpg"/>
          <p:cNvPicPr/>
          <p:nvPr/>
        </p:nvPicPr>
        <p:blipFill>
          <a:blip r:embed="rId3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:\北京3A-刘玲 素材制作 - 副本\UNIT SEVEN  WHEN IS THANKSGIVING\Lesson 23\素材\holidays\Chinese New Year.jpg"/>
          <p:cNvPicPr/>
          <p:nvPr/>
        </p:nvPicPr>
        <p:blipFill>
          <a:blip r:embed="rId4"/>
          <a:stretch/>
        </p:blipFill>
        <p:spPr>
          <a:xfrm>
            <a:off x="1714680" y="326880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08:46:35Z</dcterms:created>
  <dc:creator/>
  <dc:description/>
  <dc:language>en-US</dc:language>
  <cp:lastModifiedBy/>
  <dcterms:modified xsi:type="dcterms:W3CDTF">2015-06-26T01:41:13Z</dcterms:modified>
  <cp:revision>0</cp:revision>
  <dc:subject/>
  <dc:title/>
</cp:coreProperties>
</file>