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whoosh.wav" ContentType="audio/x-wav"/>
  <Override PartName="/ppt/media/image10.jpeg" ContentType="image/jpeg"/>
  <Override PartName="/ppt/media/image7.jpeg" ContentType="image/jpeg"/>
  <Override PartName="/ppt/media/zclick.wav" ContentType="audio/x-wav"/>
  <Override PartName="/ppt/media/image6.jpeg" ContentType="image/jpeg"/>
  <Override PartName="/ppt/media/chime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9.jpeg" ContentType="image/jpeg"/>
  <Override PartName="/ppt/media/image11.jpeg" ContentType="image/jpeg"/>
  <Override PartName="/ppt/media/drumroll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laser.wav" ContentType="audio/x-wav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4E9-6DF3-499B-838A-44FF58EB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589-F949-4C40-88A8-FF6C5CFB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C33-6F3A-44AB-B8C4-18EEF044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A6D-B163-4EB7-AFCD-72EF151A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7B4-99AF-4C18-B2C8-ACD32260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A69-611C-463A-9916-E7C1AF7A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111-8A9A-457F-8B25-730C3DE4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BB5-8650-49E1-8ECD-E25C1655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698-0939-49A4-93C1-8D57571F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B82-065B-4D3A-AB05-CC4589F0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B0B-7001-45BF-82BB-9BD84AC6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42E-6E7D-4F16-8937-2EA736D1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1477-7B4C-4FC0-9796-BCC77C147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zclick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zclick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zclick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zclick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3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925200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8056"/>
          <p:cNvPicPr/>
          <p:nvPr/>
        </p:nvPicPr>
        <p:blipFill>
          <a:blip r:embed="rId1"/>
          <a:stretch/>
        </p:blipFill>
        <p:spPr>
          <a:xfrm>
            <a:off x="1835280" y="692280"/>
            <a:ext cx="5429160" cy="5410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7308720" y="1413000"/>
            <a:ext cx="32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Arial"/>
              </a:rPr>
              <a:t>gr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987640" y="5013360"/>
            <a:ext cx="4032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a grey c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ic136"/>
          <p:cNvPicPr/>
          <p:nvPr/>
        </p:nvPicPr>
        <p:blipFill>
          <a:blip r:embed="rId1"/>
          <a:srcRect l="0" t="0" r="0" b="6247"/>
          <a:stretch/>
        </p:blipFill>
        <p:spPr>
          <a:xfrm>
            <a:off x="871560" y="466560"/>
            <a:ext cx="7400880" cy="5554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71640" y="54936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cc"/>
                </a:solidFill>
                <a:latin typeface="Arial"/>
              </a:rPr>
              <a:t>purp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ic185"/>
          <p:cNvPicPr/>
          <p:nvPr/>
        </p:nvPicPr>
        <p:blipFill>
          <a:blip r:embed="rId1"/>
          <a:srcRect l="0" t="0" r="0" b="6247"/>
          <a:stretch/>
        </p:blipFill>
        <p:spPr>
          <a:xfrm>
            <a:off x="871560" y="466560"/>
            <a:ext cx="7400880" cy="5554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1468440" y="6087960"/>
            <a:ext cx="626436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I like the gold flow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692360" y="5661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Arial"/>
              </a:rPr>
              <a:t>I like the pink ribb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://s14.sinaimg.cn/bmiddle/49a36e4044f6fdccf11fd"/>
          <p:cNvPicPr/>
          <p:nvPr/>
        </p:nvPicPr>
        <p:blipFill>
          <a:blip r:embed="rId1"/>
          <a:stretch/>
        </p:blipFill>
        <p:spPr>
          <a:xfrm>
            <a:off x="1116000" y="981000"/>
            <a:ext cx="27957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835280" y="5013360"/>
            <a:ext cx="62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the silver be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cdn.duitang.com/uploads/item/201209/04/20120904144738_y8PfE.jpeg"/>
          <p:cNvPicPr/>
          <p:nvPr/>
        </p:nvPicPr>
        <p:blipFill>
          <a:blip r:embed="rId1"/>
          <a:stretch/>
        </p:blipFill>
        <p:spPr>
          <a:xfrm>
            <a:off x="1835280" y="1557360"/>
            <a:ext cx="49147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8360" y="69228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08000" y="0"/>
            <a:ext cx="5256000" cy="6577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   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红色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Yellow  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黄色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lue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蓝色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白色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green   </a:t>
            </a:r>
            <a:r>
              <a:rPr b="0" lang="zh-CN" sz="2400" spc="-1" strike="noStrike">
                <a:solidFill>
                  <a:srgbClr val="66ff33"/>
                </a:solidFill>
                <a:latin typeface="Arial"/>
              </a:rPr>
              <a:t>绿色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urple  </a:t>
            </a:r>
            <a:r>
              <a:rPr b="0" lang="zh-CN" sz="2400" spc="-1" strike="noStrike">
                <a:solidFill>
                  <a:srgbClr val="9900cc"/>
                </a:solidFill>
                <a:latin typeface="Arial"/>
              </a:rPr>
              <a:t>紫色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brown   </a:t>
            </a:r>
            <a:r>
              <a:rPr b="0" lang="zh-CN" sz="2400" spc="-1" strike="noStrike">
                <a:solidFill>
                  <a:srgbClr val="996633"/>
                </a:solidFill>
                <a:latin typeface="Arial"/>
              </a:rPr>
              <a:t>棕色的，褐色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orange 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橘红色的，橙色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grey      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灰色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黑色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k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粉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xinsrc_20212010711134372424127"/>
          <p:cNvPicPr/>
          <p:nvPr/>
        </p:nvPicPr>
        <p:blipFill>
          <a:blip r:embed="rId1"/>
          <a:srcRect l="0" t="0" r="0" b="14733"/>
          <a:stretch/>
        </p:blipFill>
        <p:spPr>
          <a:xfrm>
            <a:off x="5416560" y="1685880"/>
            <a:ext cx="22716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828800" y="1127160"/>
            <a:ext cx="56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Arial Black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43000" y="2309760"/>
            <a:ext cx="6842160" cy="2951640"/>
          </a:xfrm>
          <a:prstGeom prst="rect">
            <a:avLst/>
          </a:pr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ffffcc">
                  <a:alpha val="4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Remember all the new words and expressions we’ve learned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Learn the new words in Lesson 24 by he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N029"/>
          <p:cNvPicPr/>
          <p:nvPr/>
        </p:nvPicPr>
        <p:blipFill>
          <a:blip r:embed="rId1"/>
          <a:stretch/>
        </p:blipFill>
        <p:spPr>
          <a:xfrm>
            <a:off x="4427640" y="620640"/>
            <a:ext cx="4062240" cy="2881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95280" y="62064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What’s that over there? Is it an ap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68360" y="126828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No, It’s an o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68360" y="1557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What color is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68360" y="191628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It’s o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31640" y="236520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ike the orange o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052"/>
          <p:cNvPicPr/>
          <p:nvPr/>
        </p:nvPicPr>
        <p:blipFill>
          <a:blip r:embed="rId1"/>
          <a:stretch/>
        </p:blipFill>
        <p:spPr>
          <a:xfrm>
            <a:off x="2411280" y="692280"/>
            <a:ext cx="4295880" cy="5419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5435640" y="62064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24000" y="2276640"/>
            <a:ext cx="31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50920" y="2492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this in Englis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95280" y="2852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a c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95280" y="321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68360" y="357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bl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39640" y="3933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black c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627280" y="5445000"/>
            <a:ext cx="46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black clo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042920" y="393372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pic146"/>
          <p:cNvPicPr/>
          <p:nvPr/>
        </p:nvPicPr>
        <p:blipFill>
          <a:blip r:embed="rId1"/>
          <a:srcRect l="0" t="0" r="0" b="17184"/>
          <a:stretch/>
        </p:blipFill>
        <p:spPr>
          <a:xfrm>
            <a:off x="900000" y="619200"/>
            <a:ext cx="7400880" cy="49053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"/>
          <p:cNvSpPr/>
          <p:nvPr/>
        </p:nvSpPr>
        <p:spPr>
          <a:xfrm>
            <a:off x="1979640" y="333360"/>
            <a:ext cx="3024000" cy="1655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124000" y="5524560"/>
            <a:ext cx="63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 like the red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009"/>
          <p:cNvPicPr/>
          <p:nvPr/>
        </p:nvPicPr>
        <p:blipFill>
          <a:blip r:embed="rId1"/>
          <a:stretch/>
        </p:blipFill>
        <p:spPr>
          <a:xfrm>
            <a:off x="507960" y="546120"/>
            <a:ext cx="6953400" cy="4932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3"/>
          <p:cNvSpPr/>
          <p:nvPr/>
        </p:nvSpPr>
        <p:spPr>
          <a:xfrm>
            <a:off x="5724360" y="1052640"/>
            <a:ext cx="2808360" cy="1079280"/>
          </a:xfrm>
          <a:prstGeom prst="wedgeRect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bl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332000" y="5805360"/>
            <a:ext cx="5616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I like the blue c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TDG1002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2771640" y="54936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47640" y="5373720"/>
            <a:ext cx="53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like the white do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SN029"/>
          <p:cNvPicPr/>
          <p:nvPr/>
        </p:nvPicPr>
        <p:blipFill>
          <a:blip r:embed="rId1"/>
          <a:stretch/>
        </p:blipFill>
        <p:spPr>
          <a:xfrm>
            <a:off x="507960" y="546120"/>
            <a:ext cx="8128080" cy="57657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"/>
          <p:cNvSpPr/>
          <p:nvPr/>
        </p:nvSpPr>
        <p:spPr>
          <a:xfrm>
            <a:off x="5200560" y="765000"/>
            <a:ext cx="3692520" cy="12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00360" y="56102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range or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c153"/>
          <p:cNvPicPr/>
          <p:nvPr/>
        </p:nvPicPr>
        <p:blipFill>
          <a:blip r:embed="rId1"/>
          <a:srcRect l="0" t="0" r="0" b="5189"/>
          <a:stretch/>
        </p:blipFill>
        <p:spPr>
          <a:xfrm>
            <a:off x="1538280" y="1644480"/>
            <a:ext cx="4389480" cy="3330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6012000" y="620640"/>
            <a:ext cx="30258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yel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468440" y="6087960"/>
            <a:ext cx="626436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I like the yellow flow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ANIML008"/>
          <p:cNvPicPr/>
          <p:nvPr/>
        </p:nvPicPr>
        <p:blipFill>
          <a:blip r:embed="rId1"/>
          <a:stretch/>
        </p:blipFill>
        <p:spPr>
          <a:xfrm>
            <a:off x="2627280" y="18900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6516720" y="292428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33"/>
                </a:solidFill>
                <a:latin typeface="Arial"/>
              </a:rPr>
              <a:t>brow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835280" y="5950080"/>
            <a:ext cx="619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I like thebrown do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N008"/>
          <p:cNvPicPr/>
          <p:nvPr/>
        </p:nvPicPr>
        <p:blipFill>
          <a:blip r:embed="rId1"/>
          <a:stretch/>
        </p:blipFill>
        <p:spPr>
          <a:xfrm>
            <a:off x="507960" y="546120"/>
            <a:ext cx="8128080" cy="5765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6048360" y="549360"/>
            <a:ext cx="30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ff33"/>
                </a:solidFill>
                <a:latin typeface="Arial"/>
              </a:rPr>
              <a:t>gre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484360" y="610560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a green ap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3:42:59Z</dcterms:created>
  <dc:creator/>
  <dc:description/>
  <dc:language>en-US</dc:language>
  <cp:lastModifiedBy/>
  <dcterms:modified xsi:type="dcterms:W3CDTF">2016-10-31T14:26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3</vt:lpwstr>
  </property>
</Properties>
</file>