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623-492A-4EB9-AA2D-9CD192A7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101-141D-459E-BC91-CB5FDCE3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C47-2977-41BF-9BD4-BA0E3415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C28-1A35-4296-A8AE-3CB56B10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424-43AA-4645-868A-1B82795E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32E-1A29-432A-959D-B5000FDE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6A0-3F00-4584-BA8F-5377E5E2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A68-4B62-4881-880C-5C5AC8F7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C86-99A2-4EED-8D62-4A411B4C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F67F-415C-4AB1-BFB2-1080FE8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D95-6135-46E5-9775-481D0286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BB6-80CC-457B-B826-F905F1F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BA44-4C95-4BF6-B55B-4A9326FF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 SEVEN  WHEN IS THANKSGIVING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son 25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西方主要节日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908000" y="981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Lantern Festival</a:t>
            </a:r>
            <a:r>
              <a:rPr b="0" lang="en-US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元宵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8800" y="2708280"/>
          <a:ext cx="8431200" cy="3025800"/>
        </p:xfrm>
        <a:graphic>
          <a:graphicData uri="http://schemas.openxmlformats.org/drawingml/2006/table">
            <a:tbl>
              <a:tblPr/>
              <a:tblGrid>
                <a:gridCol w="2238480"/>
                <a:gridCol w="6192720"/>
              </a:tblGrid>
              <a:tr h="99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n the 15</a:t>
                      </a:r>
                      <a:r>
                        <a:rPr b="0" lang="en-US" sz="2600" spc="-1" strike="noStrike" baseline="30000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th</a:t>
                      </a: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 of the first lunar month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play with lanterns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eat rice balls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1" name="Rectangle 21"/>
          <p:cNvSpPr/>
          <p:nvPr/>
        </p:nvSpPr>
        <p:spPr>
          <a:xfrm>
            <a:off x="1577880" y="1754280"/>
            <a:ext cx="60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  <a:ea typeface="黑体"/>
              </a:rPr>
              <a:t>It is a popular holiday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0" descr="8n7kPA"/>
          <p:cNvPicPr/>
          <p:nvPr/>
        </p:nvPicPr>
        <p:blipFill>
          <a:blip r:embed="rId1"/>
          <a:stretch/>
        </p:blipFill>
        <p:spPr>
          <a:xfrm>
            <a:off x="5435640" y="4437000"/>
            <a:ext cx="123516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330200" y="62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Women’s  Day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妇女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155520" y="-3278160"/>
            <a:ext cx="9753480" cy="68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307800" y="-3125880"/>
            <a:ext cx="9753840" cy="68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http://pic19.nipic.com/20120223/5788641_125246065392_2.jpg"/>
          <p:cNvPicPr/>
          <p:nvPr/>
        </p:nvPicPr>
        <p:blipFill>
          <a:blip r:embed="rId1"/>
          <a:srcRect l="0" t="0" r="0" b="4579"/>
          <a:stretch/>
        </p:blipFill>
        <p:spPr>
          <a:xfrm>
            <a:off x="1547640" y="1844640"/>
            <a:ext cx="60753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124000" y="98100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Women’s Day</a:t>
            </a:r>
            <a:r>
              <a:rPr b="0" lang="en-US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妇女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88800" y="2565360"/>
          <a:ext cx="8431200" cy="3040200"/>
        </p:xfrm>
        <a:graphic>
          <a:graphicData uri="http://schemas.openxmlformats.org/drawingml/2006/table">
            <a:tbl>
              <a:tblPr/>
              <a:tblGrid>
                <a:gridCol w="2238480"/>
                <a:gridCol w="61927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n the  8</a:t>
                      </a:r>
                      <a:r>
                        <a:rPr b="0" lang="en-US" sz="2600" spc="-1" strike="noStrike" baseline="30000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th</a:t>
                      </a: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 of Mar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give the gifts to the women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9" name="Rectangle 19"/>
          <p:cNvSpPr/>
          <p:nvPr/>
        </p:nvSpPr>
        <p:spPr>
          <a:xfrm>
            <a:off x="2115360" y="1754280"/>
            <a:ext cx="500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  <a:ea typeface="黑体"/>
              </a:rPr>
              <a:t>It is a holiday for w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5"/>
          <p:cNvSpPr/>
          <p:nvPr/>
        </p:nvSpPr>
        <p:spPr>
          <a:xfrm>
            <a:off x="1042920" y="47628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April Fool’s Day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愚人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7"/>
          <p:cNvSpPr/>
          <p:nvPr/>
        </p:nvSpPr>
        <p:spPr>
          <a:xfrm>
            <a:off x="155520" y="-3117960"/>
            <a:ext cx="975348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9"/>
          <p:cNvSpPr/>
          <p:nvPr/>
        </p:nvSpPr>
        <p:spPr>
          <a:xfrm>
            <a:off x="307800" y="-2965320"/>
            <a:ext cx="9753840" cy="64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1" descr="http://pic27.nipic.com/20130305/8573240_184342226115_2.jpg"/>
          <p:cNvPicPr/>
          <p:nvPr/>
        </p:nvPicPr>
        <p:blipFill>
          <a:blip r:embed="rId1"/>
          <a:srcRect l="0" t="0" r="0" b="6672"/>
          <a:stretch/>
        </p:blipFill>
        <p:spPr>
          <a:xfrm>
            <a:off x="1712880" y="1989000"/>
            <a:ext cx="60325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908000" y="981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April Fool’s Day</a:t>
            </a:r>
            <a:r>
              <a:rPr b="0" lang="en-US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愚人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8800" y="2565360"/>
          <a:ext cx="8431200" cy="3024360"/>
        </p:xfrm>
        <a:graphic>
          <a:graphicData uri="http://schemas.openxmlformats.org/drawingml/2006/table">
            <a:tbl>
              <a:tblPr/>
              <a:tblGrid>
                <a:gridCol w="2238480"/>
                <a:gridCol w="6192720"/>
              </a:tblGrid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n the  1</a:t>
                      </a:r>
                      <a:r>
                        <a:rPr b="0" lang="en-US" sz="2600" spc="-1" strike="noStrike" baseline="30000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st</a:t>
                      </a: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 of Apri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03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play jokes on others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86" name="Rectangle 15"/>
          <p:cNvSpPr/>
          <p:nvPr/>
        </p:nvSpPr>
        <p:spPr>
          <a:xfrm>
            <a:off x="1352520" y="1754280"/>
            <a:ext cx="654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  <a:ea typeface="黑体"/>
              </a:rPr>
              <a:t>It is a day to play jokes o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4211640" y="5661000"/>
            <a:ext cx="4680000" cy="934920"/>
          </a:xfrm>
          <a:prstGeom prst="cloudCallout">
            <a:avLst>
              <a:gd name="adj1" fmla="val -46675"/>
              <a:gd name="adj2" fmla="val -136416"/>
            </a:avLst>
          </a:prstGeom>
          <a:solidFill>
            <a:srgbClr val="fb090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You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be careful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92360" y="18446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63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lear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1305000" y="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New Year’s Day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新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8"/>
          <p:cNvGrpSpPr/>
          <p:nvPr/>
        </p:nvGrpSpPr>
        <p:grpSpPr>
          <a:xfrm>
            <a:off x="1692360" y="1341360"/>
            <a:ext cx="5616360" cy="4392720"/>
            <a:chOff x="1692360" y="1341360"/>
            <a:chExt cx="5616360" cy="4392720"/>
          </a:xfrm>
        </p:grpSpPr>
        <p:pic>
          <p:nvPicPr>
            <p:cNvPr id="45" name="Picture 16" descr="98766a595a5757192934f06e"/>
            <p:cNvPicPr/>
            <p:nvPr/>
          </p:nvPicPr>
          <p:blipFill>
            <a:blip r:embed="rId1"/>
            <a:stretch/>
          </p:blipFill>
          <p:spPr>
            <a:xfrm>
              <a:off x="1692360" y="1341360"/>
              <a:ext cx="561636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7"/>
            <p:cNvSpPr/>
            <p:nvPr/>
          </p:nvSpPr>
          <p:spPr>
            <a:xfrm>
              <a:off x="4993200" y="5325120"/>
              <a:ext cx="1388520" cy="24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2124000" y="638280"/>
            <a:ext cx="61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0802"/>
                </a:solidFill>
                <a:latin typeface="Arial Black"/>
                <a:ea typeface="黑体"/>
              </a:rPr>
              <a:t>New Year’s Day</a:t>
            </a:r>
            <a:r>
              <a:rPr b="0" lang="en-US" sz="44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400" spc="-1" strike="noStrike">
                <a:solidFill>
                  <a:srgbClr val="fe0802"/>
                </a:solidFill>
                <a:latin typeface="Comic Sans MS"/>
                <a:ea typeface="黑体"/>
              </a:rPr>
              <a:t>新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557360"/>
          <a:ext cx="8431200" cy="4618080"/>
        </p:xfrm>
        <a:graphic>
          <a:graphicData uri="http://schemas.openxmlformats.org/drawingml/2006/table">
            <a:tbl>
              <a:tblPr/>
              <a:tblGrid>
                <a:gridCol w="1655640"/>
                <a:gridCol w="6775560"/>
              </a:tblGrid>
              <a:tr h="198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n the 1</a:t>
                      </a:r>
                      <a:r>
                        <a:rPr b="0" lang="en-US" sz="3600" spc="-1" strike="noStrike" baseline="30000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st</a:t>
                      </a: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 of Januar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63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have a big lunch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eat a lot of delicious food,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go to parties,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1258920" y="404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Spring Festival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春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http://pic5.nipic.com/20100127/3572484_150529694141_2.jpg"/>
          <p:cNvPicPr/>
          <p:nvPr/>
        </p:nvPicPr>
        <p:blipFill>
          <a:blip r:embed="rId1"/>
          <a:srcRect l="0" t="0" r="0" b="6211"/>
          <a:stretch/>
        </p:blipFill>
        <p:spPr>
          <a:xfrm>
            <a:off x="1419120" y="1916280"/>
            <a:ext cx="61102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266920" y="981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Spring Festival</a:t>
            </a:r>
            <a:r>
              <a:rPr b="0" lang="en-US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春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2492280"/>
          <a:ext cx="8431200" cy="3400560"/>
        </p:xfrm>
        <a:graphic>
          <a:graphicData uri="http://schemas.openxmlformats.org/drawingml/2006/table">
            <a:tbl>
              <a:tblPr/>
              <a:tblGrid>
                <a:gridCol w="2232000"/>
                <a:gridCol w="6199200"/>
              </a:tblGrid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in January or Febru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40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eat a lot of delicious food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visit their relatives and friends,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play with fireworks(</a:t>
                      </a:r>
                      <a:r>
                        <a:rPr b="0" lang="zh-CN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烟花</a:t>
                      </a: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)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get some red packets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3" name="Rectangle 18"/>
          <p:cNvSpPr/>
          <p:nvPr/>
        </p:nvSpPr>
        <p:spPr>
          <a:xfrm>
            <a:off x="1577880" y="1754280"/>
            <a:ext cx="608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Arial Black"/>
                <a:ea typeface="黑体"/>
              </a:rPr>
              <a:t>It is a popular holiday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3" descr="gift_56_0"/>
          <p:cNvPicPr/>
          <p:nvPr/>
        </p:nvPicPr>
        <p:blipFill>
          <a:blip r:embed="rId1"/>
          <a:stretch/>
        </p:blipFill>
        <p:spPr>
          <a:xfrm>
            <a:off x="7020000" y="5013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2"/>
          <p:cNvSpPr/>
          <p:nvPr/>
        </p:nvSpPr>
        <p:spPr>
          <a:xfrm>
            <a:off x="971640" y="476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Valentine’s Day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情人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http://pic14.nipic.com/20110508/2757189_192512227000_2.jpg"/>
          <p:cNvPicPr/>
          <p:nvPr/>
        </p:nvPicPr>
        <p:blipFill>
          <a:blip r:embed="rId1"/>
          <a:srcRect l="0" t="0" r="0" b="6781"/>
          <a:stretch/>
        </p:blipFill>
        <p:spPr>
          <a:xfrm>
            <a:off x="1305000" y="1916280"/>
            <a:ext cx="6750000" cy="36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908000" y="98100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Valentine’s</a:t>
            </a:r>
            <a:r>
              <a:rPr b="0" lang="en-US" sz="3200" spc="-1" strike="noStrike">
                <a:solidFill>
                  <a:srgbClr val="6600cc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e0802"/>
                </a:solidFill>
                <a:latin typeface="Arial Black"/>
                <a:ea typeface="黑体"/>
              </a:rPr>
              <a:t>Day</a:t>
            </a:r>
            <a:r>
              <a:rPr b="0" lang="en-US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 </a:t>
            </a:r>
            <a:r>
              <a:rPr b="0" lang="zh-CN" sz="4000" spc="-1" strike="noStrike">
                <a:solidFill>
                  <a:srgbClr val="fe0802"/>
                </a:solidFill>
                <a:latin typeface="Comic Sans MS"/>
                <a:ea typeface="黑体"/>
              </a:rPr>
              <a:t>情人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8800" y="2709720"/>
          <a:ext cx="8431200" cy="3265560"/>
        </p:xfrm>
        <a:graphic>
          <a:graphicData uri="http://schemas.openxmlformats.org/drawingml/2006/table">
            <a:tbl>
              <a:tblPr/>
              <a:tblGrid>
                <a:gridCol w="2238480"/>
                <a:gridCol w="6192720"/>
              </a:tblGrid>
              <a:tr h="98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n the 14</a:t>
                      </a:r>
                      <a:r>
                        <a:rPr b="0" lang="en-US" sz="2600" spc="-1" strike="noStrike" baseline="30000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th</a:t>
                      </a: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 of Februar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  <a:tr h="228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e0802"/>
                          </a:solidFill>
                          <a:latin typeface="Arial Black"/>
                          <a:ea typeface="黑体"/>
                        </a:rPr>
                        <a:t>What to d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Lovers give the candy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the flower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or other gifts to each other,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6600cc"/>
                          </a:solidFill>
                          <a:latin typeface="Arial Black"/>
                          <a:ea typeface="黑体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59" name="Group 31"/>
          <p:cNvGrpSpPr/>
          <p:nvPr/>
        </p:nvGrpSpPr>
        <p:grpSpPr>
          <a:xfrm>
            <a:off x="1781640" y="1628640"/>
            <a:ext cx="6924240" cy="952560"/>
            <a:chOff x="1781640" y="1628640"/>
            <a:chExt cx="6924240" cy="952560"/>
          </a:xfrm>
        </p:grpSpPr>
        <p:sp>
          <p:nvSpPr>
            <p:cNvPr id="60" name="Rectangle 16"/>
            <p:cNvSpPr/>
            <p:nvPr/>
          </p:nvSpPr>
          <p:spPr>
            <a:xfrm>
              <a:off x="1781640" y="1754280"/>
              <a:ext cx="546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6600cc"/>
                  </a:solidFill>
                  <a:latin typeface="Arial Black"/>
                  <a:ea typeface="黑体"/>
                </a:rPr>
                <a:t>It is a holiday for the lover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18" descr="1a988e79653645300d2"/>
            <p:cNvPicPr/>
            <p:nvPr/>
          </p:nvPicPr>
          <p:blipFill>
            <a:blip r:embed="rId1"/>
            <a:stretch/>
          </p:blipFill>
          <p:spPr>
            <a:xfrm>
              <a:off x="7667640" y="1628640"/>
              <a:ext cx="1038240" cy="95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28"/>
          <p:cNvGrpSpPr/>
          <p:nvPr/>
        </p:nvGrpSpPr>
        <p:grpSpPr>
          <a:xfrm>
            <a:off x="6516720" y="3862440"/>
            <a:ext cx="2303280" cy="1727280"/>
            <a:chOff x="6516720" y="3862440"/>
            <a:chExt cx="2303280" cy="1727280"/>
          </a:xfrm>
        </p:grpSpPr>
        <p:pic>
          <p:nvPicPr>
            <p:cNvPr id="63" name="Picture 23" descr="032"/>
            <p:cNvPicPr/>
            <p:nvPr/>
          </p:nvPicPr>
          <p:blipFill>
            <a:blip r:embed="rId2"/>
            <a:stretch/>
          </p:blipFill>
          <p:spPr>
            <a:xfrm>
              <a:off x="6516720" y="3862440"/>
              <a:ext cx="1047600" cy="10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6" descr="gift90746161"/>
            <p:cNvPicPr/>
            <p:nvPr/>
          </p:nvPicPr>
          <p:blipFill>
            <a:blip r:embed="rId3"/>
            <a:stretch/>
          </p:blipFill>
          <p:spPr>
            <a:xfrm>
              <a:off x="7308720" y="4151520"/>
              <a:ext cx="1511280" cy="143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5"/>
          <p:cNvSpPr/>
          <p:nvPr/>
        </p:nvSpPr>
        <p:spPr>
          <a:xfrm>
            <a:off x="826920" y="54936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 Black"/>
                <a:ea typeface="黑体"/>
              </a:rPr>
              <a:t>Lantern Festival</a:t>
            </a:r>
            <a:r>
              <a:rPr b="0" lang="en-US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 </a:t>
            </a:r>
            <a:r>
              <a:rPr b="0" lang="zh-CN" sz="5400" spc="-1" strike="noStrike">
                <a:solidFill>
                  <a:srgbClr val="6600cc"/>
                </a:solidFill>
                <a:latin typeface="Comic Sans MS"/>
                <a:ea typeface="黑体"/>
              </a:rPr>
              <a:t>元宵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155520" y="-2347920"/>
            <a:ext cx="9753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07800" y="-2195640"/>
            <a:ext cx="9753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3" descr="http://pic12.nipic.com/20110213/2769547_092216798000_2.jpg"/>
          <p:cNvPicPr/>
          <p:nvPr/>
        </p:nvPicPr>
        <p:blipFill>
          <a:blip r:embed="rId1"/>
          <a:srcRect l="0" t="0" r="0" b="5813"/>
          <a:stretch/>
        </p:blipFill>
        <p:spPr>
          <a:xfrm>
            <a:off x="1476360" y="1935000"/>
            <a:ext cx="611820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3:44:55Z</dcterms:created>
  <dc:creator/>
  <dc:description/>
  <dc:language>en-US</dc:language>
  <cp:lastModifiedBy/>
  <dcterms:modified xsi:type="dcterms:W3CDTF">2015-06-30T08:37:35Z</dcterms:modified>
  <cp:revision>358</cp:revision>
  <dc:subject/>
  <dc:title/>
</cp:coreProperties>
</file>