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A85-2AFD-44C9-B599-BB5ED54F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C11-87BA-4F6A-A92E-6FCDA01D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915B-8986-4793-89A6-DD7E6761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A000-B4A5-4166-8EE5-B7D4AB04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892-AD3C-44FD-908A-4862664B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94D-58F9-484F-99CF-84BF2F20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D2C-5770-4C5D-A5A0-8F195669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7AF-19E1-49A8-8606-0E89BE80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7C0-B3F2-4DF9-A99D-77A90D5B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BB5-FD02-4361-BD6A-C73103EB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B20-2F38-4065-86BF-294CFACB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77F-143E-4ED7-BE6E-5C685F4B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FBF0-F245-43E6-BAB5-13BEDFFDDC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3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925200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14600" y="464832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red lanter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www.ecns.cn/learning-Chinese/2012/02-07/U363P886T1D7643F12DT20120207100743.jpg"/>
          <p:cNvPicPr/>
          <p:nvPr/>
        </p:nvPicPr>
        <p:blipFill>
          <a:blip r:embed="rId1"/>
          <a:stretch/>
        </p:blipFill>
        <p:spPr>
          <a:xfrm>
            <a:off x="2057400" y="1295280"/>
            <a:ext cx="476244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u=739064671,800862942&amp;fm=23&amp;gp=0"/>
          <p:cNvPicPr/>
          <p:nvPr/>
        </p:nvPicPr>
        <p:blipFill>
          <a:blip r:embed="rId1"/>
          <a:srcRect l="0" t="6689" r="0" b="-5341"/>
          <a:stretch/>
        </p:blipFill>
        <p:spPr>
          <a:xfrm>
            <a:off x="-196920" y="152280"/>
            <a:ext cx="3746520" cy="5619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4114800" y="266688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firecrack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267080" y="3429000"/>
            <a:ext cx="99072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>
            <a:off x="5334120" y="342900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u=1801329295,1005883952&amp;fm=23&amp;gp=0"/>
          <p:cNvPicPr/>
          <p:nvPr/>
        </p:nvPicPr>
        <p:blipFill>
          <a:blip r:embed="rId1"/>
          <a:srcRect l="0" t="0" r="0" b="4762"/>
          <a:stretch/>
        </p:blipFill>
        <p:spPr>
          <a:xfrm>
            <a:off x="2362320" y="533520"/>
            <a:ext cx="4419360" cy="30477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325600" y="39625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gif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u=4251254321,887168715&amp;fm=23&amp;gp=0"/>
          <p:cNvPicPr/>
          <p:nvPr/>
        </p:nvPicPr>
        <p:blipFill>
          <a:blip r:embed="rId1"/>
          <a:srcRect l="0" t="0" r="0" b="6521"/>
          <a:stretch/>
        </p:blipFill>
        <p:spPr>
          <a:xfrm>
            <a:off x="2133720" y="533520"/>
            <a:ext cx="5029200" cy="3276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514600" y="4419720"/>
            <a:ext cx="541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dumpling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u=3678067113,3830188691&amp;fm=23&amp;gp=0"/>
          <p:cNvPicPr/>
          <p:nvPr/>
        </p:nvPicPr>
        <p:blipFill>
          <a:blip r:embed="rId1"/>
          <a:srcRect l="0" t="0" r="0" b="5530"/>
          <a:stretch/>
        </p:blipFill>
        <p:spPr>
          <a:xfrm>
            <a:off x="1752480" y="533520"/>
            <a:ext cx="579600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1600200" y="472428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ave some dumpling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1371600" y="457200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an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pic29.nipic.com/20130520/12791916_215537475198_2.jpg"/>
          <p:cNvPicPr/>
          <p:nvPr/>
        </p:nvPicPr>
        <p:blipFill>
          <a:blip r:embed="rId1"/>
          <a:srcRect l="0" t="0" r="0" b="6669"/>
          <a:stretch/>
        </p:blipFill>
        <p:spPr>
          <a:xfrm>
            <a:off x="2362320" y="914400"/>
            <a:ext cx="419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1600200" y="47242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ave some candi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ycmhz.com.cn/jiankang/UploadFiles_1804/201205/20120516101716338.jpg"/>
          <p:cNvPicPr/>
          <p:nvPr/>
        </p:nvPicPr>
        <p:blipFill>
          <a:blip r:embed="rId1"/>
          <a:stretch/>
        </p:blipFill>
        <p:spPr>
          <a:xfrm>
            <a:off x="1905120" y="990720"/>
            <a:ext cx="4581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3"/>
          <p:cNvSpPr txBox="1"/>
          <p:nvPr/>
        </p:nvSpPr>
        <p:spPr>
          <a:xfrm>
            <a:off x="2514600" y="0"/>
            <a:ext cx="4267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57200" y="1143000"/>
            <a:ext cx="6477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Listen and read the les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听并且熟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Interview your parents: what do you do at Chinese New Year? Then, complete the surve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回家采访自己的父母，完成调查表。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u=3604926861,1831867524&amp;fm=23&amp;gp=0"/>
          <p:cNvPicPr/>
          <p:nvPr/>
        </p:nvPicPr>
        <p:blipFill>
          <a:blip r:embed="rId1"/>
          <a:stretch/>
        </p:blipFill>
        <p:spPr>
          <a:xfrm>
            <a:off x="2133720" y="457200"/>
            <a:ext cx="5105160" cy="4038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295280" y="47242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Happy New Year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48120" y="56386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新 年 快 乐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5499277_100425079194_2"/>
          <p:cNvPicPr/>
          <p:nvPr/>
        </p:nvPicPr>
        <p:blipFill>
          <a:blip r:embed="rId1"/>
          <a:srcRect l="0" t="0" r="0" b="6000"/>
          <a:stretch/>
        </p:blipFill>
        <p:spPr>
          <a:xfrm>
            <a:off x="1066680" y="380880"/>
            <a:ext cx="7086600" cy="3581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1143000" y="4343400"/>
            <a:ext cx="693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Chinese New Ye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352680" y="533412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春   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43000" y="4343400"/>
            <a:ext cx="7162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et’s celebrat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Chinese New Year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ogether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pic.58pic.com/58pic/12/25/58/88t58PIChMb.jpg"/>
          <p:cNvPicPr/>
          <p:nvPr/>
        </p:nvPicPr>
        <p:blipFill>
          <a:blip r:embed="rId1"/>
          <a:stretch/>
        </p:blipFill>
        <p:spPr>
          <a:xfrm>
            <a:off x="1219320" y="609480"/>
            <a:ext cx="6038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52480" y="4952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erry Christma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img.xiami.net/images/collect/642/42/14686642_1355410760.jpg"/>
          <p:cNvPicPr/>
          <p:nvPr/>
        </p:nvPicPr>
        <p:blipFill>
          <a:blip r:embed="rId1"/>
          <a:srcRect l="0" t="0" r="0" b="6672"/>
          <a:stretch/>
        </p:blipFill>
        <p:spPr>
          <a:xfrm>
            <a:off x="1523880" y="1123920"/>
            <a:ext cx="5619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447920" y="4876920"/>
            <a:ext cx="716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et’s celebrate Christmas togeth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img4.duitang.com/uploads/blog/201312/24/20131224154351_3ZNvX.thumb.600_0.jpeg"/>
          <p:cNvPicPr/>
          <p:nvPr/>
        </p:nvPicPr>
        <p:blipFill>
          <a:blip r:embed="rId1"/>
          <a:stretch/>
        </p:blipFill>
        <p:spPr>
          <a:xfrm>
            <a:off x="1752480" y="914400"/>
            <a:ext cx="50641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447920" y="4876920"/>
            <a:ext cx="716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et’s celebrate National Day togeth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uploads.xuexila.com/allimg/1609/700-1609131S607.jpg"/>
          <p:cNvPicPr/>
          <p:nvPr/>
        </p:nvPicPr>
        <p:blipFill>
          <a:blip r:embed="rId1"/>
          <a:stretch/>
        </p:blipFill>
        <p:spPr>
          <a:xfrm>
            <a:off x="1600200" y="1066680"/>
            <a:ext cx="52196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447920" y="4876920"/>
            <a:ext cx="716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appy Thanksgiv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s13.sinaimg.cn/bmiddle/494e0486t6fa4e09e218c"/>
          <p:cNvPicPr/>
          <p:nvPr/>
        </p:nvPicPr>
        <p:blipFill>
          <a:blip r:embed="rId1"/>
          <a:stretch/>
        </p:blipFill>
        <p:spPr>
          <a:xfrm>
            <a:off x="2209680" y="685800"/>
            <a:ext cx="4254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447920" y="4876920"/>
            <a:ext cx="7162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Let’s celebrate Thanksgiving togethe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img.25pp.com/uploadfile/soft/images/2014/1206/20141206035538350.jpg"/>
          <p:cNvPicPr/>
          <p:nvPr/>
        </p:nvPicPr>
        <p:blipFill>
          <a:blip r:embed="rId1"/>
          <a:stretch/>
        </p:blipFill>
        <p:spPr>
          <a:xfrm>
            <a:off x="2666880" y="12193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5:41:57Z</dcterms:created>
  <dc:creator/>
  <dc:description/>
  <dc:language>en-US</dc:language>
  <cp:lastModifiedBy/>
  <dcterms:modified xsi:type="dcterms:W3CDTF">2016-10-31T14:20:44Z</dcterms:modified>
  <cp:revision>9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3</vt:lpwstr>
  </property>
  <property fmtid="{D5CDD505-2E9C-101B-9397-08002B2CF9AE}" pid="3" name="Version">
    <vt:r8>1</vt:r8>
  </property>
</Properties>
</file>