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0B5-2DE5-4325-B1A9-1ACB827C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60E-FF72-4DC6-9E9A-3EA16960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0274-9D2C-4180-9EC1-009DF224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2F2-56A0-415A-BABD-5BB73273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310C-9E62-45B4-9F78-EBF6EFA5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DBB6-3C31-4FB4-B7EF-D57AAF45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151-DC05-44BA-80BE-3943923E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A6DB-A54A-4B18-A476-62CC086E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D16D-6A21-49A7-B4EA-96153F2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D5AD-BD45-4CC8-865F-CE9C0BAE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F5C2-ACE3-4FDB-9279-729097A2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EA7-FF0E-44D0-8D1C-3CAD7795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11A9-8B1D-404F-8C4C-95C7ABB5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871-4507-4EF0-A239-E1F1C279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B127-EC2C-471B-B00E-D9F2ADDB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79D0-8DC7-4E8E-A83B-5E63BACB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DFFD-5B87-47DA-8F4D-DA97413E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D4E0-6260-42D0-A1EB-2C4E5739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D981-6C95-4930-9ADF-8A9C6A0F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F89A-BF82-467B-B426-9D3E1BF1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B887-8F86-409F-8BBE-3A31A1CD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116C-62EA-4BE7-84B7-E6992401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A7D5-35BD-4763-81F8-F31CB768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9287-2631-43A5-98AB-695553CE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6BC8-A139-4298-9F76-C216FD4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1CAC-2E03-4CF7-B6CB-478E9886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8CBBB-2AB6-4D42-8DBA-9A2370E5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5C8B-5B5E-445C-9472-B4ED2D81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953B0-C85A-4433-84C3-69545343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2782F-56A4-42D3-BEC7-36026498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F4C-43C1-4FC9-BCAD-B3FD04D7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4BF-4CB8-43D5-89D3-BB185AAB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5DA-7E63-4F1A-8031-21A1FD29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25F-F0A9-40C2-ADF2-6C5852C2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980-BBF3-4E95-A740-8FEC6523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9027-0FDF-4B91-852F-5EFADE7B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594-0118-4CB9-A7A7-BF9B82E486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0456-6376-40C9-8916-625F37F5517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450-B747-4DBB-9307-45281142075F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22096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BatangChe"/>
                <a:ea typeface="BatangChe"/>
              </a:rPr>
              <a:t>Unit 4  Dinner 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057400"/>
            <a:ext cx="6781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What is she doing?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她在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She is cooking.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她在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What is he doing?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他在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He is sleeping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他在睡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This is the living room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是客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This is the bedroom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是卧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This is the bathroom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是洗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This is the kitchen.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是厨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4479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Arial"/>
              </a:rPr>
              <a:t>Review   </a:t>
            </a:r>
            <a:r>
              <a:rPr b="1" lang="zh-CN" sz="2800" spc="-1" strike="noStrike">
                <a:solidFill>
                  <a:srgbClr val="7d7da9"/>
                </a:solidFill>
                <a:latin typeface="Arial"/>
              </a:rPr>
              <a:t>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905120" y="1752480"/>
            <a:ext cx="556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Thank      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19520" y="685800"/>
            <a:ext cx="402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s is the </a:t>
            </a: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living room</a:t>
            </a:r>
            <a:r>
              <a:rPr b="0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61722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3808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80880"/>
            <a:ext cx="35812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s is the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edroom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y sister i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sleep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05120" y="457200"/>
            <a:ext cx="396216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at’s th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bathroom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y uncle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washing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380880"/>
            <a:ext cx="37339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s is the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kitchen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om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oking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4572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stud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2362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drin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39625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la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8954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pa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57200" y="2286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she doing? She is 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733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hat is he doing? He is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08:07:31Z</dcterms:created>
  <dc:creator/>
  <dc:description/>
  <dc:language>en-US</dc:language>
  <cp:lastModifiedBy>微软用户</cp:lastModifiedBy>
  <dcterms:modified xsi:type="dcterms:W3CDTF">2013-12-13T15:46:3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