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D5D-09A9-4CDF-9058-D0EA931F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305-2AF2-4FF8-A5AC-CE0C54A5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CD9-36E1-48AE-90D1-08DB5D87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CF4-0134-4DD0-84FD-949E9273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15DD-9BE0-4C67-946D-45A0BAFD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415D-B7AE-4E07-8926-86A270BD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D331-095B-4454-B323-1D8F0BAD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AD31-03D7-4E4F-9751-403D5791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D51D-2A98-48D2-82C6-5BDE8BD5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2742-48F2-47A7-874D-D935CEA1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B2A3-9E23-4777-9E5C-644D9558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024-D4C4-4951-A3CD-6FB095EF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60D5-A51A-41B5-9591-935F4189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F7F5-0B7D-45E9-A035-4A8E8BA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3580-5527-41D6-AEE3-1A1663B7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1C07-31B7-4984-AAC8-25D0554F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30A5-5AE2-47AA-9AA2-B5AEB940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A9F-AF40-4A17-84B2-4F3AA76D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811-59B0-46D5-8892-5BC88A31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28E-50DE-49A7-8776-49747889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E5C-AF9B-4C30-8DB2-C78B6F7E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D14-B9E1-473E-AC54-9178278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79B-FDB0-4F1E-B420-4FF3BF35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FCB-7CFD-49E0-8620-2B7853A3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2538-F5D6-4309-AA52-A665C08D5A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D26D-1FEA-4032-8D5C-3C2C705AD2F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nit 4 Dinner Time ( I )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 is washing in the bathroom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4" name="Picture 3" descr="3"/>
          <p:cNvPicPr/>
          <p:nvPr/>
        </p:nvPicPr>
        <p:blipFill>
          <a:blip r:embed="rId2"/>
          <a:stretch/>
        </p:blipFill>
        <p:spPr>
          <a:xfrm>
            <a:off x="0" y="1484280"/>
            <a:ext cx="3492360" cy="537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bathroom"/>
          <p:cNvPicPr/>
          <p:nvPr/>
        </p:nvPicPr>
        <p:blipFill>
          <a:blip r:embed="rId3"/>
          <a:stretch/>
        </p:blipFill>
        <p:spPr>
          <a:xfrm>
            <a:off x="3564000" y="1484280"/>
            <a:ext cx="5580000" cy="537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826920" y="1341360"/>
            <a:ext cx="201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e is cooking in the kitchen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8" name="Picture 3" descr="4"/>
          <p:cNvPicPr/>
          <p:nvPr/>
        </p:nvPicPr>
        <p:blipFill>
          <a:blip r:embed="rId2"/>
          <a:stretch/>
        </p:blipFill>
        <p:spPr>
          <a:xfrm>
            <a:off x="0" y="1413000"/>
            <a:ext cx="4319640" cy="544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chen"/>
          <p:cNvPicPr/>
          <p:nvPr/>
        </p:nvPicPr>
        <p:blipFill>
          <a:blip r:embed="rId3"/>
          <a:stretch/>
        </p:blipFill>
        <p:spPr>
          <a:xfrm>
            <a:off x="4356000" y="1419120"/>
            <a:ext cx="4788000" cy="5438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468360" y="2276640"/>
            <a:ext cx="172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 flipV="1">
            <a:off x="1692360" y="5733720"/>
            <a:ext cx="57600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187280" y="62373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1"/>
          <p:cNvPicPr/>
          <p:nvPr/>
        </p:nvPicPr>
        <p:blipFill>
          <a:blip r:embed="rId2"/>
          <a:stretch/>
        </p:blipFill>
        <p:spPr>
          <a:xfrm>
            <a:off x="4932360" y="228600"/>
            <a:ext cx="3384720" cy="2133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this is bedroom"/>
          <p:cNvPicPr/>
          <p:nvPr/>
        </p:nvPicPr>
        <p:blipFill>
          <a:blip r:embed="rId3"/>
          <a:stretch/>
        </p:blipFill>
        <p:spPr>
          <a:xfrm>
            <a:off x="304920" y="304920"/>
            <a:ext cx="3295440" cy="192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this is the kithcen"/>
          <p:cNvPicPr/>
          <p:nvPr/>
        </p:nvPicPr>
        <p:blipFill>
          <a:blip r:embed="rId4"/>
          <a:stretch/>
        </p:blipFill>
        <p:spPr>
          <a:xfrm>
            <a:off x="380880" y="2362320"/>
            <a:ext cx="3222720" cy="206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This is the living"/>
          <p:cNvPicPr/>
          <p:nvPr/>
        </p:nvPicPr>
        <p:blipFill>
          <a:blip r:embed="rId5"/>
          <a:stretch/>
        </p:blipFill>
        <p:spPr>
          <a:xfrm>
            <a:off x="4859280" y="2421000"/>
            <a:ext cx="3465720" cy="203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this is the bathroom"/>
          <p:cNvPicPr/>
          <p:nvPr/>
        </p:nvPicPr>
        <p:blipFill>
          <a:blip r:embed="rId6"/>
          <a:stretch/>
        </p:blipFill>
        <p:spPr>
          <a:xfrm>
            <a:off x="2590920" y="4495680"/>
            <a:ext cx="3703680" cy="2173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8317080" y="1628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831708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635280" y="1484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372360" y="57340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708360" y="36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2_PYSJl3N0e2TX"/>
          <p:cNvPicPr/>
          <p:nvPr/>
        </p:nvPicPr>
        <p:blipFill>
          <a:blip r:embed="rId2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4427640" y="5300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’s a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651640" y="40464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bby’s 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截图17"/>
          <p:cNvPicPr/>
          <p:nvPr/>
        </p:nvPicPr>
        <p:blipFill>
          <a:blip r:embed="rId2"/>
          <a:stretch/>
        </p:blipFill>
        <p:spPr>
          <a:xfrm>
            <a:off x="179280" y="907920"/>
            <a:ext cx="4032360" cy="5113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4356000" y="242100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He is playing compu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"/>
          <p:cNvPicPr/>
          <p:nvPr/>
        </p:nvPicPr>
        <p:blipFill>
          <a:blip r:embed="rId2"/>
          <a:stretch/>
        </p:blipFill>
        <p:spPr>
          <a:xfrm>
            <a:off x="468360" y="333360"/>
            <a:ext cx="3527280" cy="597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962520" y="1676520"/>
            <a:ext cx="3809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038480" y="25146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e is slee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3"/>
          <p:cNvPicPr/>
          <p:nvPr/>
        </p:nvPicPr>
        <p:blipFill>
          <a:blip r:embed="rId2"/>
          <a:stretch/>
        </p:blipFill>
        <p:spPr>
          <a:xfrm>
            <a:off x="4724280" y="685800"/>
            <a:ext cx="3314880" cy="5578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838080" y="2895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is was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4"/>
          <p:cNvPicPr/>
          <p:nvPr/>
        </p:nvPicPr>
        <p:blipFill>
          <a:blip r:embed="rId2"/>
          <a:stretch/>
        </p:blipFill>
        <p:spPr>
          <a:xfrm>
            <a:off x="685800" y="765000"/>
            <a:ext cx="3962520" cy="4888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800600" y="2438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rs bear is coo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 is playing in the living room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7" name="Picture 7" descr="living room"/>
          <p:cNvPicPr/>
          <p:nvPr/>
        </p:nvPicPr>
        <p:blipFill>
          <a:blip r:embed="rId2"/>
          <a:stretch/>
        </p:blipFill>
        <p:spPr>
          <a:xfrm>
            <a:off x="4140360" y="1484280"/>
            <a:ext cx="4319280" cy="482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截图17"/>
          <p:cNvPicPr/>
          <p:nvPr/>
        </p:nvPicPr>
        <p:blipFill>
          <a:blip r:embed="rId3"/>
          <a:stretch/>
        </p:blipFill>
        <p:spPr>
          <a:xfrm>
            <a:off x="395280" y="1484280"/>
            <a:ext cx="338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e is sleeping in the bedroom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3" descr="2"/>
          <p:cNvPicPr/>
          <p:nvPr/>
        </p:nvPicPr>
        <p:blipFill>
          <a:blip r:embed="rId2"/>
          <a:stretch/>
        </p:blipFill>
        <p:spPr>
          <a:xfrm>
            <a:off x="0" y="1484280"/>
            <a:ext cx="3132000" cy="5373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bedroom"/>
          <p:cNvPicPr/>
          <p:nvPr/>
        </p:nvPicPr>
        <p:blipFill>
          <a:blip r:embed="rId3"/>
          <a:stretch/>
        </p:blipFill>
        <p:spPr>
          <a:xfrm>
            <a:off x="3203640" y="1484280"/>
            <a:ext cx="5940360" cy="5373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258920" y="1844640"/>
            <a:ext cx="18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cp:lastPrinted>1899-12-30T00:00:00Z</cp:lastPrinted>
  <dcterms:modified xsi:type="dcterms:W3CDTF">2013-12-13T15:47:13Z</dcterms:modified>
  <cp:revision>1</cp:revision>
  <dc:subject/>
  <dc:title>Unit 4 Dinner Time ( I 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