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7"/>
          <p:cNvSpPr/>
          <p:nvPr/>
        </p:nvSpPr>
        <p:spPr>
          <a:xfrm>
            <a:off x="0" y="2421000"/>
            <a:ext cx="9144000" cy="2232000"/>
          </a:xfrm>
          <a:prstGeom prst="rect">
            <a:avLst/>
          </a:prstGeom>
          <a:solidFill>
            <a:srgbClr val="ffc000">
              <a:alpha val="38000"/>
            </a:srgbClr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2420640"/>
            <a:ext cx="7200720" cy="20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Unit 2 How much ?</a:t>
            </a:r>
            <a:endParaRPr b="1" lang="en-US" sz="6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987640" y="4868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Calibri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118" name="图片 13315" descr="m_1354788947170"/>
          <p:cNvPicPr/>
          <p:nvPr/>
        </p:nvPicPr>
        <p:blipFill>
          <a:blip r:embed="rId1"/>
          <a:stretch/>
        </p:blipFill>
        <p:spPr>
          <a:xfrm>
            <a:off x="-33480" y="1440"/>
            <a:ext cx="9144000" cy="6812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Calibri"/>
              </a:rPr>
              <a:t>Review 11-20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eleven       twelve       thirteen      fourteen    fifteen     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3            11             15              12               14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sixteen     seventeen      eighteen   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8           17            16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nineteen     twenty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20         19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1" name="箭头 531"/>
          <p:cNvSpPr/>
          <p:nvPr/>
        </p:nvSpPr>
        <p:spPr>
          <a:xfrm flipH="1">
            <a:off x="1115640" y="1989000"/>
            <a:ext cx="3311640" cy="64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箭头 532"/>
          <p:cNvSpPr/>
          <p:nvPr/>
        </p:nvSpPr>
        <p:spPr>
          <a:xfrm>
            <a:off x="1403280" y="191772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箭头 533"/>
          <p:cNvSpPr/>
          <p:nvPr/>
        </p:nvSpPr>
        <p:spPr>
          <a:xfrm>
            <a:off x="2916360" y="1989000"/>
            <a:ext cx="2447640" cy="64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箭头 534"/>
          <p:cNvSpPr/>
          <p:nvPr/>
        </p:nvSpPr>
        <p:spPr>
          <a:xfrm>
            <a:off x="6300720" y="1917720"/>
            <a:ext cx="71928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箭头 535"/>
          <p:cNvSpPr/>
          <p:nvPr/>
        </p:nvSpPr>
        <p:spPr>
          <a:xfrm flipH="1">
            <a:off x="3924000" y="1989000"/>
            <a:ext cx="3600360" cy="64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箭头 536"/>
          <p:cNvSpPr/>
          <p:nvPr/>
        </p:nvSpPr>
        <p:spPr>
          <a:xfrm>
            <a:off x="1260360" y="3357720"/>
            <a:ext cx="2374920" cy="71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箭头 537"/>
          <p:cNvSpPr/>
          <p:nvPr/>
        </p:nvSpPr>
        <p:spPr>
          <a:xfrm flipH="1">
            <a:off x="1186920" y="3286080"/>
            <a:ext cx="3529080" cy="79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箭头 538"/>
          <p:cNvSpPr/>
          <p:nvPr/>
        </p:nvSpPr>
        <p:spPr>
          <a:xfrm flipH="1">
            <a:off x="2410920" y="335772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箭头 539"/>
          <p:cNvSpPr/>
          <p:nvPr/>
        </p:nvSpPr>
        <p:spPr>
          <a:xfrm flipH="1">
            <a:off x="1044720" y="4797360"/>
            <a:ext cx="180000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箭头 540"/>
          <p:cNvSpPr/>
          <p:nvPr/>
        </p:nvSpPr>
        <p:spPr>
          <a:xfrm>
            <a:off x="1476360" y="4726080"/>
            <a:ext cx="719280" cy="71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What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's this ?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How much is it ?</a:t>
            </a:r>
            <a:endParaRPr b="1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                                                        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                                                    </a:t>
            </a:r>
            <a:r>
              <a:rPr b="0" lang="zh-CN" sz="2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¥    9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93" name="图片 6147" descr="85a4f09b5aa6b689429ca33c06ed5862"/>
          <p:cNvPicPr/>
          <p:nvPr/>
        </p:nvPicPr>
        <p:blipFill>
          <a:blip r:embed="rId1"/>
          <a:stretch/>
        </p:blipFill>
        <p:spPr>
          <a:xfrm>
            <a:off x="469800" y="1557360"/>
            <a:ext cx="4175280" cy="5256360"/>
          </a:xfrm>
          <a:prstGeom prst="rect">
            <a:avLst/>
          </a:prstGeom>
          <a:ln w="0">
            <a:noFill/>
          </a:ln>
        </p:spPr>
      </p:pic>
      <p:pic>
        <p:nvPicPr>
          <p:cNvPr id="94" name="对象 6148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What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's this ?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How much is it ?</a:t>
            </a:r>
            <a:endParaRPr b="1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's   a   train.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¥      20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97" name="图片 7171" descr="201012911455199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</a:rPr>
              <a:t>What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's this ?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How much is it ?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's   a  kite .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Times New Roman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¥    8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100" name="图片 8195" descr="cdbf6c81800a19d858a476e232fa828ba71e46b6"/>
          <p:cNvPicPr/>
          <p:nvPr/>
        </p:nvPicPr>
        <p:blipFill>
          <a:blip r:embed="rId1"/>
          <a:stretch/>
        </p:blipFill>
        <p:spPr>
          <a:xfrm>
            <a:off x="755640" y="2205000"/>
            <a:ext cx="180036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What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's this ?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How much is it ?</a:t>
            </a:r>
            <a:endParaRPr b="1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's   a   robot.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¥    11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103" name="图片 9219" descr="3381841_100452036474_2"/>
          <p:cNvPicPr/>
          <p:nvPr/>
        </p:nvPicPr>
        <p:blipFill>
          <a:blip r:embed="rId1"/>
          <a:stretch/>
        </p:blipFill>
        <p:spPr>
          <a:xfrm>
            <a:off x="468360" y="1628640"/>
            <a:ext cx="36370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</a:rPr>
              <a:t>How much are they altogether ?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</a:t>
            </a:r>
            <a:r>
              <a:rPr b="0" lang="zh-CN" sz="20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They   are</a:t>
            </a: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¥   </a:t>
            </a: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19.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106" name="图片 10243" descr="3381841_100452036474_2"/>
          <p:cNvPicPr/>
          <p:nvPr/>
        </p:nvPicPr>
        <p:blipFill>
          <a:blip r:embed="rId1"/>
          <a:stretch/>
        </p:blipFill>
        <p:spPr>
          <a:xfrm>
            <a:off x="36360" y="2205000"/>
            <a:ext cx="2016360" cy="45370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0244" descr="cdbf6c81800a19d858a476e232fa828ba71e46b6"/>
          <p:cNvPicPr/>
          <p:nvPr/>
        </p:nvPicPr>
        <p:blipFill>
          <a:blip r:embed="rId2"/>
          <a:stretch/>
        </p:blipFill>
        <p:spPr>
          <a:xfrm>
            <a:off x="1763640" y="4221000"/>
            <a:ext cx="180036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</a:rPr>
              <a:t>How much are they  ?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                                                       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¥   2 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             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hey are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....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110" name="图片 11267" descr="2576077_133202026449_2"/>
          <p:cNvPicPr/>
          <p:nvPr/>
        </p:nvPicPr>
        <p:blipFill>
          <a:blip r:embed="rId1"/>
          <a:srcRect l="468" t="10392" r="6029" b="15780"/>
          <a:stretch/>
        </p:blipFill>
        <p:spPr>
          <a:xfrm>
            <a:off x="181080" y="1628640"/>
            <a:ext cx="4895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箭头 575"/>
          <p:cNvSpPr/>
          <p:nvPr/>
        </p:nvSpPr>
        <p:spPr>
          <a:xfrm flipH="1">
            <a:off x="4716360" y="198900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What is happening now ?</a:t>
            </a:r>
            <a:endParaRPr b="1" lang="en-US" sz="4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If you were Mocky,what should you do?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114" name="对象 12291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2292" descr="u=3394793718,2758453541&amp;fm=23&amp;gp=0"/>
          <p:cNvPicPr/>
          <p:nvPr/>
        </p:nvPicPr>
        <p:blipFill>
          <a:blip r:embed="rId2"/>
          <a:stretch/>
        </p:blipFill>
        <p:spPr>
          <a:xfrm>
            <a:off x="900000" y="2997360"/>
            <a:ext cx="20289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9-21T14:09:0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