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A935-E97F-4D0B-8E41-628A482B7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F2E4-89A4-4CC3-A6DD-ED6D4E8D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D44D4C-63BF-4616-A81C-9820F6E3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D57276-9F07-4D37-B05E-03F67AFE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914400" y="511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C74214-A136-4A95-8669-8FC34B83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15101D-016A-4C22-B1BF-66330042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7B8619-02F5-45C5-A68A-D032835B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3699D-2DAB-42B6-A23D-E416FC4B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8F7F81-876B-4A44-BA1C-9236449B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F7541A-6994-45D9-8052-935280732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82C57E-B2E9-4A05-B816-523C35025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17C535-8086-4620-BD43-4ECB30147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7EE8-2AA3-4742-B36B-50C221B5D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9F89FF-3BA4-4993-B76D-D8F0C112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A2C269-4103-442A-9C72-379A2CAE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C15B14-A0B5-488B-BA15-C38F95C6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273675-8080-45C7-895B-990BCB33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14400" y="511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ECA5F4-E9D3-4123-826D-8DFF3AFB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1C82D3-13F6-471E-8A5A-B250DCFB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83F2A4-B978-4AAB-AC30-0F623EB2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C1669D-EDE7-4089-8753-B68B8889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354567-F47B-4B12-BAA6-3715A216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94A5C5-1ADD-410B-854F-072D6504D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19DD-DC4B-4D99-96AF-2D5C4CBB3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FE87A6-4973-4592-A57E-813AF4D42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73EABC-A093-476D-97FB-762D6FAC2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1C800-C869-4449-9ED2-01C987D8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55196A-D3BA-4BEE-A7C6-D55FE21A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C5BEE-2E3B-437E-B138-1F33A54B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729A2-3C63-4ACB-AB3B-8186C819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914400" y="511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492D6-50A5-48A4-BB59-5C65F58A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ACDAC-B59C-45B2-B602-C4BEEA18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C9FC9-20B1-4C7F-B008-909DD3F4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8514A6-2D74-4AA2-96E9-E3A286D3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90508-3051-43B3-B793-DB6DCB9CA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DAF286-4EC3-4291-A2FD-D58C988D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A7E669-CF9B-42F9-B314-F9CB7BB30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C6548-E5C2-4FD9-B688-77CDC0E51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75A425-C775-49D7-83A3-B82C137C2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2F3E48-B99A-4EAF-9CC8-3AA5865D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302BC8-BEF6-4CC6-B8DD-F46778ED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70E209-7CAA-4AD7-BFF1-A6EF0F45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BF16BC-AF51-4EFA-8CB5-311CD974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914400" y="511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791A1B-2D56-4118-A8CD-5B90F386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3D312A-D58E-4C82-94FD-8E332BD9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F407-F25B-4789-95EF-85C7F3E3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119035-7828-404C-9EE6-91A3B9AC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9BC2E3-6137-4741-A377-B2C23577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9B7BC5-04DE-46FB-B88B-99C990FE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8B7A36-2516-49B6-AEEA-30A1EBD3E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76499D-520A-4A31-B134-77C599A8D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A6127-2313-47A8-ACA7-B258528C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268D5-ECF5-4B2E-A99F-7F35059C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0341-BA74-4993-9ADA-8DDC3F58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1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1FDFE-9243-42BE-B327-EBF5B06E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666B-4652-4AF5-82B4-49637360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8D88-944C-47EF-AFAA-E17B5E9D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4AB9-3448-42F7-AC30-93599747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3C0B-B231-41BB-AD82-594E33F6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A068-2250-458D-A8E9-6BB115DE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1F95-EEAC-4427-9D09-D0A8A0457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AE46-026C-4574-94D5-CD8E982AD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C34B7-909F-49B7-89D8-32907F7D1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277C4-475F-45E2-90E6-BDF38A00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D5479-005D-47CE-8092-AE54AB69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ED679-60BB-4AD6-95C6-1703E343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3246F-0F1C-4008-BF93-4D98DD4F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BDEA-27DF-48F9-8D6C-690F98B3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914400" y="511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ECEA1-4DB3-42B3-A7F8-070C67BC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9B38B-C63C-4666-989C-C8F29331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F807D-BCD1-4E59-B021-C3580E71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6A64A-3547-4437-A268-D182CAD5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FA054-F4B1-4DA1-85A0-F9EB063A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1138C-76D1-43E6-AAAD-BC5453BB2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35718-120C-4A4B-932D-DAFDDA708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89470-01AC-4EAF-988C-CA7FAFA71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4EAE4-EBBA-4D1F-B2FA-F65A5073F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DAA0B-E85B-4914-B6AE-552695E8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2D85-9D09-42BB-9579-98828344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2CA49-41C8-4E78-9461-A9728DBB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4BFAB-57E0-4E3C-9998-F1D85118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914400" y="511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1B213-D7D5-4E68-9B37-F6D59DAB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6036B-866E-4946-8EDD-A18BDD98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95394-F78A-4860-91BB-23A7A227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1A491-8FF1-4696-8CC1-48B1D3C3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71C1D-E3AE-4720-88EC-A7CFEB2D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645A1-EB79-4E3A-9D57-3E53CD0FE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32FD0-BE20-4CEC-AB7B-87E7F222E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E97AE-5588-4FF9-A06F-07C02D4B8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4A1B-B79D-403B-B3E6-FF4674E2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8EB41-579B-4653-93A9-F839DF87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B5427-9DD2-4E23-A1A2-EA533133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BFF0F-E7A6-4AB6-A8C4-D7DE80B0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AC8F5-41C5-42D2-94E5-20CACEFF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914400" y="511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DFB0B-E786-4D42-831E-C4964983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D2BD0-D065-4A86-86C7-AB20DB5B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64A67-A199-4F5D-AA87-9BDE722B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F6EE4-26E6-496D-ADAC-DF09E047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8ADD4-B661-4916-92BD-1D32935C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AEF43-DAA6-4B2A-AB7D-B64F5489B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1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D32F-6058-4544-9C80-F3C236D0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D4C98-FCCE-40AF-89C3-A9FD4422D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4872D-46D3-4160-B12A-912C8C21A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13683-03B2-4E27-8377-0B6C7BB3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A612F-43EA-42A8-B641-2B0D2A27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EC6C3-C665-400E-98F6-C603D60F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B44DC-FD64-40F1-B246-DA0E62DD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14400" y="511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82538-38A5-4DEE-9D61-9150262C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A2389-14B3-43A9-ABC1-60C2FBD4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E799C-CAF0-492C-B10F-B15F6CA2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E8FFA-A585-4E70-B6E1-9434E9B8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8177-18E1-4A6E-AD0A-CCF170A4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3086E-7B7B-480D-A2FB-4D331E0C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2CDCC-A91C-44FA-AD38-00070C83A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2B724-F715-4F4B-A934-FC200B9E7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D989D-5629-4B57-B140-501F39E32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D8266-56F3-476C-A08A-B55C3D84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D6CF2-BA84-4BBA-A0AB-16F59024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FE744-7DD0-4F6D-8766-4A3462E7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E714E-9E39-4707-9791-25CE5468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914400" y="511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E1EEE-4F6C-4C27-A92C-7A4B8712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2617D-8658-46BB-980D-E7E809FC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2216-ADF0-413A-AFC5-489AA66E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D7ADA-D509-41A3-B141-F02CE535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B98EC-BE09-4485-BCD5-8E059E5D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8872D-78A6-4BEA-B497-0C439FEE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6A391-89E7-4A9D-99DD-7F9E44597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794E4-DEA7-41C1-9FCC-A297D88D4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F6D22-1134-4A58-9237-9B0135C4C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56379-CF7E-47F0-B8E0-4478B4E1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58FA3-F7EF-41F1-AD65-818A7DC6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3B907-CFBB-406A-8278-C7D8E83C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9EC9F-94AD-4DC0-B257-86C78DED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6A08-2B8C-41AE-8802-5ACEB7BC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914400" y="511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B4A70-DB04-4AF4-9156-F4DCCEA4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3C7F7-7151-441C-89F2-B42887EE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3A6BF-E396-41C6-9243-6A1183DD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7C8EC-A5CA-4F9F-96C0-D4BA27A5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D73BD-789F-4EB6-85D5-815BBD42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553D3-8574-43ED-8E5C-F8DE3A148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CA41D-FCD6-4134-A484-91E8ED4BE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F512CF-86FC-4BED-919A-41E781922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5146C1-B04D-4D97-8F43-37C6B552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68F8C5-DE17-4C3F-A481-8524BEA9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矩形 7"/>
          <p:cNvSpPr/>
          <p:nvPr/>
        </p:nvSpPr>
        <p:spPr>
          <a:xfrm>
            <a:off x="255600" y="5048280"/>
            <a:ext cx="73080" cy="169056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矩形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矩形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矩形 10"/>
          <p:cNvSpPr/>
          <p:nvPr/>
        </p:nvSpPr>
        <p:spPr>
          <a:xfrm>
            <a:off x="255600" y="4543560"/>
            <a:ext cx="73080" cy="727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矩形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矩形 14"/>
          <p:cNvSpPr/>
          <p:nvPr/>
        </p:nvSpPr>
        <p:spPr>
          <a:xfrm>
            <a:off x="2700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矩形 15"/>
          <p:cNvSpPr/>
          <p:nvPr/>
        </p:nvSpPr>
        <p:spPr>
          <a:xfrm>
            <a:off x="2509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矩形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ec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1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40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6840" indent="-228600">
              <a:spcBef>
                <a:spcPts val="700"/>
              </a:spcBef>
              <a:buClr>
                <a:srgbClr val="ea157a"/>
              </a:buClr>
              <a:buSzPct val="90000"/>
              <a:buFont typeface="Wingdings 2" charset="2"/>
              <a:buChar char="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2160" indent="-228600">
              <a:spcBef>
                <a:spcPts val="700"/>
              </a:spcBef>
              <a:buClr>
                <a:srgbClr val="feb80a"/>
              </a:buClr>
              <a:buSzPct val="90000"/>
              <a:buFont typeface="Wingdings 3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SzPct val="90000"/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90000"/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90000"/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EBA2-EE98-4F87-9B48-5162CE0E9775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BDC0-B512-42DD-AE06-3EBB4EAC0E2C}" type="slidenum">
              <a:rPr b="0" lang="zh-CN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矩形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矩形 7"/>
          <p:cNvSpPr/>
          <p:nvPr/>
        </p:nvSpPr>
        <p:spPr>
          <a:xfrm>
            <a:off x="255600" y="5048280"/>
            <a:ext cx="73080" cy="169056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矩形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矩形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矩形 10"/>
          <p:cNvSpPr/>
          <p:nvPr/>
        </p:nvSpPr>
        <p:spPr>
          <a:xfrm>
            <a:off x="255600" y="4543560"/>
            <a:ext cx="73080" cy="727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矩形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矩形 14"/>
          <p:cNvSpPr/>
          <p:nvPr/>
        </p:nvSpPr>
        <p:spPr>
          <a:xfrm>
            <a:off x="2700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矩形 15"/>
          <p:cNvSpPr/>
          <p:nvPr/>
        </p:nvSpPr>
        <p:spPr>
          <a:xfrm>
            <a:off x="2509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矩形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ec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1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40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6840" indent="-228600">
              <a:spcBef>
                <a:spcPts val="700"/>
              </a:spcBef>
              <a:buClr>
                <a:srgbClr val="ea157a"/>
              </a:buClr>
              <a:buSzPct val="90000"/>
              <a:buFont typeface="Wingdings 2" charset="2"/>
              <a:buChar char="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2160" indent="-228600">
              <a:spcBef>
                <a:spcPts val="700"/>
              </a:spcBef>
              <a:buClr>
                <a:srgbClr val="feb80a"/>
              </a:buClr>
              <a:buSzPct val="90000"/>
              <a:buFont typeface="Wingdings 3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SzPct val="90000"/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90000"/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90000"/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28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EC18-D79F-4D15-BBBA-7CBD6AB6A8E5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29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0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53CB-EE37-4D57-AD96-7DFE95A4ED41}" type="slidenum">
              <a:rPr b="0" lang="zh-CN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矩形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矩形 7"/>
          <p:cNvSpPr/>
          <p:nvPr/>
        </p:nvSpPr>
        <p:spPr>
          <a:xfrm>
            <a:off x="255600" y="5048280"/>
            <a:ext cx="73080" cy="169056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矩形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矩形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矩形 10"/>
          <p:cNvSpPr/>
          <p:nvPr/>
        </p:nvSpPr>
        <p:spPr>
          <a:xfrm>
            <a:off x="255600" y="4543560"/>
            <a:ext cx="73080" cy="727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矩形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矩形 14"/>
          <p:cNvSpPr/>
          <p:nvPr/>
        </p:nvSpPr>
        <p:spPr>
          <a:xfrm>
            <a:off x="2700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矩形 15"/>
          <p:cNvSpPr/>
          <p:nvPr/>
        </p:nvSpPr>
        <p:spPr>
          <a:xfrm>
            <a:off x="2509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矩形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ec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1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40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6840" indent="-228600">
              <a:spcBef>
                <a:spcPts val="700"/>
              </a:spcBef>
              <a:buClr>
                <a:srgbClr val="ea157a"/>
              </a:buClr>
              <a:buSzPct val="90000"/>
              <a:buFont typeface="Wingdings 2" charset="2"/>
              <a:buChar char="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2160" indent="-228600">
              <a:spcBef>
                <a:spcPts val="700"/>
              </a:spcBef>
              <a:buClr>
                <a:srgbClr val="feb80a"/>
              </a:buClr>
              <a:buSzPct val="90000"/>
              <a:buFont typeface="Wingdings 3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SzPct val="90000"/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90000"/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90000"/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1764-8C58-4CC1-A464-3447B8B40763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CA9B-99C5-4870-AC5B-8B2EC8229CC1}" type="slidenum">
              <a:rPr b="0" lang="zh-CN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矩形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矩形 7"/>
          <p:cNvSpPr/>
          <p:nvPr/>
        </p:nvSpPr>
        <p:spPr>
          <a:xfrm>
            <a:off x="255600" y="5048280"/>
            <a:ext cx="73080" cy="169056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矩形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矩形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矩形 10"/>
          <p:cNvSpPr/>
          <p:nvPr/>
        </p:nvSpPr>
        <p:spPr>
          <a:xfrm>
            <a:off x="255600" y="4543560"/>
            <a:ext cx="73080" cy="727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矩形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矩形 14"/>
          <p:cNvSpPr/>
          <p:nvPr/>
        </p:nvSpPr>
        <p:spPr>
          <a:xfrm>
            <a:off x="2700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矩形 15"/>
          <p:cNvSpPr/>
          <p:nvPr/>
        </p:nvSpPr>
        <p:spPr>
          <a:xfrm>
            <a:off x="2509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矩形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ec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1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40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6840" indent="-228600">
              <a:spcBef>
                <a:spcPts val="700"/>
              </a:spcBef>
              <a:buClr>
                <a:srgbClr val="ea157a"/>
              </a:buClr>
              <a:buSzPct val="90000"/>
              <a:buFont typeface="Wingdings 2" charset="2"/>
              <a:buChar char="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2160" indent="-228600">
              <a:spcBef>
                <a:spcPts val="700"/>
              </a:spcBef>
              <a:buClr>
                <a:srgbClr val="feb80a"/>
              </a:buClr>
              <a:buSzPct val="90000"/>
              <a:buFont typeface="Wingdings 3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SzPct val="90000"/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90000"/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90000"/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3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7829-39FE-49F8-AF2C-02123DDF8209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3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3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E255-DF6D-420F-B759-BF4CABF64639}" type="slidenum">
              <a:rPr b="0" lang="zh-CN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255600" y="5048280"/>
            <a:ext cx="73080" cy="169056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矩形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矩形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矩形 10"/>
          <p:cNvSpPr/>
          <p:nvPr/>
        </p:nvSpPr>
        <p:spPr>
          <a:xfrm>
            <a:off x="255600" y="4543560"/>
            <a:ext cx="73080" cy="727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矩形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矩形 14"/>
          <p:cNvSpPr/>
          <p:nvPr/>
        </p:nvSpPr>
        <p:spPr>
          <a:xfrm>
            <a:off x="2700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矩形 15"/>
          <p:cNvSpPr/>
          <p:nvPr/>
        </p:nvSpPr>
        <p:spPr>
          <a:xfrm>
            <a:off x="2509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矩形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ec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1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40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6840" indent="-228600">
              <a:spcBef>
                <a:spcPts val="700"/>
              </a:spcBef>
              <a:buClr>
                <a:srgbClr val="ea157a"/>
              </a:buClr>
              <a:buSzPct val="90000"/>
              <a:buFont typeface="Wingdings 2" charset="2"/>
              <a:buChar char="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2160" indent="-228600">
              <a:spcBef>
                <a:spcPts val="700"/>
              </a:spcBef>
              <a:buClr>
                <a:srgbClr val="feb80a"/>
              </a:buClr>
              <a:buSzPct val="90000"/>
              <a:buFont typeface="Wingdings 3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SzPct val="90000"/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90000"/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90000"/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5E4A-522C-4225-84C9-641CFCB83E9F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D19F-85FC-4668-BC82-D277D18C3711}" type="slidenum">
              <a:rPr b="0" lang="zh-CN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矩形 7"/>
          <p:cNvSpPr/>
          <p:nvPr/>
        </p:nvSpPr>
        <p:spPr>
          <a:xfrm>
            <a:off x="255600" y="5048280"/>
            <a:ext cx="73080" cy="169056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矩形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矩形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矩形 10"/>
          <p:cNvSpPr/>
          <p:nvPr/>
        </p:nvSpPr>
        <p:spPr>
          <a:xfrm>
            <a:off x="255600" y="4543560"/>
            <a:ext cx="73080" cy="727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矩形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矩形 14"/>
          <p:cNvSpPr/>
          <p:nvPr/>
        </p:nvSpPr>
        <p:spPr>
          <a:xfrm>
            <a:off x="2700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矩形 15"/>
          <p:cNvSpPr/>
          <p:nvPr/>
        </p:nvSpPr>
        <p:spPr>
          <a:xfrm>
            <a:off x="2509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矩形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ec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1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40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6840" indent="-228600">
              <a:spcBef>
                <a:spcPts val="700"/>
              </a:spcBef>
              <a:buClr>
                <a:srgbClr val="ea157a"/>
              </a:buClr>
              <a:buSzPct val="90000"/>
              <a:buFont typeface="Wingdings 2" charset="2"/>
              <a:buChar char="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2160" indent="-228600">
              <a:spcBef>
                <a:spcPts val="700"/>
              </a:spcBef>
              <a:buClr>
                <a:srgbClr val="feb80a"/>
              </a:buClr>
              <a:buSzPct val="90000"/>
              <a:buFont typeface="Wingdings 3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SzPct val="90000"/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90000"/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90000"/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7336-A056-47AC-AE17-9B0C538540C9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FD7E-BED9-46C9-9B0B-2B798BE70F04}" type="slidenum">
              <a:rPr b="0" lang="zh-CN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矩形 7"/>
          <p:cNvSpPr/>
          <p:nvPr/>
        </p:nvSpPr>
        <p:spPr>
          <a:xfrm>
            <a:off x="255600" y="5048280"/>
            <a:ext cx="73080" cy="169056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矩形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矩形 10"/>
          <p:cNvSpPr/>
          <p:nvPr/>
        </p:nvSpPr>
        <p:spPr>
          <a:xfrm>
            <a:off x="255600" y="4543560"/>
            <a:ext cx="73080" cy="727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矩形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矩形 14"/>
          <p:cNvSpPr/>
          <p:nvPr/>
        </p:nvSpPr>
        <p:spPr>
          <a:xfrm>
            <a:off x="2700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矩形 15"/>
          <p:cNvSpPr/>
          <p:nvPr/>
        </p:nvSpPr>
        <p:spPr>
          <a:xfrm>
            <a:off x="2509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矩形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ec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1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40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6840" indent="-228600">
              <a:spcBef>
                <a:spcPts val="700"/>
              </a:spcBef>
              <a:buClr>
                <a:srgbClr val="ea157a"/>
              </a:buClr>
              <a:buSzPct val="90000"/>
              <a:buFont typeface="Wingdings 2" charset="2"/>
              <a:buChar char="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2160" indent="-228600">
              <a:spcBef>
                <a:spcPts val="700"/>
              </a:spcBef>
              <a:buClr>
                <a:srgbClr val="feb80a"/>
              </a:buClr>
              <a:buSzPct val="90000"/>
              <a:buFont typeface="Wingdings 3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SzPct val="90000"/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90000"/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90000"/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2A26-4C03-4D44-A449-F7A5E0C27C0B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2F69-EA13-4479-92C2-51465C56784E}" type="slidenum">
              <a:rPr b="0" lang="zh-CN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矩形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矩形 7"/>
          <p:cNvSpPr/>
          <p:nvPr/>
        </p:nvSpPr>
        <p:spPr>
          <a:xfrm>
            <a:off x="255600" y="5048280"/>
            <a:ext cx="73080" cy="169056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矩形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矩形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矩形 10"/>
          <p:cNvSpPr/>
          <p:nvPr/>
        </p:nvSpPr>
        <p:spPr>
          <a:xfrm>
            <a:off x="255600" y="4543560"/>
            <a:ext cx="73080" cy="727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矩形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矩形 14"/>
          <p:cNvSpPr/>
          <p:nvPr/>
        </p:nvSpPr>
        <p:spPr>
          <a:xfrm>
            <a:off x="2700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矩形 15"/>
          <p:cNvSpPr/>
          <p:nvPr/>
        </p:nvSpPr>
        <p:spPr>
          <a:xfrm>
            <a:off x="2509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矩形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ec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1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40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6840" indent="-228600">
              <a:spcBef>
                <a:spcPts val="700"/>
              </a:spcBef>
              <a:buClr>
                <a:srgbClr val="ea157a"/>
              </a:buClr>
              <a:buSzPct val="90000"/>
              <a:buFont typeface="Wingdings 2" charset="2"/>
              <a:buChar char="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2160" indent="-228600">
              <a:spcBef>
                <a:spcPts val="700"/>
              </a:spcBef>
              <a:buClr>
                <a:srgbClr val="feb80a"/>
              </a:buClr>
              <a:buSzPct val="90000"/>
              <a:buFont typeface="Wingdings 3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SzPct val="90000"/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90000"/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90000"/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05E9-5142-4DE4-B63F-AA3A01821E33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C7BF-0F2F-48D2-ACAA-9FA3FB44472C}" type="slidenum">
              <a:rPr b="0" lang="zh-CN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矩形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矩形 7"/>
          <p:cNvSpPr/>
          <p:nvPr/>
        </p:nvSpPr>
        <p:spPr>
          <a:xfrm>
            <a:off x="255600" y="5048280"/>
            <a:ext cx="73080" cy="169056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矩形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矩形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矩形 10"/>
          <p:cNvSpPr/>
          <p:nvPr/>
        </p:nvSpPr>
        <p:spPr>
          <a:xfrm>
            <a:off x="255600" y="4543560"/>
            <a:ext cx="73080" cy="727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矩形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矩形 14"/>
          <p:cNvSpPr/>
          <p:nvPr/>
        </p:nvSpPr>
        <p:spPr>
          <a:xfrm>
            <a:off x="2700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矩形 15"/>
          <p:cNvSpPr/>
          <p:nvPr/>
        </p:nvSpPr>
        <p:spPr>
          <a:xfrm>
            <a:off x="2509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矩形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ec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1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40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6840" indent="-228600">
              <a:spcBef>
                <a:spcPts val="700"/>
              </a:spcBef>
              <a:buClr>
                <a:srgbClr val="ea157a"/>
              </a:buClr>
              <a:buSzPct val="90000"/>
              <a:buFont typeface="Wingdings 2" charset="2"/>
              <a:buChar char="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2160" indent="-228600">
              <a:spcBef>
                <a:spcPts val="700"/>
              </a:spcBef>
              <a:buClr>
                <a:srgbClr val="feb80a"/>
              </a:buClr>
              <a:buSzPct val="90000"/>
              <a:buFont typeface="Wingdings 3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SzPct val="90000"/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90000"/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90000"/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EF8F-C047-42AD-AC94-D2650A8AA885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4EEF-4AD4-4E7B-8483-9C5027DA3641}" type="slidenum">
              <a:rPr b="0" lang="zh-CN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矩形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矩形 7"/>
          <p:cNvSpPr/>
          <p:nvPr/>
        </p:nvSpPr>
        <p:spPr>
          <a:xfrm>
            <a:off x="255600" y="5048280"/>
            <a:ext cx="73080" cy="169056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矩形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矩形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矩形 10"/>
          <p:cNvSpPr/>
          <p:nvPr/>
        </p:nvSpPr>
        <p:spPr>
          <a:xfrm>
            <a:off x="255600" y="4543560"/>
            <a:ext cx="73080" cy="727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矩形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矩形 14"/>
          <p:cNvSpPr/>
          <p:nvPr/>
        </p:nvSpPr>
        <p:spPr>
          <a:xfrm>
            <a:off x="2700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矩形 15"/>
          <p:cNvSpPr/>
          <p:nvPr/>
        </p:nvSpPr>
        <p:spPr>
          <a:xfrm>
            <a:off x="2509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矩形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ec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1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40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6840" indent="-228600">
              <a:spcBef>
                <a:spcPts val="700"/>
              </a:spcBef>
              <a:buClr>
                <a:srgbClr val="ea157a"/>
              </a:buClr>
              <a:buSzPct val="90000"/>
              <a:buFont typeface="Wingdings 2" charset="2"/>
              <a:buChar char="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2160" indent="-228600">
              <a:spcBef>
                <a:spcPts val="700"/>
              </a:spcBef>
              <a:buClr>
                <a:srgbClr val="feb80a"/>
              </a:buClr>
              <a:buSzPct val="90000"/>
              <a:buFont typeface="Wingdings 3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SzPct val="90000"/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90000"/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90000"/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FD36-5C0B-4C4F-9DEE-684C39002BBF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F17B-9994-45BD-BF79-2731212EB049}" type="slidenum">
              <a:rPr b="0" lang="zh-CN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矩形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矩形 7"/>
          <p:cNvSpPr/>
          <p:nvPr/>
        </p:nvSpPr>
        <p:spPr>
          <a:xfrm>
            <a:off x="255600" y="5048280"/>
            <a:ext cx="73080" cy="169056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矩形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矩形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矩形 10"/>
          <p:cNvSpPr/>
          <p:nvPr/>
        </p:nvSpPr>
        <p:spPr>
          <a:xfrm>
            <a:off x="255600" y="4543560"/>
            <a:ext cx="73080" cy="727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矩形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矩形 14"/>
          <p:cNvSpPr/>
          <p:nvPr/>
        </p:nvSpPr>
        <p:spPr>
          <a:xfrm>
            <a:off x="2700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矩形 15"/>
          <p:cNvSpPr/>
          <p:nvPr/>
        </p:nvSpPr>
        <p:spPr>
          <a:xfrm>
            <a:off x="2509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矩形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ec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1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40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6840" indent="-228600">
              <a:spcBef>
                <a:spcPts val="700"/>
              </a:spcBef>
              <a:buClr>
                <a:srgbClr val="ea157a"/>
              </a:buClr>
              <a:buSzPct val="90000"/>
              <a:buFont typeface="Wingdings 2" charset="2"/>
              <a:buChar char="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2160" indent="-228600">
              <a:spcBef>
                <a:spcPts val="700"/>
              </a:spcBef>
              <a:buClr>
                <a:srgbClr val="feb80a"/>
              </a:buClr>
              <a:buSzPct val="90000"/>
              <a:buFont typeface="Wingdings 3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SzPct val="90000"/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90000"/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90000"/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C392-7182-418B-B4E5-9A999BEF3CEF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A8CE-94FE-433B-95C0-9DD818EB4806}" type="slidenum">
              <a:rPr b="0" lang="zh-CN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矩形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矩形 7"/>
          <p:cNvSpPr/>
          <p:nvPr/>
        </p:nvSpPr>
        <p:spPr>
          <a:xfrm>
            <a:off x="255600" y="5048280"/>
            <a:ext cx="73080" cy="169056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矩形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矩形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矩形 10"/>
          <p:cNvSpPr/>
          <p:nvPr/>
        </p:nvSpPr>
        <p:spPr>
          <a:xfrm>
            <a:off x="255600" y="4543560"/>
            <a:ext cx="73080" cy="727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矩形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矩形 14"/>
          <p:cNvSpPr/>
          <p:nvPr/>
        </p:nvSpPr>
        <p:spPr>
          <a:xfrm>
            <a:off x="2700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矩形 15"/>
          <p:cNvSpPr/>
          <p:nvPr/>
        </p:nvSpPr>
        <p:spPr>
          <a:xfrm>
            <a:off x="2509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矩形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ec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1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40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6840" indent="-228600">
              <a:spcBef>
                <a:spcPts val="700"/>
              </a:spcBef>
              <a:buClr>
                <a:srgbClr val="ea157a"/>
              </a:buClr>
              <a:buSzPct val="90000"/>
              <a:buFont typeface="Wingdings 2" charset="2"/>
              <a:buChar char="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2160" indent="-228600">
              <a:spcBef>
                <a:spcPts val="700"/>
              </a:spcBef>
              <a:buClr>
                <a:srgbClr val="feb80a"/>
              </a:buClr>
              <a:buSzPct val="90000"/>
              <a:buFont typeface="Wingdings 3" charset="2"/>
              <a:buChar char="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SzPct val="90000"/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90000"/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90000"/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7B94-E9F7-4F5D-ADC5-81C74ED0B9B2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9B7B-2510-410E-80B5-B261A7194191}" type="slidenum">
              <a:rPr b="0" lang="zh-CN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Consolas"/>
              </a:rPr>
              <a:t>Unit1</a:t>
            </a:r>
            <a:r>
              <a:rPr b="1" lang="zh-CN" sz="8000" spc="-1" strike="noStrike">
                <a:solidFill>
                  <a:srgbClr val="d6ecff"/>
                </a:solidFill>
                <a:latin typeface="Consolas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Consolas"/>
              </a:rPr>
              <a:t>Hello</a:t>
            </a:r>
            <a:br>
              <a:rPr sz="8800"/>
            </a:br>
            <a:endParaRPr b="0" lang="en-US" sz="8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357120" y="2428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11120" indent="-341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Corbel"/>
              </a:rPr>
              <a:t>听懂、会说、会读、正确书写字母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a,Bb,Cc,Dd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1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Corbel"/>
              </a:rPr>
              <a:t>区分字母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Corbel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Corbel"/>
              </a:rPr>
              <a:t>的正确书写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Consolas"/>
                <a:ea typeface="宋体"/>
              </a:rPr>
              <a:t>自学指导</a:t>
            </a:r>
            <a:endParaRPr b="0" lang="en-US" sz="66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1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zh-CN" sz="3600" spc="-1" strike="noStrike">
                <a:solidFill>
                  <a:srgbClr val="000000"/>
                </a:solidFill>
                <a:latin typeface="Corbel"/>
              </a:rPr>
              <a:t>给同学们一分钟时间看我们要学的内容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Consolas"/>
                <a:ea typeface="宋体"/>
              </a:rPr>
              <a:t>比读</a:t>
            </a:r>
            <a:endParaRPr b="0" lang="en-US" sz="66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1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zh-CN" sz="3600" spc="-1" strike="noStrike">
                <a:solidFill>
                  <a:srgbClr val="000000"/>
                </a:solidFill>
                <a:latin typeface="Corbel"/>
              </a:rPr>
              <a:t>带领同学们正确朗读</a:t>
            </a: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Corbel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B</a:t>
            </a:r>
            <a:r>
              <a:rPr b="0" lang="zh-CN" sz="3600" spc="-1" strike="noStrike">
                <a:solidFill>
                  <a:srgbClr val="000000"/>
                </a:solidFill>
                <a:latin typeface="Corbel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C</a:t>
            </a:r>
            <a:r>
              <a:rPr b="0" lang="zh-CN" sz="3600" spc="-1" strike="noStrike">
                <a:solidFill>
                  <a:srgbClr val="000000"/>
                </a:solidFill>
                <a:latin typeface="Corbel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1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Read freely</a:t>
            </a:r>
            <a:r>
              <a:rPr b="0" lang="zh-CN" sz="3600" spc="-1" strike="noStrike">
                <a:solidFill>
                  <a:srgbClr val="000000"/>
                </a:solidFill>
                <a:latin typeface="Corbel"/>
              </a:rPr>
              <a:t>。</a:t>
            </a: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Corbel"/>
              </a:rPr>
              <a:t>分钟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1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zh-CN" sz="3600" spc="-1" strike="noStrike">
                <a:solidFill>
                  <a:srgbClr val="000000"/>
                </a:solidFill>
                <a:latin typeface="Corbel"/>
              </a:rPr>
              <a:t>①</a:t>
            </a:r>
            <a:r>
              <a:rPr b="0" lang="zh-CN" sz="3600" spc="-1" strike="noStrike">
                <a:solidFill>
                  <a:srgbClr val="000000"/>
                </a:solidFill>
                <a:latin typeface="Corbel"/>
              </a:rPr>
              <a:t>指名朗读②纠错，会读的领读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9144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黑体"/>
                <a:ea typeface="宋体"/>
              </a:rPr>
              <a:t>比写</a:t>
            </a:r>
            <a:endParaRPr b="0" lang="en-US" sz="60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9144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1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zh-CN" sz="4000" spc="-1" strike="noStrike">
                <a:solidFill>
                  <a:srgbClr val="000000"/>
                </a:solidFill>
                <a:latin typeface="Corbel"/>
              </a:rPr>
              <a:t>自学：</a:t>
            </a: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boys and girls, how to write Aa,Bb,Cc,Dd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1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zh-CN" sz="4000" spc="-1" strike="noStrike">
                <a:solidFill>
                  <a:srgbClr val="000000"/>
                </a:solidFill>
                <a:latin typeface="Corbel"/>
              </a:rPr>
              <a:t>观察课本</a:t>
            </a: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Corbel"/>
              </a:rPr>
              <a:t>自己书写。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1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zh-CN" sz="4000" spc="-1" strike="noStrike">
                <a:solidFill>
                  <a:srgbClr val="000000"/>
                </a:solidFill>
                <a:latin typeface="Corbel"/>
              </a:rPr>
              <a:t>指名到黑板写</a:t>
            </a: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1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zh-CN" sz="4000" spc="-1" strike="noStrike">
                <a:solidFill>
                  <a:srgbClr val="000000"/>
                </a:solidFill>
                <a:latin typeface="Corbel"/>
              </a:rPr>
              <a:t>纠错，讲授怎样写，会写的同学教不会的同学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1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onsolas"/>
                <a:ea typeface="宋体"/>
              </a:rPr>
              <a:t>比流利读</a:t>
            </a:r>
            <a:br>
              <a:rPr sz="6000"/>
            </a:br>
            <a:r>
              <a:rPr b="0" lang="zh-CN" sz="6600" spc="-1" strike="noStrike">
                <a:solidFill>
                  <a:srgbClr val="000000"/>
                </a:solidFill>
                <a:latin typeface="黑体"/>
              </a:rPr>
              <a:t>Aa,Bb,Cc,Dd</a:t>
            </a:r>
            <a:br>
              <a:rPr sz="3200"/>
            </a:br>
            <a:endParaRPr b="0" lang="en-US" sz="66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57120" y="25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12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en-US" sz="38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</a:rPr>
              <a:t>开火车读。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12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en-US" sz="3800" spc="-1" strike="noStrike">
                <a:solidFill>
                  <a:srgbClr val="000000"/>
                </a:solidFill>
                <a:latin typeface="黑体"/>
              </a:rPr>
              <a:t>2.Read in groups.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0" lang="en-US" sz="3800" spc="-1" strike="noStrike">
                <a:solidFill>
                  <a:srgbClr val="000000"/>
                </a:solidFill>
                <a:latin typeface="黑体"/>
              </a:rPr>
              <a:t>Read freely3 minutes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12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zh-CN" sz="3800" spc="-1" strike="noStrike">
                <a:solidFill>
                  <a:srgbClr val="000000"/>
                </a:solidFill>
                <a:latin typeface="黑体"/>
              </a:rPr>
              <a:t>比赛开始啦， 咱们比比看，哪一组读的最棒。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nsolas"/>
                <a:ea typeface="宋体"/>
              </a:rPr>
              <a:t>比当堂完成作业</a:t>
            </a:r>
            <a:br>
              <a:rPr sz="3600"/>
            </a:br>
            <a:endParaRPr b="0" lang="en-US" sz="4800" spc="-1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2858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1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Corbel"/>
              </a:rPr>
              <a:t>、按顺序抄写字母</a:t>
            </a: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Aa-Dd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1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Corbel"/>
              </a:rPr>
              <a:t>、写出下列字母对应的大小写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1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A                  b                   D                  dc                bad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1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WordArt 3"/>
          <p:cNvSpPr txBox="1"/>
          <p:nvPr/>
        </p:nvSpPr>
        <p:spPr>
          <a:xfrm>
            <a:off x="914400" y="1600200"/>
            <a:ext cx="7315200" cy="205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Goodby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04:50:00Z</dcterms:created>
  <dc:creator>Windows 用户</dc:creator>
  <dc:description/>
  <cp:keywords/>
  <dc:language>en-US</dc:language>
  <cp:lastModifiedBy>dell</cp:lastModifiedBy>
  <dcterms:modified xsi:type="dcterms:W3CDTF">2014-11-10T06:30:10Z</dcterms:modified>
  <cp:revision>17</cp:revision>
  <dc:subject/>
  <dc:title>Unit1 Hello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