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projctor.wav" ContentType="audio/x-wav"/>
  <Override PartName="/ppt/media/image9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7.gif" ContentType="image/gif"/>
  <Override PartName="/ppt/media/carbrake.wav" ContentType="audio/x-wav"/>
  <Override PartName="/ppt/media/chimes.wav" ContentType="audio/x-wav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DE8-B18D-467A-845C-A961B3E3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026-A64E-494A-9C9B-55DB3516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42F-6CCB-45E6-AD10-C62CC071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E61-265C-4824-8E1E-AD424247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867F-6732-4DEC-BDE6-EA4D71BA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849-B5E9-493B-82BF-42A7F2A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9270-AE44-41F0-8EF4-BF37E3A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FA9E-0250-4AD0-B54C-9165BAF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828-DE8B-430C-BFC5-75F05101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AAA-0B2B-486C-B104-71E3E346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279-2A0D-4AB4-B87E-0E98A592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AD1-202F-43F7-B5FB-4923CFC9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CB4B-635B-4147-9A3A-7447B57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DCE4-EDB6-4501-AC5B-B5D6440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D247-A84C-4D18-9828-08E255E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99BB-46F1-4080-AAC4-80DA231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6959-FE9F-4A06-AFFA-D045EFE6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96EF-594E-4114-9576-792CF795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180D-CC2A-40FE-87F7-F27D3A46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97D5-F25C-48C7-B902-9AD0488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F2BE-31D1-4B92-9E3A-4BACBF3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9D8F-5F67-4B83-A14A-B5F63BE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E0E-32B8-45E6-95D1-E0B4054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4C63-6408-4727-AAFC-D329CB19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9933-A6A8-4E3D-AA67-2C57BAFE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D2DA-4BE1-4FAA-AB5E-D76EDBA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29D8-82E6-4B71-BD45-5B1518F9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538B-803E-4720-83E4-32FD777E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4DCE-33F7-4749-B4CB-7BBD0B1A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1FBA-FA6C-4901-B09F-D8B9D7AB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EB7C-6020-4F66-A3E6-67A842D8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F3CD-2325-4F53-9F94-F9B2AC90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73B1-167E-4902-BF7E-2FCEECF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CF9-79E9-4FC1-A72D-36375746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93D51-4C8F-4BA6-947D-67D418A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5E69-83AA-42FC-8AF8-93287897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096D-E0F1-455A-936B-AD1AFED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BD81-20FD-41F6-B35D-9D495A1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3FFB-AE29-48F6-8D90-3B1567A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985A-6732-43C5-A624-646605F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0414-051A-4FAB-B016-C0CF6EEA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91E9-6D3D-44C7-9C4D-DDFB5889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61AB-3512-4A80-BCE2-1CEF11C9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615-18DD-4834-BD82-C03BAAA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910-4514-4ADA-AA3F-02618C0C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459-9DAF-4597-93CB-5DFE8CB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2D8-53E2-416A-92FE-17E29E2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B30-2556-442C-9011-9BD31652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矩形 102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任意多边形 1028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组合 1029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圆角矩形 103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流程图: 延期 1031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4688-9C4D-4A39-AE5A-273F1FBF3F6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1A7-F64B-4506-9416-76DD13BEFA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160-21B5-46AC-B1AC-5A85399AFA62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049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矩形 2050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圆角矩形 2051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" name="组合 2052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圆角矩形 2053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流程图: 延期 2054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E18-5E0C-4586-9FC6-43E60F22A5F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6145"/>
          <p:cNvSpPr/>
          <p:nvPr/>
        </p:nvSpPr>
        <p:spPr>
          <a:xfrm>
            <a:off x="755640" y="2060640"/>
            <a:ext cx="777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3366"/>
                </a:solidFill>
                <a:latin typeface="Times New Roman"/>
                <a:ea typeface="宋体"/>
              </a:rPr>
              <a:t>UNIT FOUR WHERE IS MY SHIRT Lesson 14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3366"/>
                </a:solidFill>
                <a:latin typeface="Times New Roman"/>
                <a:ea typeface="宋体"/>
              </a:rPr>
              <a:t>课件</a:t>
            </a:r>
            <a:r>
              <a:rPr b="1" i="1" lang="zh-CN" sz="5000" spc="-1" strike="noStrike">
                <a:solidFill>
                  <a:srgbClr val="003366"/>
                </a:solidFill>
                <a:latin typeface="Times New Roman"/>
                <a:ea typeface="宋体"/>
              </a:rPr>
              <a:t>1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5361" descr="书包2"/>
          <p:cNvPicPr/>
          <p:nvPr/>
        </p:nvPicPr>
        <p:blipFill>
          <a:blip r:embed="rId1"/>
          <a:stretch/>
        </p:blipFill>
        <p:spPr>
          <a:xfrm>
            <a:off x="6804000" y="2276640"/>
            <a:ext cx="1932120" cy="244620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5362"/>
          <p:cNvSpPr/>
          <p:nvPr/>
        </p:nvSpPr>
        <p:spPr>
          <a:xfrm>
            <a:off x="6087240" y="5157720"/>
            <a:ext cx="27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a backpac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图片 15363" descr="right"/>
          <p:cNvPicPr/>
          <p:nvPr/>
        </p:nvPicPr>
        <p:blipFill>
          <a:blip r:embed="rId2"/>
          <a:stretch/>
        </p:blipFill>
        <p:spPr>
          <a:xfrm rot="19943400">
            <a:off x="0" y="465264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6385" descr="eraser"/>
          <p:cNvPicPr/>
          <p:nvPr/>
        </p:nvPicPr>
        <p:blipFill>
          <a:blip r:embed="rId1"/>
          <a:stretch/>
        </p:blipFill>
        <p:spPr>
          <a:xfrm>
            <a:off x="2916360" y="2133720"/>
            <a:ext cx="4163760" cy="313056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16386"/>
          <p:cNvSpPr/>
          <p:nvPr/>
        </p:nvSpPr>
        <p:spPr>
          <a:xfrm>
            <a:off x="3187800" y="541008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n eras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图片 16387" descr="right"/>
          <p:cNvPicPr/>
          <p:nvPr/>
        </p:nvPicPr>
        <p:blipFill>
          <a:blip r:embed="rId2"/>
          <a:stretch/>
        </p:blipFill>
        <p:spPr>
          <a:xfrm rot="19943400">
            <a:off x="1692000" y="429228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文本占位符 17409" descr="pencil box"/>
          <p:cNvPicPr/>
          <p:nvPr/>
        </p:nvPicPr>
        <p:blipFill>
          <a:blip r:embed="rId1"/>
          <a:stretch/>
        </p:blipFill>
        <p:spPr>
          <a:xfrm>
            <a:off x="2340000" y="2133720"/>
            <a:ext cx="5143320" cy="27003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7410"/>
          <p:cNvSpPr/>
          <p:nvPr/>
        </p:nvSpPr>
        <p:spPr>
          <a:xfrm>
            <a:off x="2846520" y="501336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 pencil cas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图片 17411" descr="right"/>
          <p:cNvPicPr/>
          <p:nvPr/>
        </p:nvPicPr>
        <p:blipFill>
          <a:blip r:embed="rId2"/>
          <a:stretch/>
        </p:blipFill>
        <p:spPr>
          <a:xfrm rot="19943400">
            <a:off x="1258560" y="3860280"/>
            <a:ext cx="259236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18433"/>
          <p:cNvSpPr/>
          <p:nvPr/>
        </p:nvSpPr>
        <p:spPr>
          <a:xfrm>
            <a:off x="3492360" y="2349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Is this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a pencil case?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文本框 18434"/>
          <p:cNvSpPr/>
          <p:nvPr/>
        </p:nvSpPr>
        <p:spPr>
          <a:xfrm>
            <a:off x="3635280" y="3141720"/>
            <a:ext cx="20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Yes,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8" name="图片 18435" descr="04b"/>
          <p:cNvPicPr/>
          <p:nvPr/>
        </p:nvPicPr>
        <p:blipFill>
          <a:blip r:embed="rId1"/>
          <a:stretch/>
        </p:blipFill>
        <p:spPr>
          <a:xfrm>
            <a:off x="2627280" y="4046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8436"/>
          <p:cNvSpPr/>
          <p:nvPr/>
        </p:nvSpPr>
        <p:spPr>
          <a:xfrm>
            <a:off x="826920" y="3860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Is this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your pencil case?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文本框 18437"/>
          <p:cNvSpPr/>
          <p:nvPr/>
        </p:nvSpPr>
        <p:spPr>
          <a:xfrm>
            <a:off x="900000" y="4724280"/>
            <a:ext cx="70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Yes,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it is. It’s 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</a:rPr>
              <a:t>my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 pencil cas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No, it isn’t. It’s 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</a:rPr>
              <a:t>her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 pencil cas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9457"/>
          <p:cNvSpPr/>
          <p:nvPr/>
        </p:nvSpPr>
        <p:spPr>
          <a:xfrm>
            <a:off x="2485800" y="242100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Is that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an eraser?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文本框 19458"/>
          <p:cNvSpPr/>
          <p:nvPr/>
        </p:nvSpPr>
        <p:spPr>
          <a:xfrm>
            <a:off x="2484360" y="314172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o,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t isn’t. It’s a book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图片 19459" descr="book11.gif (23642 bytes)"/>
          <p:cNvPicPr/>
          <p:nvPr/>
        </p:nvPicPr>
        <p:blipFill>
          <a:blip r:embed="rId1"/>
          <a:stretch/>
        </p:blipFill>
        <p:spPr>
          <a:xfrm>
            <a:off x="6948360" y="0"/>
            <a:ext cx="1898640" cy="1981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9460"/>
          <p:cNvSpPr/>
          <p:nvPr/>
        </p:nvSpPr>
        <p:spPr>
          <a:xfrm>
            <a:off x="1116000" y="4076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Is that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your book?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文本框 19461"/>
          <p:cNvSpPr/>
          <p:nvPr/>
        </p:nvSpPr>
        <p:spPr>
          <a:xfrm>
            <a:off x="971640" y="5013360"/>
            <a:ext cx="70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Yes,</a:t>
            </a: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it is. It’s 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</a:rPr>
              <a:t>my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 book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No, it isn’t. It’s 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Times New Roman"/>
              </a:rPr>
              <a:t>his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 book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0481"/>
          <p:cNvSpPr/>
          <p:nvPr/>
        </p:nvSpPr>
        <p:spPr>
          <a:xfrm>
            <a:off x="395280" y="981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文本框 20482"/>
          <p:cNvSpPr/>
          <p:nvPr/>
        </p:nvSpPr>
        <p:spPr>
          <a:xfrm>
            <a:off x="611280" y="260280"/>
            <a:ext cx="626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宋体"/>
              </a:rPr>
              <a:t>重点句型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s this/that a/an …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es, it is.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, it isn’t. It’s a/an …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ow do you spell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s this/that </a:t>
            </a: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your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…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Yes, it is. It is </a:t>
            </a: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my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… ./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, it isn’t. It’s </a:t>
            </a:r>
            <a:r>
              <a:rPr b="0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his/her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… 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21505"/>
          <p:cNvSpPr/>
          <p:nvPr/>
        </p:nvSpPr>
        <p:spPr>
          <a:xfrm>
            <a:off x="395280" y="2565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是以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be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动词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(is, are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等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)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，情态动词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(can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等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)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或助动词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(do, does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等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华文仿宋"/>
              </a:rPr>
              <a:t>)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华文仿宋"/>
              </a:rPr>
              <a:t>开头表示疑问的句子。对一般疑问句的回答通常需要作肯定或否定回答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文本框 21506"/>
          <p:cNvSpPr/>
          <p:nvPr/>
        </p:nvSpPr>
        <p:spPr>
          <a:xfrm>
            <a:off x="539640" y="6922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彩云"/>
              </a:rPr>
              <a:t>一般疑问句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巧变一般疑问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『秘诀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调二改三问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即把句中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/ is /are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调到主语的前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改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句中的主语若含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(my /we 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等第一人称代词时，需将它们改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(your /you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问号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句末的句号改为问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23553"/>
          <p:cNvSpPr/>
          <p:nvPr/>
        </p:nvSpPr>
        <p:spPr>
          <a:xfrm>
            <a:off x="611280" y="8366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Yes,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is. / No, </a:t>
            </a:r>
            <a:r>
              <a:rPr b="1" lang="en-US" sz="3200" spc="-1" strike="noStrike" u="sng">
                <a:solidFill>
                  <a:srgbClr val="cc00cc"/>
                </a:solidFill>
                <a:uFillTx/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isn’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文本框 23554"/>
          <p:cNvSpPr/>
          <p:nvPr/>
        </p:nvSpPr>
        <p:spPr>
          <a:xfrm>
            <a:off x="468360" y="1413000"/>
            <a:ext cx="6264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它们是一般疑问句简略的答语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肯定答语：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Yes,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主语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+ b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否定答语：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No,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主语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+ be + no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2. 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简略答语的主语要由问句的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仿宋_GB2312"/>
                <a:ea typeface="仿宋_GB2312"/>
              </a:rPr>
              <a:t>主语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来决定。若问句中主语是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that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或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this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，答语的主语用</a:t>
            </a: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i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若主语是</a:t>
            </a:r>
            <a:r>
              <a:rPr b="1" lang="zh-CN" sz="28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名词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时，答语的主语应用相应的</a:t>
            </a:r>
            <a:r>
              <a:rPr b="1" lang="zh-CN" sz="2800" spc="-1" strike="noStrike">
                <a:solidFill>
                  <a:srgbClr val="cc00cc"/>
                </a:solidFill>
                <a:latin typeface="仿宋_GB2312"/>
                <a:ea typeface="仿宋_GB2312"/>
              </a:rPr>
              <a:t>人称代词</a:t>
            </a:r>
            <a:r>
              <a:rPr b="1" lang="zh-CN" sz="28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将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词的肯定句变为否定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般将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am, is ,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肯定句转化为否定句时，直接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am, is ,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加上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即可。其他部分不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1. This  is  a  rul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变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 is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 rul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  am  a  stud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变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  stu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im  and   I  are  good 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变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  and   I  are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good  friend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7169"/>
          <p:cNvSpPr/>
          <p:nvPr/>
        </p:nvSpPr>
        <p:spPr>
          <a:xfrm>
            <a:off x="2082600" y="1657440"/>
            <a:ext cx="5400720" cy="1300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your pencil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,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t is .It’s my pencil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文本框 7170"/>
          <p:cNvSpPr/>
          <p:nvPr/>
        </p:nvSpPr>
        <p:spPr>
          <a:xfrm>
            <a:off x="2054160" y="3214800"/>
            <a:ext cx="6470640" cy="1300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your backpack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No,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t isn’t.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t’s his backpack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文本框 7171"/>
          <p:cNvSpPr/>
          <p:nvPr/>
        </p:nvSpPr>
        <p:spPr>
          <a:xfrm>
            <a:off x="2071800" y="4776840"/>
            <a:ext cx="5679720" cy="1300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A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your ruler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No,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t isn’t.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It’s her ruler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alibri"/>
              </a:rPr>
              <a:t>口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56000" y="1196640"/>
            <a:ext cx="4752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词真伟大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生出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am  is  a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表示否定很简单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no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加在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若要变为疑问句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应移到主语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还有一点要注意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句末问号别忘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26625"/>
          <p:cNvSpPr/>
          <p:nvPr/>
        </p:nvSpPr>
        <p:spPr>
          <a:xfrm>
            <a:off x="1619280" y="83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  <a:ea typeface="华文彩云"/>
              </a:rPr>
              <a:t>b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  <a:ea typeface="华文彩云"/>
              </a:rPr>
              <a:t>e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彩云"/>
              </a:rPr>
              <a:t>动词用法口诀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文本框 26626"/>
          <p:cNvSpPr/>
          <p:nvPr/>
        </p:nvSpPr>
        <p:spPr>
          <a:xfrm>
            <a:off x="395280" y="2708280"/>
            <a:ext cx="684072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我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I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用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am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你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you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用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are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is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连着他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he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她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she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它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it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其余单数用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(is)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，复数就用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are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背诵课文和单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演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完成课后习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8193" descr="right"/>
          <p:cNvPicPr/>
          <p:nvPr/>
        </p:nvPicPr>
        <p:blipFill>
          <a:blip r:embed="rId1"/>
          <a:stretch/>
        </p:blipFill>
        <p:spPr>
          <a:xfrm rot="20356800">
            <a:off x="0" y="4653000"/>
            <a:ext cx="2952720" cy="114624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8194"/>
          <p:cNvSpPr/>
          <p:nvPr/>
        </p:nvSpPr>
        <p:spPr>
          <a:xfrm>
            <a:off x="900000" y="364500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3" name="组合 8195"/>
          <p:cNvGrpSpPr/>
          <p:nvPr/>
        </p:nvGrpSpPr>
        <p:grpSpPr>
          <a:xfrm>
            <a:off x="611280" y="476280"/>
            <a:ext cx="7848360" cy="71280"/>
            <a:chOff x="611280" y="476280"/>
            <a:chExt cx="7848360" cy="71280"/>
          </a:xfrm>
        </p:grpSpPr>
        <p:sp>
          <p:nvSpPr>
            <p:cNvPr id="184" name="直接连接符 8196"/>
            <p:cNvSpPr/>
            <p:nvPr/>
          </p:nvSpPr>
          <p:spPr>
            <a:xfrm>
              <a:off x="611280" y="547560"/>
              <a:ext cx="7848360" cy="0"/>
            </a:xfrm>
            <a:prstGeom prst="line">
              <a:avLst/>
            </a:prstGeom>
            <a:ln w="93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直接连接符 8197"/>
            <p:cNvSpPr/>
            <p:nvPr/>
          </p:nvSpPr>
          <p:spPr>
            <a:xfrm>
              <a:off x="611280" y="476280"/>
              <a:ext cx="7848360" cy="0"/>
            </a:xfrm>
            <a:prstGeom prst="line">
              <a:avLst/>
            </a:prstGeom>
            <a:ln w="93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86" name="图片 8198" descr="04b"/>
          <p:cNvPicPr/>
          <p:nvPr/>
        </p:nvPicPr>
        <p:blipFill>
          <a:blip r:embed="rId2"/>
          <a:stretch/>
        </p:blipFill>
        <p:spPr>
          <a:xfrm>
            <a:off x="579600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199" descr="right"/>
          <p:cNvPicPr/>
          <p:nvPr/>
        </p:nvPicPr>
        <p:blipFill>
          <a:blip r:embed="rId3"/>
          <a:stretch/>
        </p:blipFill>
        <p:spPr>
          <a:xfrm rot="19943400">
            <a:off x="4284360" y="3068280"/>
            <a:ext cx="2592360" cy="100476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8200"/>
          <p:cNvSpPr/>
          <p:nvPr/>
        </p:nvSpPr>
        <p:spPr>
          <a:xfrm>
            <a:off x="4859280" y="3860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this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文本占位符 9217" descr="ruler"/>
          <p:cNvPicPr/>
          <p:nvPr/>
        </p:nvPicPr>
        <p:blipFill>
          <a:blip r:embed="rId1"/>
          <a:stretch/>
        </p:blipFill>
        <p:spPr>
          <a:xfrm>
            <a:off x="3203640" y="2349360"/>
            <a:ext cx="4414680" cy="195264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9218"/>
          <p:cNvSpPr/>
          <p:nvPr/>
        </p:nvSpPr>
        <p:spPr>
          <a:xfrm>
            <a:off x="3852720" y="50846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 rul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图片 9219" descr="right"/>
          <p:cNvPicPr/>
          <p:nvPr/>
        </p:nvPicPr>
        <p:blipFill>
          <a:blip r:embed="rId2"/>
          <a:stretch/>
        </p:blipFill>
        <p:spPr>
          <a:xfrm rot="19943400">
            <a:off x="1187280" y="4005360"/>
            <a:ext cx="2592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0241" descr="shappener"/>
          <p:cNvPicPr/>
          <p:nvPr/>
        </p:nvPicPr>
        <p:blipFill>
          <a:blip r:embed="rId1"/>
          <a:stretch/>
        </p:blipFill>
        <p:spPr>
          <a:xfrm>
            <a:off x="4788000" y="1916280"/>
            <a:ext cx="3816360" cy="303984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10242"/>
          <p:cNvSpPr/>
          <p:nvPr/>
        </p:nvSpPr>
        <p:spPr>
          <a:xfrm>
            <a:off x="3855240" y="522936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 pencil sharpen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图片 10243" descr="right"/>
          <p:cNvPicPr/>
          <p:nvPr/>
        </p:nvPicPr>
        <p:blipFill>
          <a:blip r:embed="rId2"/>
          <a:stretch/>
        </p:blipFill>
        <p:spPr>
          <a:xfrm rot="19943400">
            <a:off x="0" y="465264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1265" descr="pen"/>
          <p:cNvPicPr/>
          <p:nvPr/>
        </p:nvPicPr>
        <p:blipFill>
          <a:blip r:embed="rId1"/>
          <a:stretch/>
        </p:blipFill>
        <p:spPr>
          <a:xfrm>
            <a:off x="2916360" y="1773360"/>
            <a:ext cx="4249440" cy="37656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1266"/>
          <p:cNvSpPr/>
          <p:nvPr/>
        </p:nvSpPr>
        <p:spPr>
          <a:xfrm>
            <a:off x="2629440" y="472428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 p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7" name="图片 11267" descr="right"/>
          <p:cNvPicPr/>
          <p:nvPr/>
        </p:nvPicPr>
        <p:blipFill>
          <a:blip r:embed="rId2"/>
          <a:stretch/>
        </p:blipFill>
        <p:spPr>
          <a:xfrm rot="19943400">
            <a:off x="1547280" y="3213000"/>
            <a:ext cx="25927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2289" descr="book11.gif (23642 bytes)"/>
          <p:cNvPicPr/>
          <p:nvPr/>
        </p:nvPicPr>
        <p:blipFill>
          <a:blip r:embed="rId1"/>
          <a:stretch/>
        </p:blipFill>
        <p:spPr>
          <a:xfrm>
            <a:off x="5940360" y="2276640"/>
            <a:ext cx="2000160" cy="20872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12290"/>
          <p:cNvSpPr/>
          <p:nvPr/>
        </p:nvSpPr>
        <p:spPr>
          <a:xfrm>
            <a:off x="6158520" y="450864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a boo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图片 12291" descr="right"/>
          <p:cNvPicPr/>
          <p:nvPr/>
        </p:nvPicPr>
        <p:blipFill>
          <a:blip r:embed="rId2"/>
          <a:stretch/>
        </p:blipFill>
        <p:spPr>
          <a:xfrm rot="19943400">
            <a:off x="0" y="465264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3313" descr="Chinese-English dictionary"/>
          <p:cNvPicPr/>
          <p:nvPr/>
        </p:nvPicPr>
        <p:blipFill>
          <a:blip r:embed="rId1"/>
          <a:stretch/>
        </p:blipFill>
        <p:spPr>
          <a:xfrm>
            <a:off x="5940360" y="2133720"/>
            <a:ext cx="1878120" cy="24494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3314"/>
          <p:cNvSpPr/>
          <p:nvPr/>
        </p:nvSpPr>
        <p:spPr>
          <a:xfrm>
            <a:off x="5078520" y="4797360"/>
            <a:ext cx="29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a dictiona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图片 13315" descr="right"/>
          <p:cNvPicPr/>
          <p:nvPr/>
        </p:nvPicPr>
        <p:blipFill>
          <a:blip r:embed="rId2"/>
          <a:stretch/>
        </p:blipFill>
        <p:spPr>
          <a:xfrm rot="19943400">
            <a:off x="0" y="465264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文本占位符 14337" descr="pencil"/>
          <p:cNvPicPr/>
          <p:nvPr/>
        </p:nvPicPr>
        <p:blipFill>
          <a:blip r:embed="rId1"/>
          <a:stretch/>
        </p:blipFill>
        <p:spPr>
          <a:xfrm>
            <a:off x="3132000" y="1989000"/>
            <a:ext cx="3673440" cy="364176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14338"/>
          <p:cNvSpPr/>
          <p:nvPr/>
        </p:nvSpPr>
        <p:spPr>
          <a:xfrm>
            <a:off x="5798160" y="5013360"/>
            <a:ext cx="20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 penci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图片 14339" descr="right"/>
          <p:cNvPicPr/>
          <p:nvPr/>
        </p:nvPicPr>
        <p:blipFill>
          <a:blip r:embed="rId2"/>
          <a:stretch/>
        </p:blipFill>
        <p:spPr>
          <a:xfrm rot="19943400">
            <a:off x="1476000" y="4868640"/>
            <a:ext cx="259236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7:44:17Z</dcterms:created>
  <dc:creator> </dc:creator>
  <dc:description> </dc:description>
  <dc:language>en-US</dc:language>
  <cp:lastModifiedBy>Administrator</cp:lastModifiedBy>
  <dcterms:modified xsi:type="dcterms:W3CDTF">2017-04-19T07:17:1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