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866-72B1-4715-96CC-C4F16F74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2B9-15AB-4DBD-BCA8-4C6F76A3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83D-5E1A-4C15-B7CC-81300D6B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2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2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93E-815A-4511-A858-AFAB7FBE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6821-C745-4252-9A9F-5EC299B6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F1FB-DBEA-4AE7-ABC5-800A421F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CA3B-FB73-4951-8101-7B8B99C0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F83E-84C6-4772-A104-3EA9B28E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AB34-B6CE-46BF-B511-1FBC7C14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47840" y="214200"/>
            <a:ext cx="8215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DB60-EC32-445A-A36E-62BD7465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26AE-D73E-43A7-B58D-1CDF2AE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7E3-674C-4DCB-A1F2-7A0BC80F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DCE1-8355-4463-B92E-E6CFF337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FB59-6BC7-4ABF-8BA3-9909BBA6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0A47-BA1C-4EE8-9670-89E5318B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5E65-AB38-4EAC-A486-2058B65A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52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300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78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52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300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D881-3536-4B58-87D7-23E44DE5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D708-1B97-4450-91BB-3C8FC4C1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D215-D226-4A00-B9E4-3D31514A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8DCB-D7BC-4013-AE50-EF47CE3C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C4C0-4C1B-4E6F-A1F7-4ECF7883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D761-A239-4189-94CF-6233C50F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563-8FA8-4E48-8033-65ED35BE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7840" y="214200"/>
            <a:ext cx="8215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84E8-B31E-4AAA-AFAA-E52D97D8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B7AE-C270-49ED-8390-E5AC33C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8E84-52A5-4EC0-86D7-19C95A8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7112-F83E-467B-8B43-B43FBA46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9620-6548-4001-9B9D-2A8C7411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EFA7-431A-4E7D-8227-DC5004B8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52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300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78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52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300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9746-06BB-4610-AB5F-74405925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C42B-754D-46CE-9E15-07321668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F12E1-97C9-4F7F-8E3A-5805FA5D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DFBD4-D466-4035-90DA-697151E7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39B-6CDC-4D20-A057-6823ECA1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15CE-36A0-4C92-B5D2-9A0099AE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A40C8-0AD3-4FE3-8312-DFB43204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47840" y="214200"/>
            <a:ext cx="8215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8257-5086-4FA8-BE05-BA62A56E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8BA4A-6D07-422E-8175-550579DA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200F-1E27-4407-8DA3-9B8946B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0F3A-C213-4F91-8D3D-344CEDBE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4692E-D2FD-461B-BFD6-2C2D7775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94CC-CF4A-46FC-8978-6966C7F4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252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0300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78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252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0300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717D-C876-45C2-9EAB-78A51CF7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69B9-BCBD-42E8-B7D4-B12BB524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DA7-4DE5-4BB6-9B68-C43868F4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D73A4-DD5B-4FCA-851E-41230A57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3DAAE-FF5C-45C7-BB60-2E634B86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5E663-D2AC-4E7A-ACE9-7BB4827C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9253E-BD22-49CF-BB27-2E917CB4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7840" y="214200"/>
            <a:ext cx="8215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4A9FD-5330-47CD-B30E-65B3BDEF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700EE-91D4-4659-883C-2E2C43F0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9E05C-CD0E-4662-98EF-91B315A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D7EA6-BBD6-478B-A4E2-F610DE1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3ED96-9DA1-49D3-8DE0-135232D8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42D9-3C46-47A1-B149-254F4570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214200"/>
            <a:ext cx="8215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00C-8DBE-4958-AA4D-08327D37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2524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3000" y="11336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478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2524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3000" y="37980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19C4-CD4D-4608-AD68-D9681214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63C-6A8C-4F4D-9740-453ECE47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8DE-CF24-4853-8BDD-29346D4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37980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A9E-3EEF-4E84-B99E-062D47B3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C6F4-CE06-4E77-85D2-425D6D5D0C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668B-4448-40DF-9871-C345A6CB12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10" descr=""/>
          <p:cNvPicPr/>
          <p:nvPr/>
        </p:nvPicPr>
        <p:blipFill>
          <a:blip r:embed="rId2"/>
          <a:srcRect l="0" t="0" r="12572" b="0"/>
          <a:stretch/>
        </p:blipFill>
        <p:spPr>
          <a:xfrm>
            <a:off x="0" y="0"/>
            <a:ext cx="9144000" cy="589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80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E2CB-83A7-430C-B40C-29D85D346F8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8028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80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847E-CE47-407B-879E-2B47EFEEFA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2006640" y="162000"/>
            <a:ext cx="67039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aae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507aae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19040" y="1498680"/>
            <a:ext cx="82915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601"/>
              </a:spcBef>
              <a:buClr>
                <a:srgbClr val="507aae"/>
              </a:buClr>
              <a:buSzPct val="8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7aae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507aa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bdaaca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7aae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507aa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7aae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507aa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7aae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507aa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7aae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507aa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7aae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507aa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7aae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507aa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"/>
          <p:cNvPicPr/>
          <p:nvPr/>
        </p:nvPicPr>
        <p:blipFill>
          <a:blip r:embed="rId2"/>
          <a:srcRect l="1795" t="4073" r="22178" b="-6206"/>
          <a:stretch/>
        </p:blipFill>
        <p:spPr>
          <a:xfrm>
            <a:off x="0" y="-6336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300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91E2-A0E5-4247-973E-FB80AF1140E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300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300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F067-4489-4A0B-BC03-414FCE0D86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744480" y="509256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7aae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507aae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6"/>
          <p:cNvGrpSpPr/>
          <p:nvPr/>
        </p:nvGrpSpPr>
        <p:grpSpPr>
          <a:xfrm>
            <a:off x="-3240" y="12600"/>
            <a:ext cx="9144000" cy="6858000"/>
            <a:chOff x="-3240" y="12600"/>
            <a:chExt cx="9144000" cy="6858000"/>
          </a:xfrm>
        </p:grpSpPr>
        <p:pic>
          <p:nvPicPr>
            <p:cNvPr id="125" name="图片 5" descr="未标题-1.jpg"/>
            <p:cNvPicPr/>
            <p:nvPr/>
          </p:nvPicPr>
          <p:blipFill>
            <a:blip r:embed="rId2"/>
            <a:srcRect l="57079" t="0" r="0" b="14152"/>
            <a:stretch/>
          </p:blipFill>
          <p:spPr>
            <a:xfrm>
              <a:off x="4568760" y="1260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图片 5" descr="未标题-1.jpg"/>
            <p:cNvPicPr/>
            <p:nvPr/>
          </p:nvPicPr>
          <p:blipFill>
            <a:blip r:embed="rId3"/>
            <a:srcRect l="57079" t="0" r="0" b="14310"/>
            <a:stretch/>
          </p:blipFill>
          <p:spPr>
            <a:xfrm flipH="1">
              <a:off x="-3240" y="12600"/>
              <a:ext cx="4572000" cy="684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6AED-873F-430B-8F27-5C457ACAD128}" type="datetime">
              <a:rPr b="0" lang="zh-CN" sz="900" spc="-1" strike="noStrike">
                <a:solidFill>
                  <a:srgbClr val="969696"/>
                </a:solidFill>
                <a:latin typeface="Times New Roman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9520-A183-4D2E-9789-185BC58B9046}" type="slidenum">
              <a:rPr b="0" lang="zh-CN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650a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e5a997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650a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650a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650a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650a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650a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b8650a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b8650a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5" descr="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D585-0AE6-4A57-BC4D-BF536BDE2966}" type="datetime">
              <a:rPr b="0" lang="zh-CN" sz="900" spc="-1" strike="noStrike">
                <a:solidFill>
                  <a:srgbClr val="969696"/>
                </a:solidFill>
                <a:latin typeface="Times New Roman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843D-5856-4887-906A-1138724B06CE}" type="slidenum">
              <a:rPr b="0" lang="zh-CN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title"/>
          </p:nvPr>
        </p:nvSpPr>
        <p:spPr>
          <a:xfrm>
            <a:off x="2787120" y="1258560"/>
            <a:ext cx="5884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b8650a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6c6f72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4d4d4d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lvl="5" marL="1371600"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lvl="6" marL="1371600">
              <a:spcBef>
                <a:spcPts val="326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87120" y="1258560"/>
            <a:ext cx="5884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b8650a"/>
                </a:solidFill>
                <a:latin typeface="华文中宋"/>
              </a:rPr>
              <a:t>UNIT FOUR WHERE IS MY SHIRT Lesson 15</a:t>
            </a: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790360" y="2152800"/>
            <a:ext cx="5870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6c6f72"/>
                </a:solidFill>
                <a:latin typeface="幼圆"/>
              </a:rPr>
              <a:t>课件</a:t>
            </a:r>
            <a:r>
              <a:rPr b="0" lang="zh-CN" sz="2000" spc="-1" strike="noStrike">
                <a:solidFill>
                  <a:srgbClr val="6c6f72"/>
                </a:solidFill>
                <a:latin typeface="幼圆"/>
              </a:rPr>
              <a:t>2</a:t>
            </a:r>
            <a:endParaRPr b="0" lang="en-US" sz="20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  <a:ea typeface="微软雅黑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pic>
        <p:nvPicPr>
          <p:cNvPr id="253" name="Picture 2" descr="G:\resource\unit4\jpg\talk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圆角矩形标注 5"/>
          <p:cNvSpPr/>
          <p:nvPr/>
        </p:nvSpPr>
        <p:spPr>
          <a:xfrm>
            <a:off x="76320" y="2971800"/>
            <a:ext cx="4649760" cy="914400"/>
          </a:xfrm>
          <a:prstGeom prst="wedgeRoundRectCallout">
            <a:avLst>
              <a:gd name="adj1" fmla="val 35398"/>
              <a:gd name="adj2" fmla="val 89939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 Black"/>
              </a:rPr>
              <a:t>And your pencil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 Black"/>
              </a:rPr>
              <a:t>It’ s under your boo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标注 7"/>
          <p:cNvSpPr/>
          <p:nvPr/>
        </p:nvSpPr>
        <p:spPr>
          <a:xfrm>
            <a:off x="5257800" y="2895480"/>
            <a:ext cx="2438280" cy="838440"/>
          </a:xfrm>
          <a:prstGeom prst="wedgeRoundRectCallout">
            <a:avLst>
              <a:gd name="adj1" fmla="val -40041"/>
              <a:gd name="adj2" fmla="val 115638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 Black"/>
              </a:rPr>
              <a:t>Silly  me ! 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294120" y="2819520"/>
            <a:ext cx="1831320" cy="82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0808"/>
                </a:solidFill>
                <a:latin typeface="Arial Black"/>
              </a:rPr>
              <a:t>It’ s 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左大括号 4"/>
          <p:cNvSpPr/>
          <p:nvPr/>
        </p:nvSpPr>
        <p:spPr>
          <a:xfrm>
            <a:off x="2400480" y="183672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5200 h 2971800"/>
              <a:gd name="textAreaBottom" fmla="*/ 27666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85"/>
                  <a:pt x="10800" y="4770"/>
                </a:cubicBezTo>
                <a:lnTo>
                  <a:pt x="10800" y="6030"/>
                </a:lnTo>
                <a:cubicBezTo>
                  <a:pt x="10800" y="8415"/>
                  <a:pt x="5400" y="10800"/>
                  <a:pt x="0" y="10800"/>
                </a:cubicBezTo>
                <a:cubicBezTo>
                  <a:pt x="5400" y="10800"/>
                  <a:pt x="10800" y="13185"/>
                  <a:pt x="10800" y="15570"/>
                </a:cubicBezTo>
                <a:lnTo>
                  <a:pt x="10800" y="16830"/>
                </a:lnTo>
                <a:cubicBezTo>
                  <a:pt x="10800" y="19215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191760" y="1760400"/>
            <a:ext cx="3840120" cy="82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in</a:t>
            </a:r>
            <a:r>
              <a:rPr b="0" lang="en-US" sz="4800" spc="-1" strike="noStrike">
                <a:solidFill>
                  <a:srgbClr val="080808"/>
                </a:solidFill>
                <a:latin typeface="Arial Black"/>
              </a:rPr>
              <a:t> your des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2819520" y="4046400"/>
            <a:ext cx="5981760" cy="82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under</a:t>
            </a:r>
            <a:r>
              <a:rPr b="0" lang="en-US" sz="4800" spc="-1" strike="noStrike">
                <a:solidFill>
                  <a:srgbClr val="080808"/>
                </a:solidFill>
                <a:latin typeface="Arial Black"/>
              </a:rPr>
              <a:t> your book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2819520" y="2903400"/>
            <a:ext cx="4343400" cy="82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 Black"/>
              </a:rPr>
              <a:t>on</a:t>
            </a:r>
            <a:r>
              <a:rPr b="0" lang="en-US" sz="4800" spc="-1" strike="noStrike">
                <a:solidFill>
                  <a:srgbClr val="080808"/>
                </a:solidFill>
                <a:latin typeface="Arial Black"/>
              </a:rPr>
              <a:t> the des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横卷形 9"/>
          <p:cNvSpPr/>
          <p:nvPr/>
        </p:nvSpPr>
        <p:spPr>
          <a:xfrm>
            <a:off x="1066680" y="228600"/>
            <a:ext cx="7086600" cy="1371600"/>
          </a:xfrm>
          <a:prstGeom prst="horizontalScroll">
            <a:avLst>
              <a:gd name="adj" fmla="val 12500"/>
            </a:avLst>
          </a:prstGeom>
          <a:solidFill>
            <a:srgbClr val="d37051"/>
          </a:solidFill>
          <a:ln w="25560">
            <a:solidFill>
              <a:srgbClr val="8f5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询问“</a:t>
            </a:r>
            <a:r>
              <a:rPr b="1" lang="zh-CN" sz="3200" spc="-1" strike="noStrike" u="sng">
                <a:solidFill>
                  <a:srgbClr val="4d4d4d"/>
                </a:solidFill>
                <a:uFillTx/>
                <a:latin typeface="隶书"/>
                <a:ea typeface="隶书"/>
              </a:rPr>
              <a:t>什么东西在哪里</a:t>
            </a: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”的表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Arial Black"/>
                <a:ea typeface="黑体"/>
              </a:rPr>
              <a:t>      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  <a:ea typeface="黑体"/>
              </a:rPr>
              <a:t>Where is ……</a:t>
            </a:r>
            <a:r>
              <a:rPr b="0" lang="zh-CN" sz="3200" spc="-1" strike="noStrike">
                <a:solidFill>
                  <a:srgbClr val="4d4d4d"/>
                </a:solidFill>
                <a:latin typeface="Arial Black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横卷形 10"/>
          <p:cNvSpPr/>
          <p:nvPr/>
        </p:nvSpPr>
        <p:spPr>
          <a:xfrm>
            <a:off x="990720" y="4952880"/>
            <a:ext cx="7543800" cy="1905120"/>
          </a:xfrm>
          <a:prstGeom prst="horizontalScroll">
            <a:avLst>
              <a:gd name="adj" fmla="val 12500"/>
            </a:avLst>
          </a:prstGeom>
          <a:solidFill>
            <a:srgbClr val="d37051"/>
          </a:solidFill>
          <a:ln w="25560">
            <a:solidFill>
              <a:srgbClr val="8f5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回答“</a:t>
            </a:r>
            <a:r>
              <a:rPr b="1" lang="zh-CN" sz="3200" spc="-1" strike="noStrike" u="sng">
                <a:solidFill>
                  <a:srgbClr val="4d4d4d"/>
                </a:solidFill>
                <a:uFillTx/>
                <a:latin typeface="隶书"/>
                <a:ea typeface="隶书"/>
              </a:rPr>
              <a:t>东西在哪个位置</a:t>
            </a:r>
            <a:r>
              <a:rPr b="1" lang="zh-CN" sz="3200" spc="-1" strike="noStrike">
                <a:solidFill>
                  <a:srgbClr val="4d4d4d"/>
                </a:solidFill>
                <a:latin typeface="隶书"/>
                <a:ea typeface="隶书"/>
              </a:rPr>
              <a:t>”可以这样表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Arial Black"/>
                <a:ea typeface="黑体"/>
              </a:rPr>
              <a:t>      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  <a:ea typeface="黑体"/>
              </a:rPr>
              <a:t>It’ s ……</a:t>
            </a:r>
            <a:r>
              <a:rPr b="0" lang="zh-CN" sz="3200" spc="-1" strike="noStrike">
                <a:solidFill>
                  <a:srgbClr val="4d4d4d"/>
                </a:solidFill>
                <a:latin typeface="Arial Black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波形 6"/>
          <p:cNvSpPr/>
          <p:nvPr/>
        </p:nvSpPr>
        <p:spPr>
          <a:xfrm>
            <a:off x="685800" y="609480"/>
            <a:ext cx="8001000" cy="1828800"/>
          </a:xfrm>
          <a:custGeom>
            <a:avLst/>
            <a:gdLst>
              <a:gd name="textAreaLeft" fmla="*/ 0 w 8001000"/>
              <a:gd name="textAreaRight" fmla="*/ 8001360 w 80010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e5b4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Franklin Gothic Book"/>
              </a:rPr>
              <a:t>物品归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椭圆形标注 7"/>
          <p:cNvGrpSpPr/>
          <p:nvPr/>
        </p:nvGrpSpPr>
        <p:grpSpPr>
          <a:xfrm>
            <a:off x="682560" y="2438280"/>
            <a:ext cx="4005360" cy="2676600"/>
            <a:chOff x="682560" y="2438280"/>
            <a:chExt cx="4005360" cy="2676600"/>
          </a:xfrm>
        </p:grpSpPr>
        <p:pic>
          <p:nvPicPr>
            <p:cNvPr id="265" name="椭圆形标注 7" descr=""/>
            <p:cNvPicPr/>
            <p:nvPr/>
          </p:nvPicPr>
          <p:blipFill>
            <a:blip r:embed="rId1"/>
            <a:stretch/>
          </p:blipFill>
          <p:spPr>
            <a:xfrm>
              <a:off x="682560" y="2438280"/>
              <a:ext cx="400536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1339920" y="2857320"/>
              <a:ext cx="2695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80808"/>
                  </a:solidFill>
                  <a:latin typeface="Arial Black"/>
                </a:rPr>
                <a:t>Are these yo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80808"/>
                  </a:solidFill>
                  <a:latin typeface="Arial Black"/>
                </a:rPr>
                <a:t>shorts</a:t>
              </a:r>
              <a:r>
                <a:rPr b="1" lang="en-US" sz="3200" spc="-1" strike="noStrike">
                  <a:solidFill>
                    <a:srgbClr val="080808"/>
                  </a:solidFill>
                  <a:latin typeface="Arial Black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椭圆形标注 8"/>
          <p:cNvGrpSpPr/>
          <p:nvPr/>
        </p:nvGrpSpPr>
        <p:grpSpPr>
          <a:xfrm>
            <a:off x="4705200" y="2494080"/>
            <a:ext cx="4005360" cy="2595600"/>
            <a:chOff x="4705200" y="2494080"/>
            <a:chExt cx="4005360" cy="2595600"/>
          </a:xfrm>
        </p:grpSpPr>
        <p:pic>
          <p:nvPicPr>
            <p:cNvPr id="268" name="椭圆形标注 8" descr=""/>
            <p:cNvPicPr/>
            <p:nvPr/>
          </p:nvPicPr>
          <p:blipFill>
            <a:blip r:embed="rId2"/>
            <a:stretch/>
          </p:blipFill>
          <p:spPr>
            <a:xfrm>
              <a:off x="4705200" y="2494080"/>
              <a:ext cx="400536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2"/>
            <p:cNvSpPr/>
            <p:nvPr/>
          </p:nvSpPr>
          <p:spPr>
            <a:xfrm>
              <a:off x="5357520" y="2914920"/>
              <a:ext cx="269568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80808"/>
                  </a:solidFill>
                  <a:latin typeface="Arial Black"/>
                </a:rPr>
                <a:t>Are they your trousers</a:t>
              </a:r>
              <a:r>
                <a:rPr b="1" lang="en-US" sz="3200" spc="-1" strike="noStrike">
                  <a:solidFill>
                    <a:srgbClr val="080808"/>
                  </a:solidFill>
                  <a:latin typeface="Arial Black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14"/>
          <p:cNvSpPr/>
          <p:nvPr/>
        </p:nvSpPr>
        <p:spPr>
          <a:xfrm>
            <a:off x="756360" y="4724280"/>
            <a:ext cx="303840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Arial Black"/>
              </a:rPr>
              <a:t>Yes, they are</a:t>
            </a:r>
            <a:r>
              <a:rPr b="0" lang="en-US" sz="3600" spc="-1" strike="noStrike">
                <a:solidFill>
                  <a:srgbClr val="cc00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5217120" y="4724280"/>
            <a:ext cx="347724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Arial Black"/>
              </a:rPr>
              <a:t>No, they aren't</a:t>
            </a:r>
            <a:r>
              <a:rPr b="0" lang="en-US" sz="3600" spc="-1" strike="noStrike">
                <a:solidFill>
                  <a:srgbClr val="cc00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11" descr="979799_m_979801_74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358920" y="646200"/>
            <a:ext cx="87850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Teacher: Hi, Anna. Are these your penci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Anna: No, they ’re Bob’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Teacher: And is this his green p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Anna: No, it isn’t. The blue pen is 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357120" y="13334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老师：安娜，你好。这些是你的铅笔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357120" y="241632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安娜：不，它们是鲍勃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357120" y="355932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老师：那这是他的绿色钢笔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7429680" y="3071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357120" y="4572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安娜：不，它不是。蓝色钢笔才是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142920" y="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Role-play the conver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9" descr="979799_m_979801_74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571680" y="142920"/>
            <a:ext cx="8286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Teacher: What about this dictiona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Anna: It’s Helen’s. And the green pen is 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hers</a:t>
            </a: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Teacher: And the eraser? Is that 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yours</a:t>
            </a: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Anna: Yes, i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571680" y="3416400"/>
            <a:ext cx="73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老师：那橡皮擦呢？那是你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2328480" y="4416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安娜：是的，它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571680" y="630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老师：这本词典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571680" y="22734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安娜：它是海伦的，绿色的钢笔也是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9" descr="979799_m_979801_74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500040" y="190440"/>
            <a:ext cx="8286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eacher: Thank you for your help, 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Anna: You’re wel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500040" y="128592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老师：安娜，谢谢你的帮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8"/>
          <p:cNvSpPr/>
          <p:nvPr/>
        </p:nvSpPr>
        <p:spPr>
          <a:xfrm>
            <a:off x="571680" y="24289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楷体"/>
                <a:ea typeface="楷体"/>
              </a:rPr>
              <a:t>安娜：不用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Times New Roman"/>
              </a:rPr>
              <a:t>Grammar Focus</a:t>
            </a:r>
            <a:endParaRPr b="1" lang="en-US" sz="54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42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d37051"/>
                </a:solidFill>
                <a:latin typeface="Times New Roman"/>
              </a:rPr>
              <a:t>Let’s see these sentences:</a:t>
            </a:r>
            <a:endParaRPr b="0" lang="en-US" sz="3600" spc="-1" strike="noStrike">
              <a:solidFill>
                <a:srgbClr val="b8650a"/>
              </a:solidFill>
              <a:latin typeface="幼圆"/>
            </a:endParaRPr>
          </a:p>
          <a:p>
            <a:pPr marL="3542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b8650a"/>
              </a:solidFill>
              <a:latin typeface="幼圆"/>
            </a:endParaRPr>
          </a:p>
          <a:p>
            <a:pPr marL="354240" indent="-354240" algn="just">
              <a:lnSpc>
                <a:spcPct val="9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b8650a"/>
                </a:solidFill>
                <a:latin typeface="Times New Roman"/>
              </a:rPr>
              <a:t>This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b8650a"/>
                </a:solidFill>
                <a:latin typeface="Times New Roman"/>
              </a:rPr>
              <a:t> a ruler.      (</a:t>
            </a:r>
            <a:r>
              <a:rPr b="0" lang="zh-CN" sz="4400" spc="-1" strike="noStrike">
                <a:solidFill>
                  <a:srgbClr val="b8650a"/>
                </a:solidFill>
                <a:latin typeface="Times New Roman"/>
                <a:ea typeface="楷体_GB2312"/>
              </a:rPr>
              <a:t>陈述句</a:t>
            </a:r>
            <a:r>
              <a:rPr b="0" lang="en-US" sz="4400" spc="-1" strike="noStrike">
                <a:solidFill>
                  <a:srgbClr val="b8650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b8650a"/>
              </a:solidFill>
              <a:latin typeface="幼圆"/>
            </a:endParaRPr>
          </a:p>
          <a:p>
            <a:pPr marL="3542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b8650a"/>
              </a:solidFill>
              <a:latin typeface="幼圆"/>
            </a:endParaRPr>
          </a:p>
          <a:p>
            <a:pPr marL="354240" indent="-354240" algn="just">
              <a:lnSpc>
                <a:spcPct val="9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b8650a"/>
                </a:solidFill>
                <a:latin typeface="Times New Roman"/>
              </a:rPr>
              <a:t> this a ruler?     (</a:t>
            </a:r>
            <a:r>
              <a:rPr b="0" lang="zh-CN" sz="4400" spc="-1" strike="noStrike">
                <a:solidFill>
                  <a:srgbClr val="b8650a"/>
                </a:solidFill>
                <a:latin typeface="Times New Roman"/>
                <a:ea typeface="楷体_GB2312"/>
              </a:rPr>
              <a:t>一般疑问句</a:t>
            </a:r>
            <a:r>
              <a:rPr b="0" lang="en-US" sz="4400" spc="-1" strike="noStrike">
                <a:solidFill>
                  <a:srgbClr val="b8650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b8650a"/>
              </a:solidFill>
              <a:latin typeface="幼圆"/>
            </a:endParaRPr>
          </a:p>
          <a:p>
            <a:pPr marL="354240" indent="-354240" algn="just">
              <a:lnSpc>
                <a:spcPct val="9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Yes</a:t>
            </a:r>
            <a:r>
              <a:rPr b="0" lang="en-US" sz="4400" spc="-1" strike="noStrike">
                <a:solidFill>
                  <a:srgbClr val="b8650a"/>
                </a:solidFill>
                <a:latin typeface="Times New Roman"/>
              </a:rPr>
              <a:t>, it is.                      (</a:t>
            </a:r>
            <a:r>
              <a:rPr b="0" lang="zh-CN" sz="4400" spc="-1" strike="noStrike">
                <a:solidFill>
                  <a:srgbClr val="b8650a"/>
                </a:solidFill>
                <a:latin typeface="Times New Roman"/>
                <a:ea typeface="楷体_GB2312"/>
              </a:rPr>
              <a:t>肯定回答</a:t>
            </a:r>
            <a:r>
              <a:rPr b="0" lang="en-US" sz="4400" spc="-1" strike="noStrike">
                <a:solidFill>
                  <a:srgbClr val="b8650a"/>
                </a:solidFill>
                <a:latin typeface="Times New Roman"/>
                <a:ea typeface="楷体_GB2312"/>
              </a:rPr>
              <a:t>)</a:t>
            </a:r>
            <a:endParaRPr b="0" lang="en-US" sz="4400" spc="-1" strike="noStrike">
              <a:solidFill>
                <a:srgbClr val="b8650a"/>
              </a:solidFill>
              <a:latin typeface="幼圆"/>
            </a:endParaRPr>
          </a:p>
          <a:p>
            <a:pPr marL="354240" indent="-354240" algn="just">
              <a:lnSpc>
                <a:spcPct val="9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4400" spc="-1" strike="noStrike">
                <a:solidFill>
                  <a:srgbClr val="b8650a"/>
                </a:solidFill>
                <a:latin typeface="Times New Roman"/>
              </a:rPr>
              <a:t>, it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is</a:t>
            </a:r>
            <a:r>
              <a:rPr b="0" lang="en-US" sz="4400" spc="-1" strike="noStrike" u="sng">
                <a:solidFill>
                  <a:srgbClr val="b8650a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t(=isn’t)</a:t>
            </a:r>
            <a:r>
              <a:rPr b="0" lang="en-US" sz="4400" spc="-1" strike="noStrike">
                <a:solidFill>
                  <a:srgbClr val="b8650a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b8650a"/>
                </a:solidFill>
                <a:latin typeface="Times New Roman"/>
              </a:rPr>
              <a:t>     (</a:t>
            </a:r>
            <a:r>
              <a:rPr b="0" lang="zh-CN" sz="4000" spc="-1" strike="noStrike">
                <a:solidFill>
                  <a:srgbClr val="b8650a"/>
                </a:solidFill>
                <a:latin typeface="Times New Roman"/>
                <a:ea typeface="楷体_GB2312"/>
              </a:rPr>
              <a:t>否定回答</a:t>
            </a:r>
            <a:r>
              <a:rPr b="0" lang="en-US" sz="4000" spc="-1" strike="noStrike">
                <a:solidFill>
                  <a:srgbClr val="b8650a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b8650a"/>
              </a:solidFill>
              <a:latin typeface="幼圆"/>
            </a:endParaRPr>
          </a:p>
          <a:p>
            <a:pPr marL="3542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b8650a"/>
              </a:solidFill>
              <a:latin typeface="幼圆"/>
            </a:endParaRPr>
          </a:p>
        </p:txBody>
      </p:sp>
      <p:sp>
        <p:nvSpPr>
          <p:cNvPr id="292" name=""/>
          <p:cNvSpPr/>
          <p:nvPr/>
        </p:nvSpPr>
        <p:spPr>
          <a:xfrm>
            <a:off x="1547640" y="3357720"/>
            <a:ext cx="3095640" cy="502920"/>
          </a:xfrm>
          <a:custGeom>
            <a:avLst/>
            <a:gdLst>
              <a:gd name="textAreaLeft" fmla="*/ 565560 w 3095640"/>
              <a:gd name="textAreaRight" fmla="*/ 2151360 w 3095640"/>
              <a:gd name="textAreaTop" fmla="*/ 67320 h 502920"/>
              <a:gd name="textAreaBottom" fmla="*/ 43560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93" hR="21600" stAng="10800000" swAng="-5400000"/>
                <a:lnTo>
                  <a:pt x="11065" y="21600"/>
                </a:lnTo>
                <a:arcTo wR="7893" hR="21600" stAng="5400000" swAng="-2756719"/>
                <a:lnTo>
                  <a:pt x="21149" y="7200"/>
                </a:lnTo>
                <a:lnTo>
                  <a:pt x="17372" y="0"/>
                </a:lnTo>
                <a:lnTo>
                  <a:pt x="12693" y="7200"/>
                </a:lnTo>
                <a:lnTo>
                  <a:pt x="15335" y="7200"/>
                </a:lnTo>
                <a:arcTo wR="7893" hR="21600" stAng="2643281" swAng="2499525"/>
                <a:lnTo>
                  <a:pt x="9479" y="21159"/>
                </a:lnTo>
                <a:arcTo wR="7893" hR="21600" stAng="5657194" swAng="5142806"/>
                <a:close/>
              </a:path>
              <a:path fill="darkenLess" w="21600" h="21600">
                <a:moveTo>
                  <a:pt x="0" y="0"/>
                </a:moveTo>
                <a:arcTo wR="7893" hR="21600" stAng="10800000" swAng="-5400000"/>
                <a:lnTo>
                  <a:pt x="11065" y="21600"/>
                </a:lnTo>
                <a:arcTo wR="7893" hR="21600" stAng="5400000" swAng="257194"/>
                <a:lnTo>
                  <a:pt x="9479" y="21159"/>
                </a:lnTo>
                <a:arcTo wR="7893" hR="21600" stAng="5657194" swAng="5142806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50920" y="1844640"/>
            <a:ext cx="889308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: Excuse me, is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is /that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37051"/>
                </a:solidFill>
                <a:latin typeface="Times New Roman"/>
              </a:rPr>
              <a:t>your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B: Yes, it is.</a:t>
            </a: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   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No, it isn’t. It’s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his/ her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(A: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Here you are.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给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B: Thank you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76360" y="189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37051"/>
                </a:solidFill>
                <a:latin typeface="Arial"/>
              </a:rPr>
              <a:t>Group work(</a:t>
            </a:r>
            <a:r>
              <a:rPr b="1" i="1" lang="zh-CN" sz="4000" spc="-1" strike="noStrike">
                <a:solidFill>
                  <a:srgbClr val="d37051"/>
                </a:solidFill>
                <a:latin typeface="Arial"/>
              </a:rPr>
              <a:t>四或六人一小组，寻问物品的主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50920" y="1844640"/>
            <a:ext cx="889308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A: Excuse me, is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is /that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d37051"/>
                </a:solidFill>
                <a:latin typeface="Times New Roman"/>
              </a:rPr>
              <a:t>your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B: Yes, it is.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No, it isn’t.  It’s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his/ her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A: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Here you are.(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给你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Arial"/>
              </a:rPr>
              <a:t>B: Thank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692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2d050"/>
                </a:solidFill>
                <a:latin typeface="Arial"/>
              </a:rPr>
              <a:t>Find the owner(</a:t>
            </a:r>
            <a:r>
              <a:rPr b="1" i="1" lang="zh-CN" sz="4000" spc="-1" strike="noStrike">
                <a:solidFill>
                  <a:srgbClr val="92d050"/>
                </a:solidFill>
                <a:latin typeface="Arial"/>
              </a:rPr>
              <a:t>寻找物品的主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371600"/>
            <a:ext cx="8686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3440" indent="-34344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1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、抄写单词（一行）</a:t>
            </a:r>
            <a:endParaRPr b="0" lang="en-US" sz="2800" spc="-1" strike="noStrike">
              <a:solidFill>
                <a:srgbClr val="b8650a"/>
              </a:solidFill>
              <a:latin typeface="幼圆"/>
            </a:endParaRPr>
          </a:p>
          <a:p>
            <a:pPr marL="343440" indent="-34344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in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（在</a:t>
            </a: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里面）</a:t>
            </a:r>
            <a:endParaRPr b="0" lang="en-US" sz="2800" spc="-1" strike="noStrike">
              <a:solidFill>
                <a:srgbClr val="b8650a"/>
              </a:solidFill>
              <a:latin typeface="幼圆"/>
            </a:endParaRPr>
          </a:p>
          <a:p>
            <a:pPr marL="343440" indent="-34344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on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 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（在</a:t>
            </a: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上面）</a:t>
            </a:r>
            <a:endParaRPr b="0" lang="en-US" sz="2800" spc="-1" strike="noStrike">
              <a:solidFill>
                <a:srgbClr val="b8650a"/>
              </a:solidFill>
              <a:latin typeface="幼圆"/>
            </a:endParaRPr>
          </a:p>
          <a:p>
            <a:pPr marL="343440" indent="-34344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under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 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（在</a:t>
            </a: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下面）</a:t>
            </a:r>
            <a:endParaRPr b="0" lang="en-US" sz="2800" spc="-1" strike="noStrike">
              <a:solidFill>
                <a:srgbClr val="b8650a"/>
              </a:solidFill>
              <a:latin typeface="幼圆"/>
            </a:endParaRPr>
          </a:p>
          <a:p>
            <a:pPr marL="343440" indent="-34344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ch</a:t>
            </a:r>
            <a:r>
              <a:rPr b="1" lang="en-US" sz="2800" spc="-1" strike="noStrike">
                <a:solidFill>
                  <a:srgbClr val="b8650a"/>
                </a:solidFill>
                <a:latin typeface="幼圆"/>
                <a:ea typeface="宋体"/>
              </a:rPr>
              <a:t>ɑ</a:t>
            </a: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ir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（椅子）</a:t>
            </a:r>
            <a:endParaRPr b="0" lang="en-US" sz="2800" spc="-1" strike="noStrike">
              <a:solidFill>
                <a:srgbClr val="b8650a"/>
              </a:solidFill>
              <a:latin typeface="幼圆"/>
            </a:endParaRPr>
          </a:p>
          <a:p>
            <a:pPr marL="343440" indent="-34344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desk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（书桌）</a:t>
            </a:r>
            <a:endParaRPr b="0" lang="en-US" sz="2800" spc="-1" strike="noStrike">
              <a:solidFill>
                <a:srgbClr val="b8650a"/>
              </a:solidFill>
              <a:latin typeface="幼圆"/>
            </a:endParaRPr>
          </a:p>
          <a:p>
            <a:pPr marL="343440" indent="-34344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b8650a"/>
              </a:solidFill>
              <a:latin typeface="幼圆"/>
            </a:endParaRPr>
          </a:p>
          <a:p>
            <a:pPr marL="343440" indent="-343440" algn="just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、抄写课本</a:t>
            </a: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Unit4 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的前面</a:t>
            </a:r>
            <a:r>
              <a:rPr b="1" lang="en-US" sz="2800" spc="-1" strike="noStrike">
                <a:solidFill>
                  <a:srgbClr val="b8650a"/>
                </a:solidFill>
                <a:latin typeface="Arial Black"/>
                <a:ea typeface="黑体"/>
              </a:rPr>
              <a:t>4</a:t>
            </a:r>
            <a:r>
              <a:rPr b="1" lang="zh-CN" sz="2800" spc="-1" strike="noStrike">
                <a:solidFill>
                  <a:srgbClr val="b8650a"/>
                </a:solidFill>
                <a:latin typeface="Arial Black"/>
                <a:ea typeface="黑体"/>
              </a:rPr>
              <a:t>个句子。</a:t>
            </a:r>
            <a:endParaRPr b="0" lang="en-US" sz="2800" spc="-1" strike="noStrike">
              <a:solidFill>
                <a:srgbClr val="b8650a"/>
              </a:solidFill>
              <a:latin typeface="幼圆"/>
            </a:endParaRPr>
          </a:p>
        </p:txBody>
      </p:sp>
      <p:grpSp>
        <p:nvGrpSpPr>
          <p:cNvPr id="298" name="八角星 3"/>
          <p:cNvGrpSpPr/>
          <p:nvPr/>
        </p:nvGrpSpPr>
        <p:grpSpPr>
          <a:xfrm>
            <a:off x="2066760" y="-34920"/>
            <a:ext cx="4699080" cy="1503360"/>
            <a:chOff x="2066760" y="-34920"/>
            <a:chExt cx="4699080" cy="1503360"/>
          </a:xfrm>
        </p:grpSpPr>
        <p:pic>
          <p:nvPicPr>
            <p:cNvPr id="299" name="八角星 3" descr=""/>
            <p:cNvPicPr/>
            <p:nvPr/>
          </p:nvPicPr>
          <p:blipFill>
            <a:blip r:embed="rId1"/>
            <a:stretch/>
          </p:blipFill>
          <p:spPr>
            <a:xfrm>
              <a:off x="2066760" y="-34920"/>
              <a:ext cx="4699080" cy="15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5"/>
            <p:cNvSpPr/>
            <p:nvPr/>
          </p:nvSpPr>
          <p:spPr>
            <a:xfrm>
              <a:off x="2835000" y="212400"/>
              <a:ext cx="316872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4d4d4d"/>
                  </a:solidFill>
                  <a:latin typeface="Franklin Gothic Book"/>
                  <a:ea typeface="黑体"/>
                </a:rPr>
                <a:t>作业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b8650a"/>
                </a:solidFill>
                <a:latin typeface="华文中宋"/>
              </a:rPr>
              <a:t>新单词  </a:t>
            </a:r>
            <a:r>
              <a:rPr b="1" lang="zh-CN" sz="3200" spc="-1" strike="noStrike">
                <a:solidFill>
                  <a:srgbClr val="b8650a"/>
                </a:solidFill>
                <a:latin typeface="华文中宋"/>
              </a:rPr>
              <a:t>not</a:t>
            </a: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b8650a"/>
                </a:solidFill>
                <a:latin typeface="幼圆"/>
              </a:rPr>
              <a:t>不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b8650a"/>
                </a:solidFill>
                <a:latin typeface="幼圆"/>
              </a:rPr>
              <a:t>You are not wrong.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b8650a"/>
                </a:solidFill>
                <a:latin typeface="幼圆"/>
              </a:rPr>
              <a:t>你没有错。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b8650a"/>
                </a:solidFill>
                <a:latin typeface="华文中宋"/>
              </a:rPr>
              <a:t>trouser</a:t>
            </a: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b8650a"/>
                </a:solidFill>
                <a:latin typeface="幼圆"/>
              </a:rPr>
              <a:t>长裤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b8650a"/>
                </a:solidFill>
                <a:latin typeface="幼圆"/>
              </a:rPr>
              <a:t>一般是复数。因为裤子有两条腿。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b8650a"/>
                </a:solidFill>
                <a:latin typeface="幼圆"/>
              </a:rPr>
              <a:t>trousers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630600" y="3062160"/>
            <a:ext cx="21430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b8650a"/>
                </a:solidFill>
                <a:latin typeface="华文中宋"/>
              </a:rPr>
              <a:t>bag</a:t>
            </a: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b8650a"/>
                </a:solidFill>
                <a:latin typeface="幼圆"/>
              </a:rPr>
              <a:t>包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-1459" t="0" r="0" b="2207"/>
          <a:stretch/>
        </p:blipFill>
        <p:spPr>
          <a:xfrm>
            <a:off x="3327480" y="2730600"/>
            <a:ext cx="24541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7840" y="214200"/>
            <a:ext cx="82152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b8650a"/>
                </a:solidFill>
                <a:latin typeface="华文中宋"/>
              </a:rPr>
              <a:t>shorts</a:t>
            </a:r>
            <a:endParaRPr b="1" lang="en-US" sz="3200" spc="-1" strike="noStrike">
              <a:solidFill>
                <a:srgbClr val="b8650a"/>
              </a:solidFill>
              <a:latin typeface="华文中宋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7840" y="11336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b8650a"/>
                </a:solidFill>
                <a:latin typeface="幼圆"/>
              </a:rPr>
              <a:t>短裤</a:t>
            </a: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-30" b="9858"/>
          <a:stretch/>
        </p:blipFill>
        <p:spPr>
          <a:xfrm>
            <a:off x="3005280" y="2319480"/>
            <a:ext cx="38592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波形 6"/>
          <p:cNvSpPr/>
          <p:nvPr/>
        </p:nvSpPr>
        <p:spPr>
          <a:xfrm>
            <a:off x="685800" y="609480"/>
            <a:ext cx="8001000" cy="1828800"/>
          </a:xfrm>
          <a:custGeom>
            <a:avLst/>
            <a:gdLst>
              <a:gd name="textAreaLeft" fmla="*/ 0 w 8001000"/>
              <a:gd name="textAreaRight" fmla="*/ 8001360 w 80010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e5b4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矩形 4" descr=""/>
          <p:cNvPicPr/>
          <p:nvPr/>
        </p:nvPicPr>
        <p:blipFill>
          <a:blip r:embed="rId1"/>
          <a:stretch/>
        </p:blipFill>
        <p:spPr>
          <a:xfrm>
            <a:off x="890640" y="493560"/>
            <a:ext cx="6991200" cy="2432160"/>
          </a:xfrm>
          <a:prstGeom prst="rect">
            <a:avLst/>
          </a:prstGeom>
          <a:ln w="0">
            <a:noFill/>
          </a:ln>
        </p:spPr>
      </p:pic>
      <p:grpSp>
        <p:nvGrpSpPr>
          <p:cNvPr id="225" name="椭圆形标注 7"/>
          <p:cNvGrpSpPr/>
          <p:nvPr/>
        </p:nvGrpSpPr>
        <p:grpSpPr>
          <a:xfrm>
            <a:off x="682560" y="2438280"/>
            <a:ext cx="4005360" cy="2676600"/>
            <a:chOff x="682560" y="2438280"/>
            <a:chExt cx="4005360" cy="2676600"/>
          </a:xfrm>
        </p:grpSpPr>
        <p:pic>
          <p:nvPicPr>
            <p:cNvPr id="226" name="椭圆形标注 7" descr=""/>
            <p:cNvPicPr/>
            <p:nvPr/>
          </p:nvPicPr>
          <p:blipFill>
            <a:blip r:embed="rId2"/>
            <a:stretch/>
          </p:blipFill>
          <p:spPr>
            <a:xfrm>
              <a:off x="682560" y="2438280"/>
              <a:ext cx="400536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9"/>
            <p:cNvSpPr/>
            <p:nvPr/>
          </p:nvSpPr>
          <p:spPr>
            <a:xfrm>
              <a:off x="1339920" y="2857320"/>
              <a:ext cx="2695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Arial Black"/>
                </a:rPr>
                <a:t>Where’ s my pencil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椭圆形标注 8"/>
          <p:cNvGrpSpPr/>
          <p:nvPr/>
        </p:nvGrpSpPr>
        <p:grpSpPr>
          <a:xfrm>
            <a:off x="4705200" y="2494080"/>
            <a:ext cx="4005360" cy="2595600"/>
            <a:chOff x="4705200" y="2494080"/>
            <a:chExt cx="4005360" cy="2595600"/>
          </a:xfrm>
        </p:grpSpPr>
        <p:pic>
          <p:nvPicPr>
            <p:cNvPr id="229" name="椭圆形标注 8" descr=""/>
            <p:cNvPicPr/>
            <p:nvPr/>
          </p:nvPicPr>
          <p:blipFill>
            <a:blip r:embed="rId3"/>
            <a:stretch/>
          </p:blipFill>
          <p:spPr>
            <a:xfrm>
              <a:off x="4705200" y="2494080"/>
              <a:ext cx="4005360" cy="25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2"/>
            <p:cNvSpPr/>
            <p:nvPr/>
          </p:nvSpPr>
          <p:spPr>
            <a:xfrm>
              <a:off x="5357520" y="2914920"/>
              <a:ext cx="269568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Arial Black"/>
                </a:rPr>
                <a:t>Where’ s my boo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4"/>
          <p:cNvSpPr/>
          <p:nvPr/>
        </p:nvSpPr>
        <p:spPr>
          <a:xfrm>
            <a:off x="733320" y="4724280"/>
            <a:ext cx="344196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 Black"/>
              </a:rPr>
              <a:t>It’s in my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293080" y="4724280"/>
            <a:ext cx="350460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 Black"/>
              </a:rPr>
              <a:t>It’ s in the des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G:\resource\unit4\jpg\Mainsc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圆角矩形标注 2"/>
          <p:cNvSpPr/>
          <p:nvPr/>
        </p:nvSpPr>
        <p:spPr>
          <a:xfrm>
            <a:off x="0" y="1752480"/>
            <a:ext cx="2895480" cy="609840"/>
          </a:xfrm>
          <a:prstGeom prst="wedgeRoundRectCallout">
            <a:avLst>
              <a:gd name="adj1" fmla="val -13486"/>
              <a:gd name="adj2" fmla="val 173958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 Black"/>
              </a:rPr>
              <a:t>Where is my ca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圆角矩形标注 3"/>
          <p:cNvSpPr/>
          <p:nvPr/>
        </p:nvSpPr>
        <p:spPr>
          <a:xfrm>
            <a:off x="2971800" y="1752480"/>
            <a:ext cx="2743200" cy="609840"/>
          </a:xfrm>
          <a:prstGeom prst="wedgeRoundRectCallout">
            <a:avLst>
              <a:gd name="adj1" fmla="val -46847"/>
              <a:gd name="adj2" fmla="val 110060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 Black"/>
              </a:rPr>
              <a:t>Is it in the de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圆角矩形标注 4"/>
          <p:cNvSpPr/>
          <p:nvPr/>
        </p:nvSpPr>
        <p:spPr>
          <a:xfrm>
            <a:off x="609480" y="4495680"/>
            <a:ext cx="762120" cy="609840"/>
          </a:xfrm>
          <a:prstGeom prst="wedgeRoundRectCallout">
            <a:avLst>
              <a:gd name="adj1" fmla="val -33435"/>
              <a:gd name="adj2" fmla="val -105791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 Black"/>
              </a:rPr>
              <a:t>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标注 6"/>
          <p:cNvSpPr/>
          <p:nvPr/>
        </p:nvSpPr>
        <p:spPr>
          <a:xfrm>
            <a:off x="5791320" y="1523880"/>
            <a:ext cx="2895480" cy="685800"/>
          </a:xfrm>
          <a:prstGeom prst="wedgeRoundRectCallout">
            <a:avLst>
              <a:gd name="adj1" fmla="val -50930"/>
              <a:gd name="adj2" fmla="val 124768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 Black"/>
              </a:rPr>
              <a:t>Where is my ma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标注 7"/>
          <p:cNvSpPr/>
          <p:nvPr/>
        </p:nvSpPr>
        <p:spPr>
          <a:xfrm>
            <a:off x="6400800" y="2438280"/>
            <a:ext cx="2743200" cy="685800"/>
          </a:xfrm>
          <a:prstGeom prst="wedgeRoundRectCallout">
            <a:avLst>
              <a:gd name="adj1" fmla="val -18402"/>
              <a:gd name="adj2" fmla="val 98842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 Black"/>
              </a:rPr>
              <a:t>Is it on the des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圆角矩形标注 8"/>
          <p:cNvSpPr/>
          <p:nvPr/>
        </p:nvSpPr>
        <p:spPr>
          <a:xfrm>
            <a:off x="7010280" y="4495680"/>
            <a:ext cx="2133720" cy="609840"/>
          </a:xfrm>
          <a:prstGeom prst="wedgeRoundRectCallout">
            <a:avLst>
              <a:gd name="adj1" fmla="val 11222"/>
              <a:gd name="adj2" fmla="val -111277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 Black"/>
              </a:rPr>
              <a:t>Good guess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pic>
        <p:nvPicPr>
          <p:cNvPr id="242" name="Picture 4" descr="G:\resource\unit4\jpg\talk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圆角矩形标注 4"/>
          <p:cNvSpPr/>
          <p:nvPr/>
        </p:nvSpPr>
        <p:spPr>
          <a:xfrm>
            <a:off x="1066680" y="1523880"/>
            <a:ext cx="2971800" cy="609840"/>
          </a:xfrm>
          <a:prstGeom prst="wedgeRoundRectCallout">
            <a:avLst>
              <a:gd name="adj1" fmla="val 36074"/>
              <a:gd name="adj2" fmla="val 128356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 Black"/>
              </a:rPr>
              <a:t>Let’ s go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标注 5"/>
          <p:cNvSpPr/>
          <p:nvPr/>
        </p:nvSpPr>
        <p:spPr>
          <a:xfrm>
            <a:off x="4419720" y="1676520"/>
            <a:ext cx="1218960" cy="609480"/>
          </a:xfrm>
          <a:prstGeom prst="wedgeRoundRectCallout">
            <a:avLst>
              <a:gd name="adj1" fmla="val 35162"/>
              <a:gd name="adj2" fmla="val 110064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 Black"/>
              </a:rPr>
              <a:t>O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标注 6"/>
          <p:cNvSpPr/>
          <p:nvPr/>
        </p:nvSpPr>
        <p:spPr>
          <a:xfrm>
            <a:off x="5943600" y="1295280"/>
            <a:ext cx="3191040" cy="1143000"/>
          </a:xfrm>
          <a:prstGeom prst="wedgeRoundRectCallout">
            <a:avLst>
              <a:gd name="adj1" fmla="val -52138"/>
              <a:gd name="adj2" fmla="val 74583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 Black"/>
              </a:rPr>
              <a:t>Uh-oh ! Where is my pencil box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b8650a"/>
              </a:solidFill>
              <a:latin typeface="华文中宋"/>
              <a:ea typeface="微软雅黑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650a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b8650a"/>
              </a:solidFill>
              <a:latin typeface="幼圆"/>
            </a:endParaRPr>
          </a:p>
        </p:txBody>
      </p:sp>
      <p:pic>
        <p:nvPicPr>
          <p:cNvPr id="248" name="Picture 2" descr="G:\resource\unit4\jpg\talk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圆角矩形标注 4"/>
          <p:cNvSpPr/>
          <p:nvPr/>
        </p:nvSpPr>
        <p:spPr>
          <a:xfrm>
            <a:off x="228600" y="762120"/>
            <a:ext cx="2743200" cy="914400"/>
          </a:xfrm>
          <a:prstGeom prst="wedgeRoundRectCallout">
            <a:avLst>
              <a:gd name="adj1" fmla="val 36888"/>
              <a:gd name="adj2" fmla="val 88722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 Black"/>
              </a:rPr>
              <a:t>Look ! It’ s in your de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标注 5"/>
          <p:cNvSpPr/>
          <p:nvPr/>
        </p:nvSpPr>
        <p:spPr>
          <a:xfrm>
            <a:off x="5943600" y="1752480"/>
            <a:ext cx="1752480" cy="609840"/>
          </a:xfrm>
          <a:prstGeom prst="wedgeRoundRectCallout">
            <a:avLst>
              <a:gd name="adj1" fmla="val -1425"/>
              <a:gd name="adj2" fmla="val 99087"/>
              <a:gd name="adj3" fmla="val 16667"/>
            </a:avLst>
          </a:prstGeom>
          <a:solidFill>
            <a:srgbClr val="00b05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 Black"/>
              </a:rPr>
              <a:t>Oh, y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/>
  <dcterms:modified xsi:type="dcterms:W3CDTF">2015-06-27T10:33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